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AEE-C8F2-4FEC-8E32-D65A5EA5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E5C-2AF1-430B-ABE9-B979636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8C4-1CA1-4F74-A02F-DE63F2E3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1D4-1BF9-46E9-B0E5-4E0438EB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B95-65DC-4965-9F8D-928675F8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43C-0507-4BF1-9EEC-42F02261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A5BE-9873-47F0-B8C1-6BDBF2EA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80D7-958A-4570-9502-8D537EB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E74D-22E9-4C4D-AEA4-2A61A16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0935-642F-4517-8D3A-BF21C31B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1E4-FF3B-4703-BA44-AE9627C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547-B8C9-413A-85A1-01707FD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97D6-0AF6-4109-B3FF-1411F0AC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96E5-6D29-411A-91D4-717405EB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A74F-3591-43B4-910E-73E1DD2E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D29C-67F9-4476-926B-6F4C1174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EFC0-6E3D-4EC1-BD1E-BF816189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3DA-B903-4AE3-BDCA-5E97046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E93-B643-4399-8E2B-E02795B2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C3F-1906-443C-A03B-2BC6038F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181-043A-416C-B0CB-DC1AEE2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DAD-7F94-4A21-8F3B-E8AFA43B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BFC-271E-47CD-BFED-650ABE6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9C5-9EBB-4258-B207-26D3ABD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8E7-59CB-4B7F-919C-8F4CD2881D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FC4B-29A3-4B4F-9139-4F5BC009A1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980640"/>
            <a:ext cx="69231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«</a:t>
            </a: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357440"/>
            <a:ext cx="685800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йте ситуацию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щряйте упорство ребенка в достижении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равнивайте его умения с умениями други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алите и демонстрируйте его достижения перед другим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лассного руководителя к учащим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Е заполнение днев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РЕМЯ приходить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ПАЗДЫВАТЬ на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ПУСКАТЬ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 быть ГОТОВЫМ к каждому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нная обув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ьная фор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учащимися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уговые классные часы «День именинни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й час «Правонарушения и ребен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ый классный час по здоровьесбере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 с героями-афганцами, воинами чеченской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в картинную галерею, районную библиот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нолекторий в МЦ «Бригантина» по вредным привыч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я по Ярославлю или Ярославскому к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щешкольные мероприят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енний празд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БИЛЕ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ел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ма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годние ё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родителями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 «Наши трудные дети», ноябр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ьские вечера с детьми (1-2 раза в г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кет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692360" y="2492280"/>
            <a:ext cx="6551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 родительского собр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тоги за прошлый …. учебный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ашнее задание и его роль в самообразовании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воспитательной работы 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олуго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.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учебного года – 26 чел., к концу года – 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учащиеся переведены в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авнении с успеваемостью в начальной шко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ащихся имеют стабильную успе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спеваемость повысилась (…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низила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1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рошис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)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тличн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дение успеваем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условлена факто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груженность учебной программы 5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й преемственностью учебных предметов, а также общеучебных умений, навыков и способ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тоги за прошлый …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шла хорош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с желанием идут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вовали в общественной жизни школы и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ли с учителями общий язык; ребята не грубые, воспита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етей устойчивое хороше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еваемость на уровне 4 класса или чуть ни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ь учебной деятельности учащихся в …. учебном году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ь самостоятельное образование путем участия в проектных и исследовательских рабо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ать успеваемость на уровне 6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132000" y="3933720"/>
            <a:ext cx="2016360" cy="201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48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сли наши дети хотят быть людьми на самом деле образованными, они должны приобретать образование самостоятельными заняти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ункции домашнего зад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внивание знаний и умений ребенка, его навыков в том случае, если он долго болел и много пропустил или не усвоил сложную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ние познавательного интереса учащихся, желание знать как можно больше по предмету или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амостоятельности ученика, его усидчивости и ответственности за выполняемое учеб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я помочь, не пытайтесь сделать работу за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ИТЕ ему найти смысл задания, НАПРАВЬТЕ его на нужное решение, помогите найти нужную информацию, не отмахивайтесь от вопросов, НАУЧИТЕ как можно работать с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легчить своему ребенку выполнение домашних заданий, покупайте ему словари, энциклопедии, справочные пособия, справочники на информационных носите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55:25Z</dcterms:created>
  <dc:creator>Ученик</dc:creator>
  <dc:description/>
  <dc:language>en-US</dc:language>
  <cp:lastModifiedBy>User</cp:lastModifiedBy>
  <dcterms:modified xsi:type="dcterms:W3CDTF">2018-02-03T15:30:09Z</dcterms:modified>
  <cp:revision>8</cp:revision>
  <dc:subject/>
  <dc:title>Родительское собрание</dc:title>
</cp:coreProperties>
</file>