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F0B8-F3AA-45E5-AE40-4E357C4A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2DFD-067B-458B-8E0E-FACB1E5C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996C-73A1-4ABB-B19A-A64AD930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9919-848E-4225-9E86-5B13D3BF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A85-4E9F-4F00-BC44-4F69021D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1743-657C-4D30-A411-8B00FBDB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4D0-6C6D-406A-8809-42DD917E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845D-76C6-4739-9EAD-DF0617E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F24C-77CE-4973-8855-FCCF47C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EE41-3DB8-40F3-8DFC-A210D87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42C-0AFE-47CA-9983-0A7B2D32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5ED7-1022-419C-95B4-C338A2E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690-A68B-4528-86D9-021F8CC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EF6-2BA5-4766-BBCF-5136E7A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CDE0-0536-441C-BE44-714ADDDF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D4DC-EC2A-4D30-B9E9-AA500445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1617-3B19-481C-ADFB-96DE732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7357-4387-43D2-AED8-05056F7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B70D-F9F3-488D-BE3E-5057C32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1F84-D45F-43BD-B728-F3BF70C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365D-6608-4605-BEE0-88C4DD60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15B2-F78E-4E62-9EE8-9D6A05D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1F23-BCAF-402C-AFD0-819D197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A66C-CFFE-4A95-B59A-7EF7395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3EAB-70DF-43E3-8EAC-D3BEC88E51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FB0-4620-4371-A358-9E07E4AE9C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Эпоха Петра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56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1ф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енкова Анаста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ы Петра  в области армии и у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л регулярную армию на основе рекрутского набора и военный ф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16 г.  Воинский устав стал определять   права и обязанности всех чинов армии и ф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20 г. был написан Морской у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22 г. издан Табель о рангах всех воинских, статских и придворных служебных чинов, по которой родовое дворянство можно было получить «за беспорочную службу императору и государству». Устанавливая порядок чинопроизводства в военной и гражданской службе не по знатности, а по личным способностям и заслу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ом о единонаследии 1714 г.  уравнивались поместья и вотчины, вводился майорат (предоставление права наследования недвижимости старшему из сынов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11 г. Создан Сенат, ведавший отныне законодательством и делам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18-1720 гг. -исполнительными учреждениями нового типа стали– колл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21 г. - учреждение подконтрольной правительству Духовной коллегии, или Си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ная ,городская рефор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и изменения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08–1710гг. - проведена областная реформа, разделившая страну на 8 губерний во главе с губернаторами и генерал-губернаторами, губернии были поделены на провинции, провинции на уез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20 г -реформа городского управления. Были созданы по европейскому образцу Главный магистрат в столице (на правах коллегии) и магистраты в городах. Все они были призваны «размножать» торговлю и мануфактур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24 год -подворное обложение крестьян заменила подушная по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ы о строительстве железоделательных заводов и мануфактур, оружейных предприятий в Карелии и на Урале (в Олонецком крае), в Липецке, добыче цветных металлов (меди, сереб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политик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текционизм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ной на подержание отечественного производства путем ограничения ввоза товаров 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ркантилизм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ражавшаяся в государственном вмешательстве в хозяйственную жизнь страны и преобладании вывоза товаров из страны над возом с целью концентрации денежных средств внутри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ы в области культуры и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отправлять молодых дворян за границу дл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л новые учебные заведения: навигацкую школу (1701), Медико-хирургическое училище (1707) – будущая Военно-медицинская академия, существующая до сих пор, Морская академия (1715), Инженерная и Артиллерийская школы (1719), школы переводчиков при коллег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19 г. начал действовать первый в русской истории музей – Кунсткамера с публичной библиоте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ались буквари, учебные карты и вообще было положено начало систематическому изучению географии страны и картограф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08 г. реформа алфавита (замена скорописи гражданским шрифтом) содействовала распространению грамо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703 г.  - выход первой русской печатной газеты «Ведом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поху Петра I было возведено много зданий для государственных и культурных учреждений, архитектурный ансамбль Петергофа (Петродворца). Строились крепости (Кронштадт, Петропавловская крепость и др.), началась плановая застройка столицы (Петербург), положившая начало градостроительному 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реформ Петра Вели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стала империей и получила выход в Балтийск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л регулярную армию и ф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л развитию промышленности и 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одилась отечественная наука и оформилась систем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лась новая художественная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я в быту способствовали  приобщению к европей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4276800" cy="444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0" y="836640"/>
            <a:ext cx="30114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о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82-17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ющийся государственный деятель, полководец и дипломат, вся деятельность связана с радикальными преобразованиями и реформами, направленными на устранение отставания России от европейских стран в начале 18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тво П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18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 получил домашнее образование под надзором «дядьки» Никиты Зотова. Тот сетовал, что царевич к 11 годам не слишком успевал в грамоте, истории и географии, захваченный «экзерцициями солдатского строя» – военными «потехами» вначале в с.Воробьеве, затем в с. Преображенском. В этих экзерцициях будущего царя участвовали специально созданные отряды «потешных войск» (ставшие впоследствии гвардией и ядром русской регулярной арм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 крепкий, подвижный, любознательный, Петр освоил при участии дворцовых мастеров столярное, оружейное, кузнечное, часовое, типографское реме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формирование его интересов оказали иностранцы (Ф.Я.Лефорт, Я.В.Брюс, П.И.Гордон) – вначале учителя в разных областях, а в дальнейшем – и его сподвиж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 с детства знал немецкий, позже изучил голландский, отчасти английский и французский язы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311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р и его «кумп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Меншиков, стал его другом и опорой на вс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 научился ценить не знатность и родовитость, а способности человека, его смекалку и преданность делу. Под руководством голландца Ф.Тиммермана и русского мастера Р.Карцева учился в 1680-х кораблестроительству, в 1684 совершал плавания на своем ботике по Я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7928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185280" y="59691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офан Прокоп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Си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000320"/>
            <a:ext cx="403848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Пет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 лично участвовал в Азовских походах против Турции (1695–1696), завершившихся взятием Азова и выходом на берега Азовск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идом изучения кораблестроения и морского дела ездил одним из 30 волонтеров при Великом посольстве 1697–1698 в Европу. Там Петр Михайлов, как царь себя называл, прошел полный курс артиллерийских наук в Кенигсберге и Бранденбурге, полгода работал плотником на верфях Амстердама, изучая корабельную архитектуру и черчение планов, окончил теоретический курс кораблестроения в Анг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Великое посольство подготовило создание Северного союза против Швеции, окончательно оформившегося два года спустя (169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ив Константинопольский мир 1700 с Турцией, Петр переключил все усилия страны на борьбу со Швецией, которой правил 17-летний Карл XII, снискавший, несмотря на молодость, репутацию талантливого полковод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ая война 1700-17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 I объявил войну Швеции и в конце августа осадил Нарву. Кар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(29) ноября нанес сокрушительное поражение русской армии под Нарвой, несмотря на ее трехкратное численное превосходство. Думая, что русская армия разбита, шведский король отправился в Речь Посполит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ользовавшись тем, что Карл XII «увяз», по выражению Петра I, в Польше, русские развернули активные наступательные действия на Балтийском побереж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69640" y="58975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ие шведами Нар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тябре 1702 русские взяли Нотебург (Шлиссельбург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преле 1703г. - Ниеншанц в устье Невы, где в мае был заложен Петербур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03 г. захватили Копорье и Ямбур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04 – Дерпт (совр. Тарту) и Нар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вгусте 1708 г. Карл XII двинулся на Украину, рассчитывая на помощь изменившего Петру I гетмана И.С.Мазе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1942920" cy="2030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580000" y="55832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жение за креп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е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тавское сражение 27 июня 170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79280" y="1981080"/>
            <a:ext cx="3529080" cy="3463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280" y="1341000"/>
            <a:ext cx="4691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апреля 1709 Кар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дил Полтаву, которую отчаянно защищал отряд И.С.Келина. В июне к городу подошли главные силы русской армии во главе с Петром I. В состоявшейся 27 июня (8 июля) Полтавской битве Карл XII потерпел сокрушительное поражение, потеряв более 9 тыс. убитыми и 3 тыс. пленными. 30 июня (11 июля) А.Д.Меншиков вынудил остатки шведской армии (16 тыс.) под командованием А.Д.Левенгаупта капитулировать у Переволочной на Днепре; Карлу XII удалось бежать в Османскую Импер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тавская битва подорвала военное могущество Швеции и ознаменовала решающий перелом в вой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ды русского фло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Завершение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 июля (7 августа) 1714 года  молодой русский флот одержал свою первую морскую победу при Гангуте (Ханко) и занял Аландские остро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 июля (7 августа) 1720 у острова Гренгам шведский флот был разгром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ция заключила 30 августа (10 сентября) 1721 Ништадтский мир с Россией, уступив ей Эстляндию, Лифляндию, Ингрию и западную Карелию, но сохранив за собой Финлянд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Северной войны Россия получила выход к Балтийскому морю, решив одну из своих главных исторических задач; было покончено с господством шведов на Балтике. Россия стала важной силой в европейской политике, тогда как Швеция утратила статус великой державы; серьезно ослабли и внешнеполитические позиции Речи Посполит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3:13:10Z</dcterms:created>
  <dc:creator>Оксана</dc:creator>
  <dc:description/>
  <dc:language>en-US</dc:language>
  <cp:lastModifiedBy>ПКПК</cp:lastModifiedBy>
  <dcterms:modified xsi:type="dcterms:W3CDTF">2018-02-03T12:19:04Z</dcterms:modified>
  <cp:revision>18</cp:revision>
  <dc:subject/>
  <dc:title>Эпоха Петра I</dc:title>
</cp:coreProperties>
</file>