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A7AB-0924-436D-B55C-7EF7D8AE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F178-9498-40A8-AB3B-2FEA5232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F99C-067A-4875-8E44-390C6D04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2BAE-9616-4440-BCBE-98EAEB4B7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A421-A2C0-44EA-90CA-F1CE4252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FF37-5B26-4CBA-922B-35E303E9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91F3-B606-49D7-A409-F1DB4DCA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8F94-C84D-4D25-A63F-8F72514F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4446-175E-4193-86EF-DFC49166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4226-8FBB-4655-9837-C0A20BFB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0680-FEFD-4641-AD38-C7DEC349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E344-477F-4048-A0AD-013BD238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83E6-0F5D-414D-BF7B-B2A53C54672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Федор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Васильевич 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Чижов 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ирода рождает людей, жизнь их хоронит, а история воскрешает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.О. Ключевски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ление железных дорог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ление Московского купеческого ба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говоры об образовании акционерного общества Киево-Брестской железной дорог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чет рентабельности Костромской ветки Ярославской железной дорог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Ташкентского акционерного шелкомотального обществ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исание устава сельского банка Полтавской губерни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836280"/>
            <a:ext cx="40384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успев довершить многое из задуманного, Чижов умер 14 ноября 1877 года за своим рабочим столом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492360" y="3122640"/>
            <a:ext cx="5405400" cy="3519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сь свой основной капитал в акциях Курской железной дороги, составивший по их реализации в 1889 году 6 миллионов рублей, Чижов завещал на строительство и содержание пяти профессионально-технических учебных заведений на своей родине, в Костромской губернии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892 год - Макарьевское ремесленное училище в г.Макарьеве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огривское сельско-хозяйственно-техническое училище в имении Якимцево в Кологривском районе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894 год –химико-техническое училище в Костроме (низшее училище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896 год – Чухломское сельско-хозяйственно-ремесленное училище в имении Анфомово Чухломского района  1897 год –механико-техническое училище в Костроме (среднее училище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977240" cy="518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карьевское училищ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710480" cy="460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832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я славного земляка возвращено Костромскому химико-механическому техникуму, с 1927 года носившему имя Л.Б.Красина. При техникуме создан музей, отражающий его историю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Picture 2" descr="C:\Users\admin\Desktop\по Чижову\фото\ket1.jpg"/>
          <p:cNvPicPr/>
          <p:nvPr/>
        </p:nvPicPr>
        <p:blipFill>
          <a:blip r:embed="rId1"/>
          <a:stretch/>
        </p:blipFill>
        <p:spPr>
          <a:xfrm>
            <a:off x="0" y="3328920"/>
            <a:ext cx="4703760" cy="352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Picture 2" descr="C:\Users\admin\Desktop\по Чижову\фото\karta.jpg"/>
          <p:cNvPicPr/>
          <p:nvPr/>
        </p:nvPicPr>
        <p:blipFill>
          <a:blip r:embed="rId1"/>
          <a:stretch/>
        </p:blipFill>
        <p:spPr>
          <a:xfrm>
            <a:off x="4716360" y="2349360"/>
            <a:ext cx="4103640" cy="378324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3"/>
          <p:cNvSpPr/>
          <p:nvPr/>
        </p:nvSpPr>
        <p:spPr>
          <a:xfrm>
            <a:off x="468360" y="549360"/>
            <a:ext cx="748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здании Чижовского училища в Анфимове, недалеко от Чухломы, открыта памятная доска, рассказывающая о его основател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3" descr="C:\Users\admin\Desktop\по Чижову\фото\IMGP01.jpg"/>
          <p:cNvPicPr/>
          <p:nvPr/>
        </p:nvPicPr>
        <p:blipFill>
          <a:blip r:embed="rId2"/>
          <a:stretch/>
        </p:blipFill>
        <p:spPr>
          <a:xfrm>
            <a:off x="324000" y="3500280"/>
            <a:ext cx="4140000" cy="3105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219280" y="1125000"/>
            <a:ext cx="3467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ростная электричк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"Федор Чижов"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Picture 2" descr="C:\Users\admin\Desktop\чижов.jpg"/>
          <p:cNvPicPr/>
          <p:nvPr/>
        </p:nvPicPr>
        <p:blipFill>
          <a:blip r:embed="rId1"/>
          <a:stretch/>
        </p:blipFill>
        <p:spPr>
          <a:xfrm>
            <a:off x="0" y="0"/>
            <a:ext cx="5505480" cy="3860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Users\admin\Desktop\0000kwfk.jpg"/>
          <p:cNvPicPr/>
          <p:nvPr/>
        </p:nvPicPr>
        <p:blipFill>
          <a:blip r:embed="rId2"/>
          <a:stretch/>
        </p:blipFill>
        <p:spPr>
          <a:xfrm>
            <a:off x="3995640" y="2997360"/>
            <a:ext cx="5148360" cy="3860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годня мы крайне нуждаемся в таких бескорыстных деятелях, людях долга и чести, каким был Чижов, радевший не о собственной выгоде, а об укреплении мощи, процветании, пользе и славе отечеств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11 марта 2011 год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00 лет со дня рождения Ф.В.Чижова - выдающейся личности в истории России XIX века – талантливого публициста, ученого-математика, искусствоведа, крупного промышленника, финансиста, благотворителя.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.В.Чижов родился в Костроме 27 февраля (11 марта по новому стилю) 1811 год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клад в семье был патриархальным, дети воспитывались в строгости и почитании родителей, на примерах христианских добродетелей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823 году Василий Васильевич Чижов выхлопотал себе место в Петербурге. Отец взял с собой и сына. Образование, начатое в Костроме, двенадцатилетний Федя продолжил в Третьей петербургской гимнази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62028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тербургский университет физико-математический факульте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подавание в университете в качестве профессор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836 год – защита диссертации, степень магистра философии по отделу физико-математических наук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2" descr="C:\Users\admin\Desktop\по Чижову\фото\m_24061.jpg"/>
          <p:cNvPicPr/>
          <p:nvPr/>
        </p:nvPicPr>
        <p:blipFill>
          <a:blip r:embed="rId1"/>
          <a:stretch/>
        </p:blipFill>
        <p:spPr>
          <a:xfrm>
            <a:off x="395280" y="1557360"/>
            <a:ext cx="4025880" cy="447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нимается словесностью, историей, философией, политико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шет стихи, публикует в столичных журналах статьи, переводы книг из области математики, механики, литературы, эстетики и морали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841 год – поездка заграницу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рмания, Бельгия, Австрия, Швейцария, Голландия, Франция, Италия –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ршрут путешестви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им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ощь А.А.Иванову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треча с Н.В.Гоголем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рногория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ощь церкв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2" descr="C:\Users\admin\Desktop\по Чижову\фото\__1_~1.JPG"/>
          <p:cNvPicPr/>
          <p:nvPr/>
        </p:nvPicPr>
        <p:blipFill>
          <a:blip r:embed="rId1"/>
          <a:stretch/>
        </p:blipFill>
        <p:spPr>
          <a:xfrm>
            <a:off x="6156360" y="3284640"/>
            <a:ext cx="2720880" cy="3341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847 год – арест Чижова и ссылка на Украину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влечение шелководством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853 год – издание книги «Письма о шелководстве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857 год – переезд в Москву, редактор-издатель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2" descr="C:\Users\admin\Desktop\по Чижову\фото\chizhov.jpg"/>
          <p:cNvPicPr/>
          <p:nvPr/>
        </p:nvPicPr>
        <p:blipFill>
          <a:blip r:embed="rId1"/>
          <a:stretch/>
        </p:blipFill>
        <p:spPr>
          <a:xfrm>
            <a:off x="1033560" y="1600200"/>
            <a:ext cx="2886120" cy="452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862 год – при содействии Чижова открывается железная дорога от Москвы до Троице-Сергиева Посад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5" descr="C:\Users\admin\Desktop\2.jpg"/>
          <p:cNvPicPr/>
          <p:nvPr/>
        </p:nvPicPr>
        <p:blipFill>
          <a:blip r:embed="rId1"/>
          <a:stretch/>
        </p:blipFill>
        <p:spPr>
          <a:xfrm>
            <a:off x="2700360" y="3222720"/>
            <a:ext cx="6443640" cy="3635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866 год – открытие Московского купеческого банк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ижов – председатель правления банк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C:\Users\admin\Desktop\по Чижову\фото\2467.jpg"/>
          <p:cNvPicPr/>
          <p:nvPr/>
        </p:nvPicPr>
        <p:blipFill>
          <a:blip r:embed="rId1"/>
          <a:stretch/>
        </p:blipFill>
        <p:spPr>
          <a:xfrm>
            <a:off x="5038560" y="1600200"/>
            <a:ext cx="3257640" cy="452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1:10:12Z</dcterms:created>
  <dc:creator>admin</dc:creator>
  <dc:description/>
  <dc:language>en-US</dc:language>
  <cp:lastModifiedBy>admin</cp:lastModifiedBy>
  <dcterms:modified xsi:type="dcterms:W3CDTF">2011-03-11T18:27:29Z</dcterms:modified>
  <cp:revision>15</cp:revision>
  <dc:subject/>
  <dc:title>Жил такой  человек…</dc:title>
</cp:coreProperties>
</file>