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2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7.png" ContentType="image/pn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4.png" ContentType="image/png"/>
  <Override PartName="/ppt/media/image34.png" ContentType="image/png"/>
  <Override PartName="/ppt/media/image10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16.png" ContentType="image/png"/>
  <Override PartName="/ppt/media/image23.gif" ContentType="image/gif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4.png" ContentType="image/png"/>
  <Override PartName="/ppt/media/image5.jpeg" ContentType="image/jpeg"/>
  <Override PartName="/ppt/media/image15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D32-1C39-47CD-8FDC-21954907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3E3-A0BC-4E50-9868-5D55D958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0F1-DBA6-4A42-B451-AEC2D776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107-1552-4D82-AE99-51C47F9C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0D9-6F37-43AD-8D1F-F8A14F1D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3F09-3644-499B-BFCA-CBA3289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498-ACF5-42E2-9BA2-B311423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4D49-8733-4DF6-969D-2B4E4605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06A-7F3E-4035-9BF6-A950DBA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5AC9-BC1C-4900-848D-7A3D5D5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B9A8-B76D-4437-B913-616FF4C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9DB-EBC9-4564-8750-F665F70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D0BE-A9CC-4A50-B415-545BEC7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9873-E3CF-4C87-B341-0F51809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84DA-FB9B-4955-88EA-2AE151C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181-93D9-4E4C-9D04-C504405B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F9C-DD1A-416A-B284-0556F3C1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91B6-36A6-4FB2-A109-41F781F0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7D8B-15CE-4D15-983A-A77AC1E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A58C-884C-4825-9125-32C49F8A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CC64-B4EC-4A72-80B7-C37EADF4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C86F-C3FB-4AE3-B796-F77A31F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970-A368-4D2D-91A1-65B33098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66CD-EEB8-4767-9F09-F3F4112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2924-F4E8-4939-931C-E019D65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0802-5C73-4522-937A-0A8AD2E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58A4-8E1A-48F5-B76F-F37A8ED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3352-5158-445F-80BC-0975E3D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2049-E2B6-4DB0-822C-12F48436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646F-63F3-4C90-A7B9-37C3994D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F94D-3C63-4BA5-890E-11D5F4E7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1A5E-B52B-4E69-B707-4D274D1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A245-2EE9-4EDE-8873-CF7EEC12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A20-3FD3-47D6-80E7-AF4F7E9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F500-5649-4A7D-9533-83D28BE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E135-EE59-4C4E-AA07-7A31C8E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C079-0924-4F66-940D-8F62FC0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9CB5-46EB-4EBD-8B43-5736B57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CF46-49A1-43E0-A125-13EBDFC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E368-3075-459E-AC7F-2FD7C88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73ED-7B6D-49F5-AC66-BDCAA6B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C23F-1AB3-4685-A13B-665F0D01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9065-A058-4F40-88B5-AAEA8DAD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1FE2-73A3-4B51-9C33-C06A46A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072-6DC8-481F-AE2B-3C230D12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3C73-4461-4254-9ADF-A22ACCD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4EA0-7C38-44A4-82BD-A4CED5D4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BE4F-63D8-4678-AE01-769F55D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EF044-4BEF-4CD0-BE5A-F9A1036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9EF3-29D3-4C9A-87EF-26F0405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CDDB-E1EF-4A10-8E97-0E9A258E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B3D9-AE84-43C5-99E3-8E8BF17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5712-83CD-4B9B-A22F-E816F75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8210-3EC4-4DF2-B2EB-EF3B9C97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E19E-5C0C-4F7D-B597-A997ED1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093-4284-4D00-B5E8-DD88F1D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2E6B-4AF4-4E49-83F2-5A1F786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48BD8-86F1-4921-8675-6220737B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3B47-9E47-452F-A8A9-6BC75B48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E26C-D5EA-4DAA-AB54-9EEE89CC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B4BAF-163E-48F2-940C-DCB80C6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184CB-CA7F-4040-A9C5-28F88ED8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26BDF-D1BC-41D3-BA26-23546BE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0FC2-48D2-4E91-B13A-A0B28D7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0266-9F5A-4F8E-8143-548AA57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48D5-D2C9-478F-9923-E892C6D1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3C-8EB8-46EF-902C-3881E2B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982D-784F-431F-8B73-C19915B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878E9-4823-40D0-8233-415022B5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A31B-0D4E-4743-A876-DDF55B2B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286E-02BB-4915-91A1-6DFB6262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483A-BDED-475A-8FA4-040F6CC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02AE3-5231-4D9A-924F-4F23C40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97EB-E2ED-4AEE-89E8-513AFA9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A29CE-6147-4916-AA7B-7B346289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E1D1-B9DE-40E4-A340-4BC1108C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478F-7125-4E39-BCD7-F998186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C41-07EC-4C31-B96C-5026310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39AB-8AA2-47CE-842C-434779D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E833-A865-4530-A271-548415C7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93995-D639-4838-840D-A00678D5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2F9C-E6B8-4683-AA5E-EEE38146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2365-3422-40A6-A866-B68FA916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8E42A-1EBA-419D-9FB3-71FC947E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224D-13B8-47FD-A7B5-F1CDC4F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F09B-F518-4DD9-B847-A2F0AF46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9D58-C150-4CFC-9AA6-178A14D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3D43-568F-4701-9746-C0A31814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E8C-BBD8-4AB8-9677-ADE7580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9009-57F9-42BA-82F0-FD42FCE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AD47-AF0F-4804-A7E9-BA9F974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9375-C2BB-495C-BCEF-A4520A83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AF93-A4C3-48A9-A20D-B7253BF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6D9FB-E660-4E25-88A8-D3B7AA6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D5153-CD22-4D55-AA46-51B0B490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8034-74C7-490C-816C-25470D59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517-1DE4-4B67-8974-D9CA71EF36D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6B1C-705F-46E5-8FBD-BE07E93B73E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38CC-B984-4DA6-AAF6-8EF0719D2DC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BFE-3132-42F3-AB1C-BAB1830BAAF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7ED1-FE65-4C17-844E-4DC4C003384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900-27F0-4961-BF80-747332E6B7F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F984-0876-4541-953D-5E5D461E98A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658-1904-468D-A191-6A4DB8F7EF3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11_fevralya/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" descr="0_8ffe5_daae86a3_orig.png"/>
          <p:cNvPicPr/>
          <p:nvPr/>
        </p:nvPicPr>
        <p:blipFill>
          <a:blip r:embed="rId2"/>
          <a:stretch/>
        </p:blipFill>
        <p:spPr>
          <a:xfrm>
            <a:off x="179280" y="1628640"/>
            <a:ext cx="3040200" cy="2349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95889810.gif"/>
          <p:cNvPicPr/>
          <p:nvPr/>
        </p:nvPicPr>
        <p:blipFill>
          <a:blip r:embed="rId3"/>
          <a:stretch/>
        </p:blipFill>
        <p:spPr>
          <a:xfrm>
            <a:off x="7020000" y="260280"/>
            <a:ext cx="1690560" cy="1440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4955400" y="400536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готовила: Юсупова Г.А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нституция Российской Федера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Lucida Sans Unicode"/>
              </a:rPr>
              <a:t>Закон РФ «Об образовании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кон «Об основных гарантиях прав ребенка в Российской Федерации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Lucida Sans Unicode"/>
              </a:rPr>
              <a:t>Федеральный закон «О социальной защите инвалидов в Российской Федерации» от 24 ноября 1995 г. № 181-Ф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ая программа Российской Федерации «Доступная среда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boo14.gif"/>
          <p:cNvPicPr/>
          <p:nvPr/>
        </p:nvPicPr>
        <p:blipFill>
          <a:blip r:embed="rId2"/>
          <a:stretch/>
        </p:blipFill>
        <p:spPr>
          <a:xfrm>
            <a:off x="6300720" y="5013360"/>
            <a:ext cx="23972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17520" y="212724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" descr="22.gif"/>
          <p:cNvPicPr/>
          <p:nvPr/>
        </p:nvPicPr>
        <p:blipFill>
          <a:blip r:embed="rId2"/>
          <a:stretch/>
        </p:blipFill>
        <p:spPr>
          <a:xfrm>
            <a:off x="2340000" y="3357720"/>
            <a:ext cx="4464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лагается три основных подхода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основное направление»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инициатива массового образования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включение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50589376.jpg"/>
          <p:cNvPicPr/>
          <p:nvPr/>
        </p:nvPicPr>
        <p:blipFill>
          <a:blip r:embed="rId2"/>
          <a:stretch/>
        </p:blipFill>
        <p:spPr>
          <a:xfrm>
            <a:off x="457200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сновное направле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» предполагает помещение детей с отклонениями в развитии в классы массовых школ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нициатива массового образовани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» предлагает фундаментальные изменения условийобразования учащихся с отклонениями в развит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дель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«включени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» состоит в том, чтобы включать в общеобразовательный процесс по месту жительства всех детей, независимо от типа нарушения и степени его выражен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Рисунок 3" descr="50589376.jpg"/>
          <p:cNvPicPr/>
          <p:nvPr/>
        </p:nvPicPr>
        <p:blipFill>
          <a:blip r:embed="rId1"/>
          <a:stretch/>
        </p:blipFill>
        <p:spPr>
          <a:xfrm>
            <a:off x="6875640" y="5295960"/>
            <a:ext cx="208260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Германии существуют три модели подготовки учителе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В некоторых землях остается старая модель, при которой курсы обучения специальных педагогов и предметников традиционно независимы друг от друг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50589376.jpg"/>
          <p:cNvPicPr/>
          <p:nvPr/>
        </p:nvPicPr>
        <p:blipFill>
          <a:blip r:embed="rId2"/>
          <a:stretch/>
        </p:blipFill>
        <p:spPr>
          <a:xfrm>
            <a:off x="5508720" y="4270320"/>
            <a:ext cx="344952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84360" y="13525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Есть два университета, где сначала дается основная подготовка, в процессе которой изучаются вопросы, связанные как с общей, так и с коррекционной педагогикой и психологией, а уже потом начинается специализация по предмета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Рисунок 3" descr="50589376.jpg"/>
          <p:cNvPicPr/>
          <p:nvPr/>
        </p:nvPicPr>
        <p:blipFill>
          <a:blip r:embed="rId1"/>
          <a:stretch/>
        </p:blipFill>
        <p:spPr>
          <a:xfrm>
            <a:off x="514836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Имеется смешанная модель подготовки, которая осуществляется во всех прочих педагогических университетах. Там для студентов (независимо от дисциплины, которую в дальнейшем они собираются преподавать) вводится специальный обязательный предмет, подразумевающий подготовку в русле инклюзивного подход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Рисунок 3" descr="50589376.jpg"/>
          <p:cNvPicPr/>
          <p:nvPr/>
        </p:nvPicPr>
        <p:blipFill>
          <a:blip r:embed="rId1"/>
          <a:stretch/>
        </p:blipFill>
        <p:spPr>
          <a:xfrm>
            <a:off x="5435640" y="4486320"/>
            <a:ext cx="3522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о Франции принималось много законов по правам инвалидов, но закон от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11 февраля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2005 года называют революционным, так как он впервые содержал всю нормативно-правовую базу для создания независимой жизни детей с ограниченными возможностями.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 этому закону были созданы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специальные государственные учреждения MDPH, "Дома для людей с ограниченными возможностями"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в которых управляют, распределяют и координируют человеческие ресурсы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с момента рождения ребенка-инвалида до обретения им полной независимост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" descr="50589376.jpg"/>
          <p:cNvPicPr/>
          <p:nvPr/>
        </p:nvPicPr>
        <p:blipFill>
          <a:blip r:embed="rId3"/>
          <a:stretch/>
        </p:blipFill>
        <p:spPr>
          <a:xfrm>
            <a:off x="7308720" y="18900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1. Только родители (или те, кто отвечают за ребёнка) могут выбирать, будет ли ребёнок с особыми потребностями учиться в обычной школе или в специализированно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2. Обычные школы обязаны сделать всё необходимое, т. е. даже для детей, привязанных к постели и на искусственном дыхании, школа должна предоставить возможность учиться в классе, соответствующем их возраст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3. Для этого, в случае необходимости, школа делает: лифты, подъезды для инвалидных колясок и т. д., т. е. обеспечивает всю инфраструктур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25360" y="255600"/>
            <a:ext cx="8467920" cy="1171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3" descr="50589376.jpg"/>
          <p:cNvPicPr/>
          <p:nvPr/>
        </p:nvPicPr>
        <p:blipFill>
          <a:blip r:embed="rId2"/>
          <a:stretch/>
        </p:blipFill>
        <p:spPr>
          <a:xfrm>
            <a:off x="7524720" y="5783400"/>
            <a:ext cx="143352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Если ребёнок не может посещать какие-то уроки вместе со своим классом, для него эти уроки проводятся индивидуально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5. Если ребёнок не может выполнять программу вместе со всеми, ему могут предложить ходить на уроки по спец. программе, а вместе со своим классом он может, например, ходить на музыку, физкультуру, общественные нау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6. В школе детей специально учат, что помочь ребёнку-инвалиду, поддержать его – хорошо, обижать его – стыдно и недостойно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Рисунок 3" descr="50589376.jpg"/>
          <p:cNvPicPr/>
          <p:nvPr/>
        </p:nvPicPr>
        <p:blipFill>
          <a:blip r:embed="rId1"/>
          <a:stretch/>
        </p:blipFill>
        <p:spPr>
          <a:xfrm>
            <a:off x="7319880" y="1557360"/>
            <a:ext cx="182412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доброжелательной и доступной среды, позволяющей обучающимся получать знания, в максимальной степени реализовать собственные возможности в постановке и достижении жизненных целе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boy-and-girl-reading-clip-art-1855122.jpg"/>
          <p:cNvPicPr/>
          <p:nvPr/>
        </p:nvPicPr>
        <p:blipFill>
          <a:blip r:embed="rId2"/>
          <a:stretch/>
        </p:blipFill>
        <p:spPr>
          <a:xfrm>
            <a:off x="5003640" y="3573360"/>
            <a:ext cx="3808440" cy="3027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ые инклюзивные образовательные учреждения появились в нашей стране на рубеже 1980-1990 гг. в Москве в 1991 году по инициативе московского Центра лечебной педагогики (общественное объединение) и родительской общественной организации появилась школа инклюзивного образования "Ковчег"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" descr="shkolnye_kartinki_41.2.gif"/>
          <p:cNvPicPr/>
          <p:nvPr/>
        </p:nvPicPr>
        <p:blipFill>
          <a:blip r:embed="rId2"/>
          <a:stretch/>
        </p:blipFill>
        <p:spPr>
          <a:xfrm>
            <a:off x="4716360" y="5013360"/>
            <a:ext cx="29386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настоящее время в России одновременно применяются 3 подхода в обучении детей с особыми образовательными потребностями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Дифференцированное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обучение детей с нарушениями речи, слуха, зрения, опорно-двигательного аппарата, интеллекта, с ЗПР в специальных (коррекционных) учреждениях I–VIII видов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Интегрированное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обучение детей в специальных классах (группах) в общеобразовательных учреждениях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Инклюзивное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обучение, когда дети с особыми образовательными потребностями обучаются в классе вместе с обычными деть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 данным статистики к 2016 году инклюзивных школ должно стать в пять раз больше, чем сейчас, то есть около 20% по стране. В настоящее время 4 % школ РФ пытаются работать в режиме инклюз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Рисунок 4" descr="shkolnye_kartinki_41.2.gif"/>
          <p:cNvPicPr/>
          <p:nvPr/>
        </p:nvPicPr>
        <p:blipFill>
          <a:blip r:embed="rId1"/>
          <a:stretch/>
        </p:blipFill>
        <p:spPr>
          <a:xfrm>
            <a:off x="7667640" y="5877000"/>
            <a:ext cx="1139760" cy="64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мнению Министерства образования и науки РФ «...инклюзивное образование предполагает обучение детей, как в обычных образовательных учреждениях, так и сохранение сети коррекционных школ и интернатов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Рисунок 4" descr="shkolnye_kartinki_41.2.gif"/>
          <p:cNvPicPr/>
          <p:nvPr/>
        </p:nvPicPr>
        <p:blipFill>
          <a:blip r:embed="rId1"/>
          <a:stretch/>
        </p:blipFill>
        <p:spPr>
          <a:xfrm>
            <a:off x="4716360" y="4437000"/>
            <a:ext cx="29386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1992 году в России началась реализация проекта «Интеграция лиц с ограниченными возможностями здоровь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данным Министерства образования и науки РФ, в 2008 – 2010 годах модель инклюзивного образования внедряется в порядке эксперимента в образовательных учреждениях различных типов в ряде субъектов Федерации: Архангельской, Владимирской, Ленинградской, Московской, Нижегородской, Новгородской, Самарской, Томской и других областя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Рисунок 3" descr="shkolnye_kartinki_41.2.gif"/>
          <p:cNvPicPr/>
          <p:nvPr/>
        </p:nvPicPr>
        <p:blipFill>
          <a:blip r:embed="rId1"/>
          <a:stretch/>
        </p:blipFill>
        <p:spPr>
          <a:xfrm>
            <a:off x="6205680" y="5157720"/>
            <a:ext cx="293832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работаны учебные планы курсов для педагогических ВУЗов «Основы специальной (коррекционной) педагогики» и «Особенности психологии детей с ограниченными возможностями здоровь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Рисунок 3" descr="shkolnye_kartinki_41.2.gif"/>
          <p:cNvPicPr/>
          <p:nvPr/>
        </p:nvPicPr>
        <p:blipFill>
          <a:blip r:embed="rId1"/>
          <a:stretch/>
        </p:blipFill>
        <p:spPr>
          <a:xfrm>
            <a:off x="5508720" y="4292640"/>
            <a:ext cx="293832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90600" y="227340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3" descr="voprosi.jpg"/>
          <p:cNvPicPr/>
          <p:nvPr/>
        </p:nvPicPr>
        <p:blipFill>
          <a:blip r:embed="rId2"/>
          <a:stretch/>
        </p:blipFill>
        <p:spPr>
          <a:xfrm>
            <a:off x="3851280" y="3645000"/>
            <a:ext cx="151272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еготовность общества к инклюз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блемы целевого финансирования:не учитывается разный уровень потребностей и нужд детей в зависимости от степени ограничений жизнедеятельности для создания доступной среды и поддерживающих услуг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тсутствие специальной подготовки у учителя массовой школы для работы с проблемным ребенком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есовершенство программно-методического обеспечения инклюзивного образован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тсутствие службы сопровождения в большинстве ОУ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4" descr="smiles_g4.png"/>
          <p:cNvPicPr/>
          <p:nvPr/>
        </p:nvPicPr>
        <p:blipFill>
          <a:blip r:embed="rId2"/>
          <a:stretch/>
        </p:blipFill>
        <p:spPr>
          <a:xfrm>
            <a:off x="6732720" y="260280"/>
            <a:ext cx="1771560" cy="100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е изучена потребность в инклюзии семей детей с ОВЗ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тихийный, неподготовленный характер включения проблемного ребенка в среду нормально развивающихся сверстников. В ряде случаев это происходит по желанию родителей, которые делают выбор в пользу массовой школ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общеобразовательное учреждение не всегда способно обеспечить ребенку необходимую помощ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ученик возвращается в коррекционное учреждение с потерей очень важного для его последующего развития времени, имея при этом выраженные проблемы дезадаптаци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Рисунок 4" descr="smiles_g4.png"/>
          <p:cNvPicPr/>
          <p:nvPr/>
        </p:nvPicPr>
        <p:blipFill>
          <a:blip r:embed="rId1"/>
          <a:stretch/>
        </p:blipFill>
        <p:spPr>
          <a:xfrm>
            <a:off x="7372440" y="5661000"/>
            <a:ext cx="1771560" cy="1009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обходимо активизировать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омпанию по подготовке общества к инклюзивному образов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· Популяризация «+» опыта инклюз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· Формирование толерантного поко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· Психологическая готовность общ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· Устранение «отношенческих» барьеров, формирование социума, дружественного к инвалида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smiles_g.png"/>
          <p:cNvPicPr/>
          <p:nvPr/>
        </p:nvPicPr>
        <p:blipFill>
          <a:blip r:embed="rId2"/>
          <a:stretch/>
        </p:blipFill>
        <p:spPr>
          <a:xfrm>
            <a:off x="5867280" y="5445000"/>
            <a:ext cx="24400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"</a:t>
            </a:r>
            <a:r>
              <a:rPr b="0" lang="ru-RU" sz="3700" spc="-1" strike="noStrike">
                <a:solidFill>
                  <a:srgbClr val="002060"/>
                </a:solidFill>
                <a:latin typeface="Lucida Sans Unicode"/>
              </a:rPr>
              <a:t>Мы просто обязаны создать нормальную систему образования для инвалидов, чтобы дети могли обучаться среди сверстников в обычных общеобразовательных школах, и с раннего возраста не чувствовали себя изолированными от общества</a:t>
            </a:r>
            <a:r>
              <a:rPr b="0" lang="ru-RU" sz="3700" spc="-1" strike="noStrike">
                <a:solidFill>
                  <a:srgbClr val="000000"/>
                </a:solidFill>
                <a:latin typeface="Lucida Sans Unicode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Д. А.Медведев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7970760" y="0"/>
            <a:ext cx="117324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ключить всех детей в школьную систему и обеспечить их равноправие 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рганизация условий, благоприятных для профилактики или преодоления «вторичных» дефектов, уже возникших вследствие инвалидности, для реализации личностного и интеллектуального потенциала, эмоционального, коммуникативного, физического развития дете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нятие педагогами детей с особыми образовательными потребностями независимо от их социального положения, физического, эмоционального и интеллектуального развит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здание условий на основе психолого-педагогических приёмов, ориентированных на потребности дете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72523368.gif"/>
          <p:cNvPicPr/>
          <p:nvPr/>
        </p:nvPicPr>
        <p:blipFill>
          <a:blip r:embed="rId2"/>
          <a:stretch/>
        </p:blipFill>
        <p:spPr>
          <a:xfrm>
            <a:off x="6227640" y="0"/>
            <a:ext cx="2079720" cy="1041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. Н. Сорокоумова, кандидат психологических наук, доцен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" descr="knigi-73.gif"/>
          <p:cNvPicPr/>
          <p:nvPr/>
        </p:nvPicPr>
        <p:blipFill>
          <a:blip r:embed="rId2"/>
          <a:stretch/>
        </p:blipFill>
        <p:spPr>
          <a:xfrm>
            <a:off x="971640" y="4581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клюзия как принцип организации образования является явлением социально-педагогического характера. Соответственно, инклюзия нацелена не на изменение или исправление отдельного ребенка, а на адаптацию учебной и социальной среды к возможностям данного ребен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льф Янсо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knigi-73.gif"/>
          <p:cNvPicPr/>
          <p:nvPr/>
        </p:nvPicPr>
        <p:blipFill>
          <a:blip r:embed="rId2"/>
          <a:stretch/>
        </p:blipFill>
        <p:spPr>
          <a:xfrm>
            <a:off x="3635280" y="4365720"/>
            <a:ext cx="1800360" cy="157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ин из процессов трансформации общего, основанный на понимании, что инвалиды в современном обществе могут (и должны) быть вовлечены в социу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икипедия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лектронная энциклопедия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knigi-73.gif"/>
          <p:cNvPicPr/>
          <p:nvPr/>
        </p:nvPicPr>
        <p:blipFill>
          <a:blip r:embed="rId2"/>
          <a:stretch/>
        </p:blipFill>
        <p:spPr>
          <a:xfrm>
            <a:off x="971640" y="3645000"/>
            <a:ext cx="2016000" cy="207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ервая инновация в российской образовательной практике, инициированная родителями детей-инвалидов и теми педагогами, психологами, кто верит в ее необходимость не только для детей с ограниченными возможностями, но для всего образования в цел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ехина  С.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3" descr="knigi-73.gif"/>
          <p:cNvPicPr/>
          <p:nvPr/>
        </p:nvPicPr>
        <p:blipFill>
          <a:blip r:embed="rId2"/>
          <a:stretch/>
        </p:blipFill>
        <p:spPr>
          <a:xfrm>
            <a:off x="3059280" y="4653000"/>
            <a:ext cx="19256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 англ. Inclusion – «включение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организация процесса обучения, при которой все дети, независимо от их физических, психических, интеллектуальных и иных особенностей, включены в общую систему образования и обучаются по месту жительства вместе со своими сверстниками без инвалидности в одних и тех же общеобразовательных школа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3" descr="knigi-73.gif"/>
          <p:cNvPicPr/>
          <p:nvPr/>
        </p:nvPicPr>
        <p:blipFill>
          <a:blip r:embed="rId2"/>
          <a:stretch/>
        </p:blipFill>
        <p:spPr>
          <a:xfrm>
            <a:off x="7667640" y="476280"/>
            <a:ext cx="12762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ламанкская Декларация лиц с особыми потребностями (1994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Lucida Sans Unicode"/>
              </a:rPr>
              <a:t>Декларация ЮНЕСКО о культурном разнообразии (2001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нвенция ООН о правах ребен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3" descr="44406721.gif"/>
          <p:cNvPicPr/>
          <p:nvPr/>
        </p:nvPicPr>
        <p:blipFill>
          <a:blip r:embed="rId2"/>
          <a:stretch/>
        </p:blipFill>
        <p:spPr>
          <a:xfrm>
            <a:off x="4140360" y="3645000"/>
            <a:ext cx="367164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5:51:44Z</dcterms:created>
  <dc:creator>Гульназик</dc:creator>
  <dc:description/>
  <dc:language>en-US</dc:language>
  <cp:lastModifiedBy>Гульназик</cp:lastModifiedBy>
  <dcterms:modified xsi:type="dcterms:W3CDTF">2018-02-03T13:34:30Z</dcterms:modified>
  <cp:revision>16</cp:revision>
  <dc:subject/>
  <dc:title>Инклюзивное образование</dc:title>
</cp:coreProperties>
</file>