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C91-E140-40C3-B81A-B84E613E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FB2-BD07-4541-A4E8-80017BB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A12-5E6F-45CF-BC40-737C8503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474-5E24-429B-B863-4BFA9D89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6055-4BB6-48DA-BC9F-A204B0F0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9C1-351B-4C3F-AAC0-1C3875D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D5BC-14AA-444B-A33E-0F4D1E0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B7F0-F8B7-4BE1-BF4B-A4F47798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E9A2-F61C-4310-9907-935A383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F038-A33F-4027-8606-DEC6D7E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C138-EC7B-4896-BC44-643303A5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C9A-724C-4F61-BD5D-61E43E5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F93E-1B74-4665-A411-344D357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88CA-6013-49A7-90D3-1E3467F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FAAA-C31E-457A-BCB4-CFDADA7E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7055-141E-4040-9299-FE82319B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0D3D-BC85-451D-B895-5DC1A4B5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51D1-845A-47E2-96D8-C21AA6EB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9631-424E-439F-A7F7-F2567E2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3E55-2E7B-4E17-8529-F2939840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2152-0452-4369-90BA-38F075F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472D-3970-4B16-9F4A-C4057E0D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49E-3CF0-429D-87B2-4E180F14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AD4E-EC4D-4A0D-8BBF-3F4747E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FD85-6309-45CC-B7CB-3D2EB9F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CED5-30D0-4A72-B80B-B4E3D73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DE0D-15EB-4F9F-8213-9B26517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CCCB-2D0C-464F-B826-7E386832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8883-6CE6-4BAB-850C-B2C8C29E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8301-CC7F-4C8F-A577-E78389FE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05F-8885-4500-B97D-FA3D5C81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F9D-960A-48E4-A4D0-F2256CD0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8ED-D067-40F2-B55D-C9ED0BC1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546-184F-4427-83E4-22A24117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AFD-F18E-4BBC-83F6-0030FE4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0F3-7348-488C-B865-D80E3D6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59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B2E-DBA0-421C-B520-9E9FA3EED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EF5-8911-48DE-9A70-5064D095A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59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6ABF-2FF1-4828-BC0F-0CEB542B1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069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ff0000"/>
                </a:solidFill>
                <a:latin typeface="Comic Sans MS"/>
              </a:rPr>
              <a:t>Кодирование</a:t>
            </a:r>
            <a:br>
              <a:rPr sz="7100"/>
            </a:br>
            <a:r>
              <a:rPr b="1" lang="ru-RU" sz="7100" spc="-1" strike="noStrike">
                <a:solidFill>
                  <a:srgbClr val="ff0000"/>
                </a:solidFill>
                <a:latin typeface="Comic Sans MS"/>
              </a:rPr>
              <a:t>информации</a:t>
            </a:r>
            <a:endParaRPr b="0" lang="en-US" sz="7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Сигнальные коды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85800" y="990720"/>
            <a:ext cx="28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Arial"/>
              </a:rPr>
              <a:t>Азбука Морзе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067280" y="5181480"/>
            <a:ext cx="453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66"/>
                </a:solidFill>
                <a:latin typeface="Arial"/>
              </a:rPr>
              <a:t>Флажковая азбука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65640" cy="198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2809800" cy="3962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3"/>
          <a:stretch/>
        </p:blipFill>
        <p:spPr>
          <a:xfrm>
            <a:off x="6629400" y="2362320"/>
            <a:ext cx="2335320" cy="3762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4324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Двоичное кодирование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Group 149"/>
          <p:cNvGrpSpPr/>
          <p:nvPr/>
        </p:nvGrpSpPr>
        <p:grpSpPr>
          <a:xfrm>
            <a:off x="762120" y="1295280"/>
            <a:ext cx="7772400" cy="4955760"/>
            <a:chOff x="762120" y="1295280"/>
            <a:chExt cx="7772400" cy="4955760"/>
          </a:xfrm>
        </p:grpSpPr>
        <p:sp>
          <p:nvSpPr>
            <p:cNvPr id="239" name="Text Box 104"/>
            <p:cNvSpPr/>
            <p:nvPr/>
          </p:nvSpPr>
          <p:spPr>
            <a:xfrm>
              <a:off x="4191120" y="1447920"/>
              <a:ext cx="1752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0001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0010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0100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0100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1000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1111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1000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10001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Text Box 105"/>
            <p:cNvSpPr/>
            <p:nvPr/>
          </p:nvSpPr>
          <p:spPr>
            <a:xfrm>
              <a:off x="5334120" y="419112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1100 000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1100 00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1101 000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Text Box 115"/>
            <p:cNvSpPr/>
            <p:nvPr/>
          </p:nvSpPr>
          <p:spPr>
            <a:xfrm>
              <a:off x="6629400" y="5805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001111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2" name="Picture 138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8276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utoShape 143"/>
            <p:cNvSpPr/>
            <p:nvPr/>
          </p:nvSpPr>
          <p:spPr>
            <a:xfrm>
              <a:off x="3276720" y="2514600"/>
              <a:ext cx="685800" cy="304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144"/>
            <p:cNvSpPr/>
            <p:nvPr/>
          </p:nvSpPr>
          <p:spPr>
            <a:xfrm>
              <a:off x="4572000" y="4495680"/>
              <a:ext cx="685800" cy="304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5" name="Group 148"/>
            <p:cNvGrpSpPr/>
            <p:nvPr/>
          </p:nvGrpSpPr>
          <p:grpSpPr>
            <a:xfrm>
              <a:off x="3733920" y="4191120"/>
              <a:ext cx="685800" cy="1008720"/>
              <a:chOff x="3733920" y="4191120"/>
              <a:chExt cx="685800" cy="1008720"/>
            </a:xfrm>
          </p:grpSpPr>
          <p:sp>
            <p:nvSpPr>
              <p:cNvPr id="246" name="Rectangle 141"/>
              <p:cNvSpPr/>
              <p:nvPr/>
            </p:nvSpPr>
            <p:spPr>
              <a:xfrm>
                <a:off x="3733920" y="4191120"/>
                <a:ext cx="685800" cy="990360"/>
              </a:xfrm>
              <a:prstGeom prst="rect">
                <a:avLst/>
              </a:prstGeom>
              <a:solidFill>
                <a:srgbClr val="f8b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Text Box 145"/>
              <p:cNvSpPr/>
              <p:nvPr/>
            </p:nvSpPr>
            <p:spPr>
              <a:xfrm>
                <a:off x="3881520" y="4191120"/>
                <a:ext cx="533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66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66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8" name="Text Box 146"/>
            <p:cNvSpPr/>
            <p:nvPr/>
          </p:nvSpPr>
          <p:spPr>
            <a:xfrm>
              <a:off x="4724280" y="5791320"/>
              <a:ext cx="990720" cy="45972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147"/>
            <p:cNvSpPr/>
            <p:nvPr/>
          </p:nvSpPr>
          <p:spPr>
            <a:xfrm>
              <a:off x="5943600" y="5867280"/>
              <a:ext cx="685800" cy="3049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1066680" y="2743200"/>
            <a:ext cx="6870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Практические задания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дание №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Заменить буквы её порядковым номером в алфавит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А </a:t>
            </a:r>
            <a:r>
              <a:rPr b="1" lang="ru-RU" sz="4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1, Б </a:t>
            </a:r>
            <a:r>
              <a:rPr b="1" lang="ru-RU" sz="4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2, В </a:t>
            </a:r>
            <a:r>
              <a:rPr b="1" lang="ru-RU" sz="4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3, …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ru-RU" sz="4400" spc="-1" strike="noStrike">
                <a:solidFill>
                  <a:srgbClr val="0033cc"/>
                </a:solidFill>
                <a:latin typeface="Comic Sans MS"/>
              </a:rPr>
              <a:t> 33</a:t>
            </a:r>
            <a:r>
              <a:rPr b="1" lang="ru-RU" sz="3100" spc="-1" strike="noStrike">
                <a:solidFill>
                  <a:srgbClr val="0033cc"/>
                </a:solidFill>
                <a:latin typeface="Comic Sans MS"/>
              </a:rPr>
              <a:t>    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600"/>
                </a:solidFill>
                <a:latin typeface="Georgia"/>
              </a:rPr>
              <a:t>Алфавит</a:t>
            </a:r>
            <a:r>
              <a:rPr b="1" lang="ru-RU" sz="47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ru-RU" sz="47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47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600"/>
                </a:solidFill>
                <a:latin typeface="Comic Sans MS"/>
              </a:rPr>
              <a:t>Блокнот         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09480" y="1295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13 22 1 3 10 20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80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13 16 12 15 16 20</a:t>
            </a:r>
            <a:r>
              <a:rPr b="1" lang="ru-RU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Задание № 2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100" spc="-1" strike="noStrike">
                <a:solidFill>
                  <a:srgbClr val="0066ff"/>
                </a:solidFill>
                <a:latin typeface="Comic Sans MS"/>
              </a:rPr>
              <a:t>Закодировать текст используя код Цезаря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66ff"/>
                </a:solidFill>
                <a:latin typeface="Comic Sans MS"/>
              </a:rPr>
              <a:t>(на 1 букву вперёд)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мпьютер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Клави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Таблица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Графи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3520" y="3581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лпнрэяуё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165640" y="3657600"/>
            <a:ext cx="290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лмбгйбуфс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85800" y="5410080"/>
            <a:ext cx="2590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omic Sans MS"/>
              </a:rPr>
              <a:t>убвмйчб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5334120" y="5562720"/>
            <a:ext cx="2590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omic Sans MS"/>
              </a:rPr>
              <a:t>дсбхйл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6, 1.7  стр.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прос 4 и 5  стр 2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прос 4  стр 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omic Sans MS"/>
              </a:rPr>
              <a:t>Вопросы для повторе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100" spc="-1" strike="noStrike">
                <a:solidFill>
                  <a:srgbClr val="6600ff"/>
                </a:solidFill>
                <a:latin typeface="Comic Sans MS"/>
              </a:rPr>
              <a:t>Что такое информация?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Информация – это сведения об окружающем нас мире (всё что нас окружает)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100" spc="-1" strike="noStrike">
                <a:solidFill>
                  <a:srgbClr val="6600ff"/>
                </a:solidFill>
                <a:latin typeface="Comic Sans MS"/>
              </a:rPr>
              <a:t>Какие действия человек совершает с информацией?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Человек постоянно совершает действия, связанные с получением и передачей, хранением и обработкой информации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900" spc="-1" strike="noStrike">
                <a:solidFill>
                  <a:srgbClr val="6600ff"/>
                </a:solidFill>
                <a:latin typeface="Comic Sans MS"/>
              </a:rPr>
              <a:t>Как человек хранит информацию?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Хранение информации в уме – оперативная память (внутренняя информация); внешняя память (долговременная). Также существует память отдельного человека и память человечества.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900" spc="-1" strike="noStrike">
                <a:solidFill>
                  <a:srgbClr val="6600ff"/>
                </a:solidFill>
                <a:latin typeface="Comic Sans MS"/>
              </a:rPr>
              <a:t>Какие современные носители информации вам известны?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Магнитные и лазерные диски, флеш - карты – обладают большой ёмкостью, надёжны и компактны. Винчестер (жёсткий диск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omic Sans MS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omic Sans MS"/>
              </a:rPr>
              <a:t>Код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система условных знаков для представления информ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omic Sans MS"/>
              </a:rPr>
              <a:t>Кодирование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перевод информации в удобную для передачи, обработки или хранения форму с помощью некоторого ко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omic Sans MS"/>
              </a:rPr>
              <a:t>Декодирование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процесс восстановления содержания закодированной информации.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ff0000"/>
                </a:solidFill>
                <a:uFillTx/>
                <a:latin typeface="Comic Sans MS"/>
              </a:rPr>
              <a:t>Существует три основных способа кодирования информации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2286000"/>
            <a:ext cx="35049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25"/>
              </a:spcBef>
              <a:buClr>
                <a:srgbClr val="66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ff"/>
                </a:solidFill>
                <a:latin typeface="Comic Sans MS"/>
              </a:rPr>
              <a:t>Графический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80880" y="3473280"/>
            <a:ext cx="2743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ff"/>
                </a:solidFill>
                <a:latin typeface="Comic Sans MS"/>
              </a:rPr>
              <a:t>2.Числовой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80880" y="4692600"/>
            <a:ext cx="3276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ff"/>
                </a:solidFill>
                <a:latin typeface="Comic Sans MS"/>
              </a:rPr>
              <a:t>3.Символьный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581280" y="2286000"/>
            <a:ext cx="50292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- с помощью рисунков     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или значков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124080" y="35053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- с помощью чисел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05320" y="4724280"/>
            <a:ext cx="5333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- с помощью символов 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того же алфавита, что 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Comic Sans MS"/>
              </a:rPr>
              <a:t>и текст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 u="sng">
                <a:solidFill>
                  <a:srgbClr val="00cc00"/>
                </a:solidFill>
                <a:uFillTx/>
                <a:latin typeface="Arial"/>
              </a:rPr>
              <a:t>Кодирование числовой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 u="sng">
                <a:solidFill>
                  <a:srgbClr val="00cc00"/>
                </a:solidFill>
                <a:uFillTx/>
                <a:latin typeface="Arial"/>
              </a:rPr>
              <a:t>информаци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9966"/>
                </a:solidFill>
                <a:latin typeface="Arial"/>
              </a:rPr>
              <a:t>                    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числа, записанные арабскими         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цифрам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267080" y="2362320"/>
            <a:ext cx="48769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Comic Sans MS"/>
              </a:rPr>
              <a:t>– </a:t>
            </a:r>
            <a:r>
              <a:rPr b="1" lang="ru-RU" sz="3100" spc="-1" strike="noStrike">
                <a:solidFill>
                  <a:srgbClr val="000066"/>
                </a:solidFill>
                <a:latin typeface="Comic Sans MS"/>
              </a:rPr>
              <a:t>числа, записанные римскими цифрами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19520" y="4572000"/>
            <a:ext cx="5943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Comic Sans MS"/>
              </a:rPr>
              <a:t>– </a:t>
            </a:r>
            <a:r>
              <a:rPr b="1" lang="ru-RU" sz="3000" spc="-1" strike="noStrike">
                <a:solidFill>
                  <a:srgbClr val="000066"/>
                </a:solidFill>
                <a:latin typeface="Comic Sans MS"/>
              </a:rPr>
              <a:t>русский язык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Comic Sans MS"/>
              </a:rPr>
              <a:t>– </a:t>
            </a:r>
            <a:r>
              <a:rPr b="1" lang="ru-RU" sz="3000" spc="-1" strike="noStrike">
                <a:solidFill>
                  <a:srgbClr val="000066"/>
                </a:solidFill>
                <a:latin typeface="Comic Sans MS"/>
              </a:rPr>
              <a:t>английский язык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13" descr="1224673080_vake"/>
          <p:cNvPicPr/>
          <p:nvPr/>
        </p:nvPicPr>
        <p:blipFill>
          <a:blip r:embed="rId1"/>
          <a:stretch/>
        </p:blipFill>
        <p:spPr>
          <a:xfrm>
            <a:off x="228600" y="533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80988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225576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33520" y="3581280"/>
            <a:ext cx="8610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 u="sng">
                <a:solidFill>
                  <a:srgbClr val="00cc00"/>
                </a:solidFill>
                <a:uFillTx/>
                <a:latin typeface="Comic Sans MS"/>
              </a:rPr>
              <a:t>Кодирование текстовой информации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9"/>
          <p:cNvSpPr/>
          <p:nvPr/>
        </p:nvSpPr>
        <p:spPr>
          <a:xfrm>
            <a:off x="304920" y="4191120"/>
            <a:ext cx="50292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Кодирование на дорогах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3" name="Group 55"/>
          <p:cNvGrpSpPr/>
          <p:nvPr/>
        </p:nvGrpSpPr>
        <p:grpSpPr>
          <a:xfrm>
            <a:off x="76320" y="76320"/>
            <a:ext cx="5257800" cy="3387600"/>
            <a:chOff x="76320" y="76320"/>
            <a:chExt cx="5257800" cy="3387600"/>
          </a:xfrm>
        </p:grpSpPr>
        <p:pic>
          <p:nvPicPr>
            <p:cNvPr id="214" name="Picture 54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5257800" cy="33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4" descr=""/>
            <p:cNvPicPr/>
            <p:nvPr/>
          </p:nvPicPr>
          <p:blipFill>
            <a:blip r:embed="rId2"/>
            <a:stretch/>
          </p:blipFill>
          <p:spPr>
            <a:xfrm>
              <a:off x="2412720" y="2788920"/>
              <a:ext cx="2921040" cy="6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56" descr=""/>
          <p:cNvPicPr/>
          <p:nvPr/>
        </p:nvPicPr>
        <p:blipFill>
          <a:blip r:embed="rId3"/>
          <a:stretch/>
        </p:blipFill>
        <p:spPr>
          <a:xfrm>
            <a:off x="5334120" y="4192560"/>
            <a:ext cx="3657600" cy="2513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724280" y="1676160"/>
            <a:ext cx="41911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Кодирование музыки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7"/>
          <p:cNvSpPr/>
          <p:nvPr/>
        </p:nvSpPr>
        <p:spPr>
          <a:xfrm>
            <a:off x="609480" y="4114800"/>
            <a:ext cx="39625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Почтовые 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00cc"/>
                </a:solidFill>
                <a:latin typeface="Comic Sans MS"/>
              </a:rPr>
              <a:t>индексы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9520" y="533520"/>
            <a:ext cx="5194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99"/>
                </a:solidFill>
                <a:latin typeface="Comic Sans MS"/>
              </a:rPr>
              <a:t>«Школьное» кодир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2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017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044440" cy="266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"/>
          <p:cNvPicPr/>
          <p:nvPr/>
        </p:nvPicPr>
        <p:blipFill>
          <a:blip r:embed="rId3"/>
          <a:stretch/>
        </p:blipFill>
        <p:spPr>
          <a:xfrm>
            <a:off x="4495680" y="3054240"/>
            <a:ext cx="4521240" cy="3194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6"/>
          <p:cNvSpPr/>
          <p:nvPr/>
        </p:nvSpPr>
        <p:spPr>
          <a:xfrm>
            <a:off x="1752480" y="6172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с указанием кода населённого пункт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-36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Азбука Брайля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76720" y="4572000"/>
            <a:ext cx="56386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omic Sans MS"/>
              </a:rPr>
              <a:t>Язык глухонемых - где символами языка служат определенные знаки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13" descr=""/>
          <p:cNvPicPr/>
          <p:nvPr/>
        </p:nvPicPr>
        <p:blipFill>
          <a:blip r:embed="rId1"/>
          <a:stretch/>
        </p:blipFill>
        <p:spPr>
          <a:xfrm>
            <a:off x="5486400" y="76320"/>
            <a:ext cx="350208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"/>
          <p:cNvPicPr/>
          <p:nvPr/>
        </p:nvPicPr>
        <p:blipFill>
          <a:blip r:embed="rId2"/>
          <a:stretch/>
        </p:blipFill>
        <p:spPr>
          <a:xfrm>
            <a:off x="2076480" y="609480"/>
            <a:ext cx="3333600" cy="3124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"/>
          <p:cNvPicPr/>
          <p:nvPr/>
        </p:nvPicPr>
        <p:blipFill>
          <a:blip r:embed="rId3"/>
          <a:stretch/>
        </p:blipFill>
        <p:spPr>
          <a:xfrm>
            <a:off x="117360" y="685800"/>
            <a:ext cx="2092320" cy="266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"/>
          <p:cNvPicPr/>
          <p:nvPr/>
        </p:nvPicPr>
        <p:blipFill>
          <a:blip r:embed="rId4"/>
          <a:stretch/>
        </p:blipFill>
        <p:spPr>
          <a:xfrm>
            <a:off x="76320" y="38098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14T14:38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