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3958-1E78-416D-BD5A-FEB4C2A623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EDF7-0195-4C62-AF2D-F5AD53DE7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B80-DDD9-47FE-BAFC-E7879C47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C08-CB37-416B-9549-F2156AE8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F58-6AC1-41F9-BF7F-51D2C8C1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F66-6B03-4256-9230-10D155FB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97F4-C696-4601-A87C-7C4A0EB3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3420-1E29-4E46-80E2-9BB6235F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2421-F1F0-49C6-B03D-95B9BEE4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A709-9751-4E32-8CFB-D59409FA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BA83-DB18-4111-92B9-138EF8A3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66BF-DFA2-48F5-90F1-4889C227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C990-B449-4572-8CA4-A8F17D0E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15F-C057-4050-AF2D-FF66CECB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F2C6-10C7-4E1B-A128-AA8CBFCE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F711-4C84-4AF9-8B39-48842867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393F-B083-429F-8873-3ADF20EB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6610-7778-4D88-9376-4916829E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F0A6-3D5F-47B6-AFBF-3EA3F7B5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BBC-7AF8-4B19-B92F-C57B9180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654-B019-438C-8AE1-718D3C82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530-6C89-45DF-ADB9-8A84B18B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CA3-0338-44E4-82A9-50AD4D94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40B-5B1C-47D6-99C5-864F2D8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570-2742-4F62-A508-55C721FB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5EA-7A88-415B-B5EE-D1BA8FE6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E079-CDA6-4BE3-8060-CA85720AF1D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4E72-69B7-42A8-9D1F-CF63D4BDEBF5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555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компенсирующего вида с приоритетным осуществлением квалифицированной коррекции отклонений в физическом и психическом развитии воспитанников  № 9 «Колокольчик» </a:t>
            </a:r>
            <a:endParaRPr b="1" lang="en-US" sz="1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2560" y="857160"/>
            <a:ext cx="8715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педагогов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ценка качества образования в ДОО. Мониторинг образовательных результатов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28560" y="500040"/>
            <a:ext cx="60721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ОБРАЗОВАТЕЛЬНЫЕ ОБЛАСТИ</a:t>
            </a:r>
            <a:endParaRPr b="1" lang="en-US" sz="40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3840" y="2356920"/>
            <a:ext cx="8643960" cy="235764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сред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на новую ступень развития в соответствии с ФГОС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Правая фигурная скобка 3"/>
          <p:cNvSpPr/>
          <p:nvPr/>
        </p:nvSpPr>
        <p:spPr>
          <a:xfrm rot="5400000">
            <a:off x="3964680" y="-464040"/>
            <a:ext cx="857160" cy="792936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7929360"/>
              <a:gd name="textAreaBottom" fmla="*/ 7907040 h 792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"/>
                  <a:pt x="10800" y="195"/>
                </a:cubicBezTo>
                <a:lnTo>
                  <a:pt x="10800" y="10831"/>
                </a:lnTo>
                <a:cubicBezTo>
                  <a:pt x="10800" y="10929"/>
                  <a:pt x="16200" y="11026"/>
                  <a:pt x="21600" y="11026"/>
                </a:cubicBezTo>
                <a:cubicBezTo>
                  <a:pt x="16200" y="11026"/>
                  <a:pt x="10800" y="11124"/>
                  <a:pt x="10800" y="11221"/>
                </a:cubicBezTo>
                <a:lnTo>
                  <a:pt x="10800" y="21405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4720" y="285480"/>
            <a:ext cx="71294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ЗАЧЕМ ПЕДАГОГУ ПРИНИМАТЬ УЧАСТИЕ В КОНКУРСАХ?</a:t>
            </a:r>
            <a:br>
              <a:rPr sz="4000"/>
            </a:br>
            <a:endParaRPr b="1" lang="en-US" sz="40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040" y="2785680"/>
            <a:ext cx="8137440" cy="307188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ассказать сообществу о своих достижениях, получить экспертную оценку работы и пополнить портфолио достижений новым дипломом, который повлияет на место в рейтинге и позволит получить дополнительные баллы, а также обязательно пригодится при аттестаци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8928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педагог-профессиона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гораздо больше, чем просто специалист, работающий в сфере образован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 актер, и сценарист, и игротехник, и психолог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сочетается целый комплекс компетенций, от умения найти подход к каждому ребенку до крепких методических и педагогических знани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 это нужно постоянно развивать в себ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1"/>
          <a:stretch/>
        </p:blipFill>
        <p:spPr>
          <a:xfrm>
            <a:off x="6732720" y="4508640"/>
            <a:ext cx="20383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Законодательные акты правительства РФ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оссийской Федерации «Об образовании»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государственные стандарты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 2.4.1.3049-13 «Санитарно-эпидемиологические  требования к устройству, содержанию и организации режима работы в ДОО»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Управления по надзору и контролю в сфере образования Министерства образования РФ от 31 июля 2012 года № 03-20/и-20 «Об организации внутреннего мониторинга качества образования и образовательном учреждении»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1.03.2011 г. № 164 «Об осуществлении государственного контроля (надзора) в сфере образован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6.03.2011 № 174 «Об утверждении Положения о лицензировании образовательной деятельности» и др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2000160"/>
            <a:ext cx="8786880" cy="257184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 fontScale="48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нимается под управлением качеством коррекционно-педагогического процесса в ДОО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56760" y="142920"/>
            <a:ext cx="8358120" cy="65721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– открытая система, взаимодействующая с внешней средой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ы-конкурсы РППС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экспертная оценка АООП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, самообследования (образовательный мониторинг на уровне УО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К, вебинары, семинар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Процессный и ситуативный подход к управлению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просмотры педаг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ажирование собственного педагогического опыта (ГМО, конкурсы, конференции и т.д.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педагогов за качественный образовательный процесс (НОД, СДПРП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(педагогическая диагностика, анкетирование родителей)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карта педагога по организации качества образован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ый и деятельностный подход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Правая фигурная скобка 4"/>
          <p:cNvSpPr/>
          <p:nvPr/>
        </p:nvSpPr>
        <p:spPr>
          <a:xfrm flipH="1" rot="16200000">
            <a:off x="4196520" y="1981800"/>
            <a:ext cx="608040" cy="8143920"/>
          </a:xfrm>
          <a:custGeom>
            <a:avLst/>
            <a:gdLst>
              <a:gd name="textAreaLeft" fmla="*/ -360 w 608040"/>
              <a:gd name="textAreaRight" fmla="*/ 219240 w 608040"/>
              <a:gd name="textAreaTop" fmla="*/ 15480 h 8143920"/>
              <a:gd name="textAreaBottom" fmla="*/ 8128440 h 814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"/>
                  <a:pt x="10800" y="134"/>
                </a:cubicBezTo>
                <a:lnTo>
                  <a:pt x="10800" y="10638"/>
                </a:lnTo>
                <a:cubicBezTo>
                  <a:pt x="10800" y="10705"/>
                  <a:pt x="16200" y="10772"/>
                  <a:pt x="21600" y="10772"/>
                </a:cubicBezTo>
                <a:cubicBezTo>
                  <a:pt x="16200" y="10772"/>
                  <a:pt x="10800" y="10839"/>
                  <a:pt x="10800" y="10906"/>
                </a:cubicBezTo>
                <a:lnTo>
                  <a:pt x="10800" y="21466"/>
                </a:lnTo>
                <a:cubicBezTo>
                  <a:pt x="10800" y="2153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7772400" cy="453708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оценки качества образования в ДОО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рофессионального уровня педагогов ДОО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качества организации коррекционно-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развивающей предметно-пространственной среды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семьи: оценка степени удовлетворенности родителей качеством образования ДОО и предоставляемыми им услугам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диагностика усвоения воспитанниками АООП ДОО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7429320" cy="4500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 fontScale="59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 как управляет системой образования в ДОО?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управленческих и педагогических сил направляется на соотнесение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й и результат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й и результатов деятельности всех субъектов коррекционно-педагогического процесс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й и результатов функционирования развития ДОО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42960" y="1214280"/>
            <a:ext cx="7772400" cy="150048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повысить качество образовательного процесса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Текст 2"/>
          <p:cNvSpPr/>
          <p:nvPr/>
        </p:nvSpPr>
        <p:spPr>
          <a:xfrm>
            <a:off x="642960" y="3786120"/>
            <a:ext cx="77724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43040" indent="-7430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с вырезом 4"/>
          <p:cNvSpPr/>
          <p:nvPr/>
        </p:nvSpPr>
        <p:spPr>
          <a:xfrm rot="5400000">
            <a:off x="3824640" y="303264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5" descr=""/>
          <p:cNvPicPr/>
          <p:nvPr/>
        </p:nvPicPr>
        <p:blipFill>
          <a:blip r:embed="rId1"/>
          <a:stretch/>
        </p:blipFill>
        <p:spPr>
          <a:xfrm>
            <a:off x="6084720" y="3762360"/>
            <a:ext cx="20386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4200" y="2428560"/>
            <a:ext cx="8715600" cy="20718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 fontScale="53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ьно и эффективно осуществлять контроль качества образования ДОО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Два подхода: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2071440"/>
            <a:ext cx="4039920" cy="28573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деятельность, направленная на решение задач развивающих, коррекционных, воспитательных, обучающих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5840" y="2500200"/>
            <a:ext cx="4041720" cy="2214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взаимодействия внешней и внутренней структуры образовательного пространства ДО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Правая фигурная скобка 6"/>
          <p:cNvSpPr/>
          <p:nvPr/>
        </p:nvSpPr>
        <p:spPr>
          <a:xfrm rot="5400000">
            <a:off x="4000320" y="999720"/>
            <a:ext cx="928440" cy="8643960"/>
          </a:xfrm>
          <a:custGeom>
            <a:avLst/>
            <a:gdLst>
              <a:gd name="textAreaLeft" fmla="*/ 0 w 928440"/>
              <a:gd name="textAreaRight" fmla="*/ 335160 w 928440"/>
              <a:gd name="textAreaTop" fmla="*/ 24120 h 8643960"/>
              <a:gd name="textAreaBottom" fmla="*/ 8619840 h 864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3"/>
                </a:cubicBezTo>
                <a:lnTo>
                  <a:pt x="10800" y="10879"/>
                </a:lnTo>
                <a:cubicBezTo>
                  <a:pt x="10800" y="10976"/>
                  <a:pt x="16200" y="11072"/>
                  <a:pt x="21600" y="11072"/>
                </a:cubicBezTo>
                <a:cubicBezTo>
                  <a:pt x="16200" y="11072"/>
                  <a:pt x="10800" y="11169"/>
                  <a:pt x="10800" y="11265"/>
                </a:cubicBezTo>
                <a:lnTo>
                  <a:pt x="10800" y="21407"/>
                </a:lnTo>
                <a:cubicBezTo>
                  <a:pt x="10800" y="2150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428760" y="5857920"/>
            <a:ext cx="814392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информации у результатах педагогическ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user</cp:lastModifiedBy>
  <dcterms:modified xsi:type="dcterms:W3CDTF">2018-01-31T04:25:03Z</dcterms:modified>
  <cp:revision>100</cp:revision>
  <dc:subject/>
  <dc:title>Образование без границ</dc:title>
</cp:coreProperties>
</file>