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6B9-2C6E-42B5-A9AC-CA6108A0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652-F5D4-4C2A-9218-47BDAFA9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B52-9837-4027-8F04-B09B5D71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2AB-F3FD-494C-9071-140C8A3F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F4B-132E-4DA5-8236-AC376607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838-2849-4A17-9D09-3D55136D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FBC-82E4-4774-BA39-EE15CC44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8D1-C498-4E9E-9022-657E5A80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D97-7C3B-43F8-B6BD-9B91F11B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2EF-5245-453C-A2C3-758E4217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D42-1F87-4165-8307-B41F7D75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FCE-61FA-4F2C-8D2E-DCFA4DB6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1705-D931-4B94-B714-8798AE21F136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obrazec_soc_pasporta_klassa.docx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347560"/>
            <a:ext cx="4041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оспитательная работа в классе. Функции классного руководителя</a:t>
            </a:r>
            <a:br>
              <a:rPr sz="3200"/>
            </a:b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188640"/>
            <a:ext cx="328608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ШКОЛ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МОЛОДОГО ПЕДАГОГ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" name="Picture 5" descr="&amp;Kcy;&amp;acy;&amp;rcy;&amp;tcy;&amp;icy;&amp;ncy;&amp;kcy;&amp;acy; 41 &amp;icy;&amp;zcy; 56197"/>
          <p:cNvPicPr/>
          <p:nvPr/>
        </p:nvPicPr>
        <p:blipFill>
          <a:blip r:embed="rId2"/>
          <a:stretch/>
        </p:blipFill>
        <p:spPr>
          <a:xfrm>
            <a:off x="4041720" y="1593720"/>
            <a:ext cx="5076720" cy="338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направления деятельности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75280" y="356760"/>
            <a:ext cx="496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сещение учащихся дома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глашают в школу для беседы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реписка с родителями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ые родительские собрания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беседы и лекции для родителей на педагогические тем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358200" y="2781360"/>
            <a:ext cx="27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ь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Основные направления деятельности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175280" y="549000"/>
            <a:ext cx="496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зучение современных концепции, передового педагогического опыта, нормативные документы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бсуждение состояния воспитательной работы в школе в целом, в отдельных классах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рганизация открытых внеклассных мероприятий, дел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173160" y="2616120"/>
            <a:ext cx="33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ителями в рамках методического объ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Основные направления деятельности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175280" y="418680"/>
            <a:ext cx="496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едение журнала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едение личных дел обучающихся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оставление социального паспорта класса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оставление  плана воспитательной работы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нализ воспитательной работы -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раз в четверт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25000" y="244476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бота по оформл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окум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32860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ивность воспитательной работы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4143240" y="597960"/>
            <a:ext cx="48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учащихся во внеуроч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067280" y="429696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ность обучающимися и их родителями содержанием и характером взаимоотношений учителя с клас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5878440" y="1347840"/>
            <a:ext cx="16686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4140360" y="260280"/>
            <a:ext cx="475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психолого-педагогических услови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азвития лич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самоутверждения каждого обучающегося, сохранения неповторимости и раскрытия его потенциальных способ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здорового образа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истемы отношений через разнообразные формы воспитывающей деятельности коллектива кл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и интересов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зация отношений между учащимися и педагогическими работн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учащихся нравственных смыслов и духовных ориенти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циально-значимой творческой деятельност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228600" y="2421000"/>
            <a:ext cx="34066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  условий  для саморазвития и самореализации личности учащегося, его успешной социализации в обществе. </a:t>
            </a:r>
            <a:br>
              <a:rPr sz="2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108000" y="293760"/>
            <a:ext cx="32860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Должностные обязанности классного руковод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3384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Функции воспитательной работы классного руководителя 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2060280"/>
            <a:ext cx="3924360" cy="22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налитико-прогностическа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8"/>
          <p:cNvSpPr/>
          <p:nvPr/>
        </p:nvSpPr>
        <p:spPr>
          <a:xfrm>
            <a:off x="6386400" y="3645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4356000" y="620640"/>
            <a:ext cx="4572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индивидуальных особенностей обучающихся и динамики их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остояния и перспектив развития коллектива класс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оцессе наблюдений классный руководитель  выявляет определенные личностные качества детей, особенности их мышления, восприятия, памяти, речи и другие характерист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же важно изучение условий и принципов семейного воспитания детей: нужно определить особенности семьи, в которой воспитывается уче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3384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оциальный паспорт класса (карта класса)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7640" y="206028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циальный паспорт класса составляется с 1-го класса, в котором указывается следующая информация: образование и место работы родителей, их возраст, состав семьи, сведения о семье, материальное положение, сведения о детях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43280" y="112536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ПРИМЕ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3384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Функции воспитательной работы классного руководителя 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640" y="2276640"/>
            <a:ext cx="3924360" cy="22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рганизационно-координирующа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4159080" y="404640"/>
            <a:ext cx="498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контактов с родител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неурочной деятельност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с учителями-предметниками данного кл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ю в классе образовательного проц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ю воспитательной работы с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-педагогическую работу с каждым учащимся и коллективом в целом с учетом личных наблюд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документации (классный журнал, личные дела учащихся, план работы классного руководителя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3384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Функции воспитательной работы классного руководителя 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2396880"/>
            <a:ext cx="4051440" cy="22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4051440" y="384120"/>
            <a:ext cx="4984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егулирование позитивных межличностных отношений между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взаимодействия между педагогами и обучаю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общему благоприятному психологическому климату в коллективе кл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обучающимся в формировании коммуникативных кач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и общему благоприятному психологическому климату в коллективе класс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3384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Функции воспитательной работы классного руководителя 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2060280"/>
            <a:ext cx="3673440" cy="22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контрольна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4140360" y="384120"/>
            <a:ext cx="48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успеваемостью и посещаемостью каждого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Основные направления деятельности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обучающимис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ндивидуальные формы работы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бесед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сультация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ыполнение совместного поручения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казание индивидуальной помощи в конкретной работе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овместный поиск решения проблемы, задач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ллективные формы работ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ый час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ные поручения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курсы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ыставки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роприятия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нцерты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328320" y="2112840"/>
            <a:ext cx="25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ученик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320400" y="2430360"/>
            <a:ext cx="35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ителями-предметник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349200" y="2781360"/>
            <a:ext cx="35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направления деятельности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95280" y="549000"/>
            <a:ext cx="496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накомит учителей с результатами изучения детей и классного коллектив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рганизует совместно с учителями-предметниками поиск средств, способов, обеспечивающих успешность ребенка в учебной деятельности, его самореализацию на уроке и во внеурочное время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нформирует о динамике развития ребенка, его трудностях и достижениях, об изменении ситуации в семье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рганизует встречи родителей с учителями-предметниками с целью обмена информацией, оказания помощи родителям в организации домашней работы с учащимися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беспечивающих единство действий и способствующих выработке единых подходов к воспитанию ребенк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142920" y="2435400"/>
            <a:ext cx="35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ителями-предме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3:52:30Z</dcterms:created>
  <dc:creator>Администратор</dc:creator>
  <dc:description/>
  <dc:language>en-US</dc:language>
  <cp:lastModifiedBy>Юлия</cp:lastModifiedBy>
  <dcterms:modified xsi:type="dcterms:W3CDTF">2017-11-17T05:02:03Z</dcterms:modified>
  <cp:revision>75</cp:revision>
  <dc:subject/>
  <dc:title>Noteboo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11049</vt:lpwstr>
  </property>
</Properties>
</file>