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dt" idx="5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dd7e0e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D78BE-A7A4-481B-B2C0-8500F56FE7A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EB3D2-276A-4F67-9A9E-08A29CA0A5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45496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45496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712320"/>
            <a:ext cx="845496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6A881-9348-4B0C-AD5B-C99A0CCE96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45496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12596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9800" y="1076400"/>
            <a:ext cx="412596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12320"/>
            <a:ext cx="412596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89800" y="3712320"/>
            <a:ext cx="412596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7207E-2F67-4594-BCAB-C58C7CF768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45496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72232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5960" y="1076400"/>
            <a:ext cx="272232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74720" y="1076400"/>
            <a:ext cx="272232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712320"/>
            <a:ext cx="272232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5960" y="3712320"/>
            <a:ext cx="272232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74720" y="3712320"/>
            <a:ext cx="272232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DE5DE-B0B5-4736-91A2-AE62CB500C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45496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454960" cy="50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45496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454960" cy="50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45496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125960" cy="50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89800" y="1076400"/>
            <a:ext cx="4125960" cy="50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45496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59840"/>
            <a:ext cx="8454960" cy="41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45496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12596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9800" y="1076400"/>
            <a:ext cx="4125960" cy="50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12320"/>
            <a:ext cx="412596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45496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454960" cy="50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0FEDA-DEF5-4652-A4A0-72C7C5D18D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45496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125960" cy="50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89800" y="1076400"/>
            <a:ext cx="412596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789800" y="3712320"/>
            <a:ext cx="412596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45496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12596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89800" y="1076400"/>
            <a:ext cx="412596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12320"/>
            <a:ext cx="845496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45496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45496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12320"/>
            <a:ext cx="845496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45496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12596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9800" y="1076400"/>
            <a:ext cx="412596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12320"/>
            <a:ext cx="412596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789800" y="3712320"/>
            <a:ext cx="412596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45496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72232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5960" y="1076400"/>
            <a:ext cx="272232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74720" y="1076400"/>
            <a:ext cx="272232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12320"/>
            <a:ext cx="272232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5960" y="3712320"/>
            <a:ext cx="272232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174720" y="3712320"/>
            <a:ext cx="272232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38FADA-F3BD-4B71-9436-5D10C5911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45496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454960" cy="50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07E0D-CEC4-42F4-8CFC-4F3E1BE4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45496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454960" cy="50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00A75-9165-45C9-BB3A-CC349812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45496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125960" cy="50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89800" y="1076400"/>
            <a:ext cx="4125960" cy="50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EFC0FF-FD16-46A2-8D80-B178F1EC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45496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3AE5F-8306-469B-A675-DC5936D0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45496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454960" cy="50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8114F-41DD-4A86-9B7F-3DF1748100E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59840"/>
            <a:ext cx="8454960" cy="41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F8753-F4AC-4A15-8387-A5EDDFBF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45496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12596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89800" y="1076400"/>
            <a:ext cx="4125960" cy="50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712320"/>
            <a:ext cx="412596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001A55-7D46-4EE1-A46D-044455A9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45496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125960" cy="50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89800" y="1076400"/>
            <a:ext cx="412596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89800" y="3712320"/>
            <a:ext cx="412596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021C04-56FC-4D26-8443-F05C819B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45496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12596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89800" y="1076400"/>
            <a:ext cx="412596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712320"/>
            <a:ext cx="845496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7ED9C-BC4E-4C21-B187-1398DE17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45496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45496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712320"/>
            <a:ext cx="845496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7893B-B00B-4894-9D17-0A22C709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45496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12596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89800" y="1076400"/>
            <a:ext cx="412596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712320"/>
            <a:ext cx="412596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89800" y="3712320"/>
            <a:ext cx="412596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BCA1C-8F52-4D10-A0CA-E16F84197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45496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72232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5960" y="1076400"/>
            <a:ext cx="272232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74720" y="1076400"/>
            <a:ext cx="272232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712320"/>
            <a:ext cx="272232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5960" y="3712320"/>
            <a:ext cx="272232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74720" y="3712320"/>
            <a:ext cx="272232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BF4A5-81BE-4A87-9EB5-0AFD0A7AE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45496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125960" cy="50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89800" y="1076400"/>
            <a:ext cx="4125960" cy="50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0E59F-F450-46BE-8940-4A00F22A27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45496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BD819-E0CA-44A3-9C4A-80C44CA92F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59840"/>
            <a:ext cx="8454960" cy="41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DFD03-2DE1-40D9-BAFF-B7D36D2C9E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45496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12596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9800" y="1076400"/>
            <a:ext cx="4125960" cy="50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712320"/>
            <a:ext cx="412596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894B2-8127-4E77-9BAA-76958E1AE7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45496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125960" cy="50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9800" y="1076400"/>
            <a:ext cx="412596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89800" y="3712320"/>
            <a:ext cx="412596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9D78D-0BE1-4E58-94C5-7351945CB7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45496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12596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9800" y="1076400"/>
            <a:ext cx="412596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12320"/>
            <a:ext cx="845496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FC82A-FBD4-41B3-830C-05E7FCFE60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45496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dd7e0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76400"/>
            <a:ext cx="8454960" cy="50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43960" y="6446520"/>
            <a:ext cx="45864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2506611-356A-4CC2-920C-483CFEC50066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45496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dd7e0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076400"/>
            <a:ext cx="8454960" cy="50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612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59920"/>
            <a:ext cx="8224560" cy="11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5760" y="1653840"/>
            <a:ext cx="822456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 fontScale="70000"/>
          </a:bodyPr>
          <a:p>
            <a:pPr marL="240120" indent="0">
              <a:lnSpc>
                <a:spcPct val="93000"/>
              </a:lnSpc>
              <a:spcAft>
                <a:spcPts val="18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240120">
              <a:lnSpc>
                <a:spcPct val="93000"/>
              </a:lnSpc>
              <a:spcAft>
                <a:spcPts val="18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240120" indent="-240120">
              <a:lnSpc>
                <a:spcPct val="93000"/>
              </a:lnSpc>
              <a:spcAft>
                <a:spcPts val="18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40120" indent="-240120">
              <a:lnSpc>
                <a:spcPct val="93000"/>
              </a:lnSpc>
              <a:spcAft>
                <a:spcPts val="18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40120" indent="-240120">
              <a:lnSpc>
                <a:spcPct val="93000"/>
              </a:lnSpc>
              <a:spcAft>
                <a:spcPts val="18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40120" indent="-240120">
              <a:lnSpc>
                <a:spcPct val="93000"/>
              </a:lnSpc>
              <a:spcAft>
                <a:spcPts val="18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40120" indent="-240120">
              <a:lnSpc>
                <a:spcPct val="93000"/>
              </a:lnSpc>
              <a:spcAft>
                <a:spcPts val="18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2"/>
          </p:nvPr>
        </p:nvSpPr>
        <p:spPr>
          <a:xfrm>
            <a:off x="455760" y="6246360"/>
            <a:ext cx="212544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3"/>
          </p:nvPr>
        </p:nvSpPr>
        <p:spPr>
          <a:xfrm>
            <a:off x="3125520" y="6246360"/>
            <a:ext cx="289404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4"/>
          </p:nvPr>
        </p:nvSpPr>
        <p:spPr>
          <a:xfrm>
            <a:off x="6554880" y="6246360"/>
            <a:ext cx="212544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69F75-98F7-4B39-97F4-A7D1392F5D3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20720" y="1871640"/>
            <a:ext cx="75200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dd7e0e"/>
                </a:solidFill>
                <a:latin typeface="Mongolian Baiti"/>
                <a:ea typeface="Arial"/>
              </a:rPr>
              <a:t>Нестандартные уроки как средство повышения интереса в обучении и формирования компетенций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57200" y="160200"/>
            <a:ext cx="84582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dd7e0e"/>
                </a:solidFill>
                <a:latin typeface="Times New Roman"/>
                <a:ea typeface="Arial"/>
              </a:rPr>
              <a:t>Контрольно — обобщающие уроки (зачеты, творческие отчет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076400"/>
            <a:ext cx="845820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79280" indent="-17604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7928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DD116-347B-4F22-8F76-9BB754C5F11D}" type="slidenum">
              <a:rPr b="0" lang="ru-RU" sz="1000" spc="-1" strike="noStrike">
                <a:solidFill>
                  <a:srgbClr val="26262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2840" y="1473120"/>
            <a:ext cx="371952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456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Times New Roman"/>
              </a:rPr>
              <a:t>Виды учебной дея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Индивидуальн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редварительная подготовка (поиск и обработка информац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Обработка информации (ответы на зада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редоставление информации в необходимом ви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одведение итогов, анализ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76720" y="1422360"/>
            <a:ext cx="4464000" cy="52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Times New Roman"/>
              </a:rPr>
              <a:t>Универсальные учебные действ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Times New Roman"/>
              </a:rPr>
              <a:t>коммуникативные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умение нахождения способа взаимодействия учебного сотрудничества с учителем и сверстни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Times New Roman"/>
              </a:rPr>
              <a:t>регулятивные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формирование навыка анализа, систематизирование знаний по определенной теме, умение прогнозировать результат и уровень усво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Times New Roman"/>
              </a:rPr>
              <a:t>личностные: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умение установить учащимся связи между целью учебной деятельности и ее моти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" y="160200"/>
            <a:ext cx="84582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dd7e0e"/>
                </a:solidFill>
                <a:latin typeface="Times New Roman"/>
                <a:ea typeface="Arial"/>
              </a:rPr>
              <a:t>Коммуникативные уроки (дискуссии, «круглые столы», диспут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020CA-C761-4A55-98CA-17E880753CDC}" type="slidenum">
              <a:rPr b="0" lang="ru-RU" sz="1000" spc="-1" strike="noStrike">
                <a:solidFill>
                  <a:srgbClr val="26262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6000" y="1224000"/>
            <a:ext cx="374328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456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Times New Roman"/>
              </a:rPr>
              <a:t>Виды учебной дея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групповая раб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редварительная подготовка (поиск и обработка материа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редставление подготовленного материала на уроке (выступление докладчик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анализ и обсуждение материала (выступление оппон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закрепление полученных знаний, подведение ит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05160" y="1224000"/>
            <a:ext cx="4362480" cy="53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Универсальные учебные действ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Times New Roman"/>
              </a:rPr>
              <a:t>коммуникативные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разрешение конфликтов, идентификация проблемы, поиск и оценка альтернативных способов разрешение конфликта, принятие решения и его реализация; владение монологической и диалогической формами речи в соответствии с грамматическими и синтаксическими нормами родного язы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Times New Roman"/>
              </a:rPr>
              <a:t>регулятивные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остановка цели и формирование плана достижения цели,  прогноз суждения оппон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Times New Roman"/>
              </a:rPr>
              <a:t>личностные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формирование навыков анализа своей работы и работы оппонента, осознание своей роли и ответственности в ходе групповой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7200" y="160200"/>
            <a:ext cx="8325000" cy="60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dd7e0e"/>
                </a:solidFill>
                <a:latin typeface="Arial"/>
                <a:ea typeface="Arial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EEB97-3F49-46E6-9431-B0E68BF22563}" type="slidenum">
              <a:rPr b="0" lang="ru-RU" sz="1000" spc="-1" strike="noStrike">
                <a:solidFill>
                  <a:srgbClr val="26262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735280" y="2087640"/>
            <a:ext cx="3168720" cy="2663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временный у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79640" y="66600"/>
            <a:ext cx="2938680" cy="23814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ет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о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е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63640" y="1008000"/>
            <a:ext cx="2938320" cy="25923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 «учитьс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63640" y="3235320"/>
            <a:ext cx="2938320" cy="25970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е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с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убокого 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мысленног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вое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36960" y="1079640"/>
            <a:ext cx="2938680" cy="251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уе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равственны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36960" y="3240000"/>
            <a:ext cx="2938680" cy="25192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ится 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ой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х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79640" y="4314960"/>
            <a:ext cx="2938680" cy="230976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ится 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лективно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о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9800" y="552600"/>
            <a:ext cx="84582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dd7e0e"/>
                </a:solidFill>
                <a:latin typeface="Times New Roman"/>
                <a:ea typeface="Arial"/>
              </a:rPr>
              <a:t>Отличительные признаки нестандартных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0360" y="1601640"/>
            <a:ext cx="8458200" cy="45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76040" indent="-176040" algn="just">
              <a:lnSpc>
                <a:spcPct val="100000"/>
              </a:lnSpc>
              <a:spcBef>
                <a:spcPts val="550"/>
              </a:spcBef>
              <a:spcAft>
                <a:spcPts val="1800"/>
              </a:spcAft>
              <a:buClr>
                <a:srgbClr val="dd7e0e"/>
              </a:buClr>
              <a:buSzPct val="80000"/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самостоятельный поиск учащимися путей и вариантов решения поставленной учебной задачи (выбор одного из предложенных вариантов или нахождение собственного варианта и обоснование решени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00000"/>
              </a:lnSpc>
              <a:spcBef>
                <a:spcPts val="550"/>
              </a:spcBef>
              <a:spcAft>
                <a:spcPts val="1800"/>
              </a:spcAft>
              <a:buClr>
                <a:srgbClr val="dd7e0e"/>
              </a:buClr>
              <a:buSzPct val="80000"/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необычные условия рабо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00000"/>
              </a:lnSpc>
              <a:spcBef>
                <a:spcPts val="550"/>
              </a:spcBef>
              <a:spcAft>
                <a:spcPts val="1800"/>
              </a:spcAft>
              <a:buClr>
                <a:srgbClr val="dd7e0e"/>
              </a:buClr>
              <a:buSzPct val="80000"/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активное воспроизведение ранее полученных знаний в незнакомых услов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B1ABB-E058-426A-8877-389581E06189}" type="slidenum">
              <a:rPr b="0" lang="ru-RU" sz="1000" spc="-1" strike="noStrike">
                <a:solidFill>
                  <a:srgbClr val="26262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dur="indefinite" nodeType="click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160200"/>
            <a:ext cx="84582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ru-RU" sz="3200" spc="-1" strike="noStrike">
                <a:solidFill>
                  <a:srgbClr val="dd7e0e"/>
                </a:solidFill>
                <a:latin typeface="Times New Roman"/>
                <a:ea typeface="Arial"/>
              </a:rPr>
              <a:t>Виды нестандартных заданий</a:t>
            </a:r>
            <a:r>
              <a:rPr b="1" lang="ru-RU" sz="3200" spc="-1" strike="noStrike">
                <a:solidFill>
                  <a:srgbClr val="dd7e0e"/>
                </a:solidFill>
                <a:latin typeface="Times New Roman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544760"/>
            <a:ext cx="84582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76040" indent="-176040" algn="just">
              <a:lnSpc>
                <a:spcPct val="100000"/>
              </a:lnSpc>
              <a:spcBef>
                <a:spcPts val="550"/>
              </a:spcBef>
              <a:spcAft>
                <a:spcPts val="1800"/>
              </a:spcAft>
              <a:buClr>
                <a:srgbClr val="dd7e0e"/>
              </a:buClr>
              <a:buSzPct val="80000"/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Нестандартные задания могут быть представлены в виде проблемных ситуаций (затруднительных положений, из которых надо найти выход, используя полученные зн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00000"/>
              </a:lnSpc>
              <a:spcBef>
                <a:spcPts val="550"/>
              </a:spcBef>
              <a:spcAft>
                <a:spcPts val="1800"/>
              </a:spcAft>
              <a:buClr>
                <a:srgbClr val="dd7e0e"/>
              </a:buClr>
              <a:buSzPct val="80000"/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деловых иг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00000"/>
              </a:lnSpc>
              <a:spcBef>
                <a:spcPts val="550"/>
              </a:spcBef>
              <a:spcAft>
                <a:spcPts val="1800"/>
              </a:spcAft>
              <a:buClr>
                <a:srgbClr val="dd7e0e"/>
              </a:buClr>
              <a:buSzPct val="80000"/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конкурсов и соревнований (по принципу "кто быстрее? больше? лучше?"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100000"/>
              </a:lnSpc>
              <a:spcBef>
                <a:spcPts val="550"/>
              </a:spcBef>
              <a:spcAft>
                <a:spcPts val="1800"/>
              </a:spcAft>
              <a:buClr>
                <a:srgbClr val="dd7e0e"/>
              </a:buClr>
              <a:buSzPct val="80000"/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других заданий с элементами занимательности (житейские и фантастические ситуации, инсценировки, лингвистические сказки, загадки, "расследования"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8456F-625F-4055-B65A-25C2E7D1B379}" type="slidenum">
              <a:rPr b="0" lang="ru-RU" sz="1000" spc="-1" strike="noStrike">
                <a:solidFill>
                  <a:srgbClr val="26262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nodeType="clickEffect" fill="hold">
                      <p:stCondLst>
                        <p:cond delay="0"/>
                      </p:stCondLst>
                      <p:childTnLst>
                        <p:par>
                          <p:cTn id="2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9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dur="indefinite" nodeType="click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dur="indefinite" nodeType="click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160200"/>
            <a:ext cx="84582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Формы нестандартных уроков</a:t>
            </a: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1076400"/>
            <a:ext cx="386244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76040" indent="-176040">
              <a:spcBef>
                <a:spcPts val="550"/>
              </a:spcBef>
              <a:buClr>
                <a:srgbClr val="dd7e0e"/>
              </a:buClr>
              <a:buSzPct val="80000"/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гровые уро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70000">
              <a:lnSpc>
                <a:spcPct val="100000"/>
              </a:lnSpc>
              <a:spcBef>
                <a:spcPts val="451"/>
              </a:spcBef>
              <a:buClr>
                <a:srgbClr val="dd7e0e"/>
              </a:buClr>
              <a:buFont typeface="Arial"/>
              <a:buChar char="–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Деловая иг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70000">
              <a:lnSpc>
                <a:spcPct val="100000"/>
              </a:lnSpc>
              <a:spcBef>
                <a:spcPts val="451"/>
              </a:spcBef>
              <a:buClr>
                <a:srgbClr val="dd7e0e"/>
              </a:buClr>
              <a:buFont typeface="Arial"/>
              <a:buChar char="–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Ролевая иг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550"/>
              </a:spcBef>
              <a:buClr>
                <a:srgbClr val="dd7e0e"/>
              </a:buClr>
              <a:buSzPct val="80000"/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остязательные уро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70000">
              <a:lnSpc>
                <a:spcPct val="100000"/>
              </a:lnSpc>
              <a:spcBef>
                <a:spcPts val="451"/>
              </a:spcBef>
              <a:buClr>
                <a:srgbClr val="dd7e0e"/>
              </a:buClr>
              <a:buFont typeface="Arial"/>
              <a:buChar char="–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КВ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70000">
              <a:lnSpc>
                <a:spcPct val="100000"/>
              </a:lnSpc>
              <a:spcBef>
                <a:spcPts val="451"/>
              </a:spcBef>
              <a:buClr>
                <a:srgbClr val="dd7e0e"/>
              </a:buClr>
              <a:buFont typeface="Arial"/>
              <a:buChar char="–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Викто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550"/>
              </a:spcBef>
              <a:buClr>
                <a:srgbClr val="dd7e0e"/>
              </a:buClr>
              <a:buSzPct val="80000"/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Уроки-путеше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70000">
              <a:lnSpc>
                <a:spcPct val="100000"/>
              </a:lnSpc>
              <a:spcBef>
                <a:spcPts val="451"/>
              </a:spcBef>
              <a:buClr>
                <a:srgbClr val="dd7e0e"/>
              </a:buClr>
              <a:buFont typeface="Arial"/>
              <a:buChar char="–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Путеше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70000">
              <a:lnSpc>
                <a:spcPct val="100000"/>
              </a:lnSpc>
              <a:spcBef>
                <a:spcPts val="451"/>
              </a:spcBef>
              <a:buClr>
                <a:srgbClr val="dd7e0e"/>
              </a:buClr>
              <a:buFont typeface="Arial"/>
              <a:buChar char="–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Заочная экскур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550"/>
              </a:spcBef>
              <a:buClr>
                <a:srgbClr val="dd7e0e"/>
              </a:buClr>
              <a:buSzPct val="80000"/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ммуникативные уро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70000">
              <a:lnSpc>
                <a:spcPct val="100000"/>
              </a:lnSpc>
              <a:spcBef>
                <a:spcPts val="451"/>
              </a:spcBef>
              <a:buClr>
                <a:srgbClr val="dd7e0e"/>
              </a:buClr>
              <a:buFont typeface="Arial"/>
              <a:buChar char="–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Ди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70000">
              <a:lnSpc>
                <a:spcPct val="100000"/>
              </a:lnSpc>
              <a:spcBef>
                <a:spcPts val="451"/>
              </a:spcBef>
              <a:buClr>
                <a:srgbClr val="dd7e0e"/>
              </a:buClr>
              <a:buFont typeface="Arial"/>
              <a:buChar char="–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Диску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70000">
              <a:lnSpc>
                <a:spcPct val="100000"/>
              </a:lnSpc>
              <a:spcBef>
                <a:spcPts val="451"/>
              </a:spcBef>
              <a:buClr>
                <a:srgbClr val="dd7e0e"/>
              </a:buClr>
              <a:buFont typeface="Arial"/>
              <a:buChar char="–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«Круглый сто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8F296-7FD5-4A4E-8AE4-7CED389E6174}" type="slidenum">
              <a:rPr b="0" lang="ru-RU" sz="1000" spc="-1" strike="noStrike">
                <a:solidFill>
                  <a:srgbClr val="26262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1071720"/>
            <a:ext cx="457200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6040" indent="-176040">
              <a:spcBef>
                <a:spcPts val="550"/>
              </a:spcBef>
              <a:buClr>
                <a:srgbClr val="dd7e0e"/>
              </a:buClr>
              <a:buSzPct val="80000"/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нтегрированные уро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70000">
              <a:lnSpc>
                <a:spcPct val="100000"/>
              </a:lnSpc>
              <a:spcBef>
                <a:spcPts val="451"/>
              </a:spcBef>
              <a:buClr>
                <a:srgbClr val="dd7e0e"/>
              </a:buClr>
              <a:buFont typeface="Arial"/>
              <a:buChar char="–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Химия – б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70000">
              <a:lnSpc>
                <a:spcPct val="100000"/>
              </a:lnSpc>
              <a:spcBef>
                <a:spcPts val="451"/>
              </a:spcBef>
              <a:buClr>
                <a:srgbClr val="dd7e0e"/>
              </a:buClr>
              <a:buFont typeface="Arial"/>
              <a:buChar char="–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Химия – ге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70000">
              <a:lnSpc>
                <a:spcPct val="100000"/>
              </a:lnSpc>
              <a:spcBef>
                <a:spcPts val="451"/>
              </a:spcBef>
              <a:buClr>
                <a:srgbClr val="dd7e0e"/>
              </a:buClr>
              <a:buFont typeface="Arial"/>
              <a:buChar char="–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Химия – физ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70000">
              <a:lnSpc>
                <a:spcPct val="100000"/>
              </a:lnSpc>
              <a:spcBef>
                <a:spcPts val="451"/>
              </a:spcBef>
              <a:buClr>
                <a:srgbClr val="dd7e0e"/>
              </a:buClr>
              <a:buFont typeface="Arial"/>
              <a:buChar char="–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Химия - 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550"/>
              </a:spcBef>
              <a:buClr>
                <a:srgbClr val="dd7e0e"/>
              </a:buClr>
              <a:buSzPct val="80000"/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нтрольно-обобщающие уро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70000">
              <a:lnSpc>
                <a:spcPct val="100000"/>
              </a:lnSpc>
              <a:spcBef>
                <a:spcPts val="451"/>
              </a:spcBef>
              <a:buClr>
                <a:srgbClr val="dd7e0e"/>
              </a:buClr>
              <a:buFont typeface="Arial"/>
              <a:buChar char="–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За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70000">
              <a:lnSpc>
                <a:spcPct val="100000"/>
              </a:lnSpc>
              <a:spcBef>
                <a:spcPts val="451"/>
              </a:spcBef>
              <a:buClr>
                <a:srgbClr val="dd7e0e"/>
              </a:buClr>
              <a:buFont typeface="Arial"/>
              <a:buChar char="–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Творческие 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550"/>
              </a:spcBef>
              <a:buClr>
                <a:srgbClr val="dd7e0e"/>
              </a:buClr>
              <a:buSzPct val="80000"/>
              <a:buFont typeface="Wingdings" charset="2"/>
              <a:buChar char="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Уроки самостоятельной рабо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70000">
              <a:lnSpc>
                <a:spcPct val="100000"/>
              </a:lnSpc>
              <a:spcBef>
                <a:spcPts val="451"/>
              </a:spcBef>
              <a:buClr>
                <a:srgbClr val="dd7e0e"/>
              </a:buClr>
              <a:buFont typeface="Arial"/>
              <a:buChar char="–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70000">
              <a:lnSpc>
                <a:spcPct val="100000"/>
              </a:lnSpc>
              <a:spcBef>
                <a:spcPts val="451"/>
              </a:spcBef>
              <a:buClr>
                <a:srgbClr val="dd7e0e"/>
              </a:buClr>
              <a:buFont typeface="Arial"/>
              <a:buChar char="–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Экспери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70000">
              <a:lnSpc>
                <a:spcPct val="100000"/>
              </a:lnSpc>
              <a:spcBef>
                <a:spcPts val="451"/>
              </a:spcBef>
              <a:buClr>
                <a:srgbClr val="dd7e0e"/>
              </a:buClr>
              <a:buFont typeface="Arial"/>
              <a:buChar char="–"/>
              <a:tabLst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  <a:ea typeface="Arial"/>
              </a:rPr>
              <a:t>Проект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0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77800" y="216000"/>
            <a:ext cx="799164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dd7e0e"/>
                </a:solidFill>
                <a:latin typeface="Times New Roman"/>
                <a:ea typeface="Arial"/>
              </a:rPr>
              <a:t>Овладение системой УУ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0720" y="1511280"/>
            <a:ext cx="8207280" cy="936720"/>
          </a:xfrm>
          <a:prstGeom prst="rect">
            <a:avLst/>
          </a:prstGeom>
          <a:gradFill rotWithShape="0">
            <a:gsLst>
              <a:gs pos="0">
                <a:srgbClr val="fcaf3e"/>
              </a:gs>
              <a:gs pos="100000">
                <a:srgbClr val="ce5c00"/>
              </a:gs>
            </a:gsLst>
            <a:lin ang="3600000"/>
          </a:gradFill>
          <a:ln cap="rnd"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7040" bIns="45000" anchor="ctr">
            <a:noAutofit/>
          </a:bodyPr>
          <a:p>
            <a:pPr marL="539640">
              <a:lnSpc>
                <a:spcPct val="93000"/>
              </a:lnSpc>
              <a:tabLst>
                <a:tab algn="l" pos="0"/>
                <a:tab algn="l" pos="539640"/>
                <a:tab algn="l" pos="987480"/>
                <a:tab algn="l" pos="1436760"/>
                <a:tab algn="l" pos="1886040"/>
                <a:tab algn="l" pos="2335320"/>
                <a:tab algn="l" pos="2784600"/>
                <a:tab algn="l" pos="3233880"/>
                <a:tab algn="l" pos="3683160"/>
                <a:tab algn="l" pos="4132440"/>
                <a:tab algn="l" pos="4581360"/>
                <a:tab algn="l" pos="5030640"/>
                <a:tab algn="l" pos="5479920"/>
                <a:tab algn="l" pos="5929200"/>
                <a:tab algn="l" pos="6378480"/>
                <a:tab algn="l" pos="6827760"/>
                <a:tab algn="l" pos="7277040"/>
                <a:tab algn="l" pos="7726320"/>
                <a:tab algn="l" pos="8175600"/>
                <a:tab algn="l" pos="8624880"/>
                <a:tab algn="l" pos="9074160"/>
                <a:tab algn="l" pos="952344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20720" y="2590920"/>
            <a:ext cx="8207280" cy="936360"/>
          </a:xfrm>
          <a:prstGeom prst="rect">
            <a:avLst/>
          </a:prstGeom>
          <a:gradFill rotWithShape="0">
            <a:gsLst>
              <a:gs pos="0">
                <a:srgbClr val="fcaf3e"/>
              </a:gs>
              <a:gs pos="100000">
                <a:srgbClr val="ce5c00"/>
              </a:gs>
            </a:gsLst>
            <a:lin ang="3600000"/>
          </a:gra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7040" bIns="45000" anchor="ctr">
            <a:noAutofit/>
          </a:bodyPr>
          <a:p>
            <a:pPr marL="539640">
              <a:lnSpc>
                <a:spcPct val="93000"/>
              </a:lnSpc>
              <a:tabLst>
                <a:tab algn="l" pos="0"/>
                <a:tab algn="l" pos="539640"/>
                <a:tab algn="l" pos="987480"/>
                <a:tab algn="l" pos="1436760"/>
                <a:tab algn="l" pos="1886040"/>
                <a:tab algn="l" pos="2335320"/>
                <a:tab algn="l" pos="2784600"/>
                <a:tab algn="l" pos="3233880"/>
                <a:tab algn="l" pos="3683160"/>
                <a:tab algn="l" pos="4132440"/>
                <a:tab algn="l" pos="4581360"/>
                <a:tab algn="l" pos="5030640"/>
                <a:tab algn="l" pos="5479920"/>
                <a:tab algn="l" pos="5929200"/>
                <a:tab algn="l" pos="6378480"/>
                <a:tab algn="l" pos="6827760"/>
                <a:tab algn="l" pos="7277040"/>
                <a:tab algn="l" pos="7726320"/>
                <a:tab algn="l" pos="8175600"/>
                <a:tab algn="l" pos="8624880"/>
                <a:tab algn="l" pos="9074160"/>
                <a:tab algn="l" pos="952344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гулятив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20720" y="3672000"/>
            <a:ext cx="8207280" cy="936360"/>
          </a:xfrm>
          <a:prstGeom prst="rect">
            <a:avLst/>
          </a:prstGeom>
          <a:gradFill rotWithShape="0">
            <a:gsLst>
              <a:gs pos="0">
                <a:srgbClr val="fcaf3e"/>
              </a:gs>
              <a:gs pos="100000">
                <a:srgbClr val="ce5c00"/>
              </a:gs>
            </a:gsLst>
            <a:lin ang="3600000"/>
          </a:gra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7040" bIns="45000" anchor="ctr">
            <a:noAutofit/>
          </a:bodyPr>
          <a:p>
            <a:pPr marL="539640">
              <a:lnSpc>
                <a:spcPct val="93000"/>
              </a:lnSpc>
              <a:tabLst>
                <a:tab algn="l" pos="0"/>
                <a:tab algn="l" pos="539640"/>
                <a:tab algn="l" pos="987480"/>
                <a:tab algn="l" pos="1436760"/>
                <a:tab algn="l" pos="1886040"/>
                <a:tab algn="l" pos="2335320"/>
                <a:tab algn="l" pos="2784600"/>
                <a:tab algn="l" pos="3233880"/>
                <a:tab algn="l" pos="3683160"/>
                <a:tab algn="l" pos="4132440"/>
                <a:tab algn="l" pos="4581360"/>
                <a:tab algn="l" pos="5030640"/>
                <a:tab algn="l" pos="5479920"/>
                <a:tab algn="l" pos="5929200"/>
                <a:tab algn="l" pos="6378480"/>
                <a:tab algn="l" pos="6827760"/>
                <a:tab algn="l" pos="7277040"/>
                <a:tab algn="l" pos="7726320"/>
                <a:tab algn="l" pos="8175600"/>
                <a:tab algn="l" pos="8624880"/>
                <a:tab algn="l" pos="9074160"/>
                <a:tab algn="l" pos="952344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ммуникатив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0720" y="4751280"/>
            <a:ext cx="8207280" cy="936720"/>
          </a:xfrm>
          <a:prstGeom prst="rect">
            <a:avLst/>
          </a:prstGeom>
          <a:gradFill rotWithShape="0">
            <a:gsLst>
              <a:gs pos="0">
                <a:srgbClr val="fcaf3e"/>
              </a:gs>
              <a:gs pos="100000">
                <a:srgbClr val="ce5c00"/>
              </a:gs>
            </a:gsLst>
            <a:lin ang="3600000"/>
          </a:gra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7040" bIns="45000" anchor="ctr">
            <a:noAutofit/>
          </a:bodyPr>
          <a:p>
            <a:pPr marL="539640">
              <a:lnSpc>
                <a:spcPct val="93000"/>
              </a:lnSpc>
              <a:tabLst>
                <a:tab algn="l" pos="0"/>
                <a:tab algn="l" pos="539640"/>
                <a:tab algn="l" pos="987480"/>
                <a:tab algn="l" pos="1436760"/>
                <a:tab algn="l" pos="1886040"/>
                <a:tab algn="l" pos="2335320"/>
                <a:tab algn="l" pos="2784600"/>
                <a:tab algn="l" pos="3233880"/>
                <a:tab algn="l" pos="3683160"/>
                <a:tab algn="l" pos="4132440"/>
                <a:tab algn="l" pos="4581360"/>
                <a:tab algn="l" pos="5030640"/>
                <a:tab algn="l" pos="5479920"/>
                <a:tab algn="l" pos="5929200"/>
                <a:tab algn="l" pos="6378480"/>
                <a:tab algn="l" pos="6827760"/>
                <a:tab algn="l" pos="7277040"/>
                <a:tab algn="l" pos="7726320"/>
                <a:tab algn="l" pos="8175600"/>
                <a:tab algn="l" pos="8624880"/>
                <a:tab algn="l" pos="9074160"/>
                <a:tab algn="l" pos="952344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знаватель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160200"/>
            <a:ext cx="84582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dd7e0e"/>
                </a:solidFill>
                <a:latin typeface="Times New Roman"/>
                <a:ea typeface="Arial"/>
              </a:rPr>
              <a:t>Игровые уроки (деловая игр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12720"/>
            <a:ext cx="845820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79280" indent="-17604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17928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3A28B-134D-477B-8B4C-0BBD12E5CE2A}" type="slidenum">
              <a:rPr b="0" lang="ru-RU" sz="1000" spc="-1" strike="noStrike">
                <a:solidFill>
                  <a:srgbClr val="26262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3280" y="979560"/>
            <a:ext cx="352728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456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Times New Roman"/>
              </a:rPr>
              <a:t>Виды учебной деятель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работа в групп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редварительная подготовка (поиск и обработка материал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редставление подготовленного материала на уроке (выступление докладчиков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анализ и обсуждение материала (выступление оппонентов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закрепление полученных знаний, подведение ит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19640" y="1006560"/>
            <a:ext cx="4248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Times New Roman"/>
              </a:rPr>
              <a:t>Универсальные учебные дей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Times New Roman"/>
              </a:rPr>
              <a:t>коммуникативные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выражают свои мысли, отстаивают свою позицию, ведут диалог, слушают и слышат своих оппон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Times New Roman"/>
              </a:rPr>
              <a:t>регулятивные: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ланируют сотрудничество с одноклассниками в поиске информации, ставят конкретную цель и составляют алгоритм ее достижения, корректируют планы по ходу обсу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Times New Roman"/>
              </a:rPr>
              <a:t>личностные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анализируют свою деятельность, осознают свою роль и ответственность в ходе группов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57200" y="160200"/>
            <a:ext cx="84582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dd7e0e"/>
                </a:solidFill>
                <a:latin typeface="Times New Roman"/>
                <a:ea typeface="Arial"/>
              </a:rPr>
              <a:t>Состязательные уроки (КВН, виктори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371600"/>
            <a:ext cx="84582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79280" indent="-17604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17928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1C467-1EA5-407E-9251-61AE1089EF81}" type="slidenum">
              <a:rPr b="0" lang="ru-RU" sz="1000" spc="-1" strike="noStrike">
                <a:solidFill>
                  <a:srgbClr val="26262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1047600"/>
            <a:ext cx="3790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456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Times New Roman"/>
              </a:rPr>
              <a:t>Виды учебной дея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Групповая раб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редварительная подготовка (поиск и обработка информации в творческом вид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редставление материала (инсценировка материа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Анализ материала (ответы на зада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одведение ит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64000" y="1047600"/>
            <a:ext cx="4451400" cy="48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Times New Roman"/>
              </a:rPr>
              <a:t>Универсальные учебные действ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Times New Roman"/>
              </a:rPr>
              <a:t>коммуникативные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лушают и вступают в диалог, участвуют в коллективном обсуждении проблем, осуществляют поиск решения конфликтных ситу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Times New Roman"/>
              </a:rPr>
              <a:t>регулятивные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формулируют быстрые и точные ответы, вырабатывают план действий в условиях соревн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Times New Roman"/>
              </a:rPr>
              <a:t>личностные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оотносят поступки и события с принятыми этическими принципами, соблюдают моральные нормы поведения, уважают мнение оппон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57200" y="160200"/>
            <a:ext cx="84582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dd7e0e"/>
                </a:solidFill>
                <a:latin typeface="Times New Roman"/>
                <a:ea typeface="Arial"/>
              </a:rPr>
              <a:t>Уроки — путешествия (путешествия и экскурс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076400"/>
            <a:ext cx="845820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79280" indent="-17604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79280"/>
                <a:tab algn="l" pos="627120"/>
                <a:tab algn="l" pos="107640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10016-893D-4D82-BE87-58CED349BD97}" type="slidenum">
              <a:rPr b="0" lang="ru-RU" sz="1000" spc="-1" strike="noStrike">
                <a:solidFill>
                  <a:srgbClr val="26262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473120"/>
            <a:ext cx="371952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456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Times New Roman"/>
              </a:rPr>
              <a:t>Виды учебной дея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Коллективная деятельность кла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редварительная подготовка (поиск и обработка информац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Обработка информации (ответы на зада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одведение ит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48000" y="1440000"/>
            <a:ext cx="431964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Times New Roman"/>
              </a:rPr>
              <a:t>Универсальные учебные действ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Times New Roman"/>
              </a:rPr>
              <a:t>коммуникативные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умение взаимодействовать с каждым членом команды, распределение функций участ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Times New Roman"/>
              </a:rPr>
              <a:t>регулятивные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умение продемонстрировать свои знания, умения, навыки по изучаемой те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Times New Roman"/>
              </a:rPr>
              <a:t>личностные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ование навыков анализа в применении знаний на практике, осознание своей роли и ответственности в ходе группов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8T09:27:04Z</dcterms:created>
  <dc:creator>Wolf</dc:creator>
  <dc:description/>
  <dc:language>en-US</dc:language>
  <cp:lastModifiedBy/>
  <dcterms:modified xsi:type="dcterms:W3CDTF">2017-11-01T09:22:26Z</dcterms:modified>
  <cp:revision>88</cp:revision>
  <dc:subject/>
  <dc:title>Слайд 1</dc:title>
</cp:coreProperties>
</file>