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3EF-CBD5-44C8-80DB-7535B32D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63B-F941-4C34-9839-A404A023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E1F-7201-46DB-AD45-7B3CB1D9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F03-36DD-46DE-9C16-23ACCEE3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068-9466-4F44-B100-7477731B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0F5-B375-4F43-A519-30D02BBA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3F0-E7F9-4041-B393-F19F88A1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9C5-09FA-4537-8AA1-AB9D3797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02B-F3B7-4BB2-BE65-2DEB810F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8D7-E911-41B9-9062-CCB8119A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B5D-B551-4C2E-95BD-2767A09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843-6AE1-4217-A207-148E4F37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917A-41B5-48EE-A41A-107EC875D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4876560" cy="3008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523880" y="228600"/>
            <a:ext cx="62485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оспитание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бережного и заботливого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отношения к природе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как одна из сторон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формирования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экологически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ориентированной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личности ребенк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4114800"/>
            <a:ext cx="33526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ГБОУ Школа 1929 ДО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Красоткина Д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Воспитатель </a:t>
            </a: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I </a:t>
            </a:r>
            <a:r>
              <a:rPr b="1" lang="ru-RU" sz="1400" spc="-1" strike="noStrike">
                <a:solidFill>
                  <a:srgbClr val="008000"/>
                </a:solidFill>
                <a:latin typeface="Times New Roman"/>
              </a:rPr>
              <a:t>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457200"/>
            <a:ext cx="84582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Экологическая воспитанность дошкольника выражается в гуманно-ценностном отношении к природе, основными проявлениями которого служат: доброжелательное отношение к живому, эмоциональная отзывчивость, интерес к природным объектам, стремление осуществлять с ними взаимодействие, учитывая их особенности как живых существ, желание и умение заботиться о живых существах, создавать условия, необходимые для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5257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38088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Для формирования бережного отношения к природе необходимо соблюдать решение следующи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развитие у детей дошкольного возраста экологических представлений, знаний о ценности природы и правилах поведения в н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формирование умений разнообразной деятельности в природе и становление экологически ориентированного взаимодействия с её объект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накопление детьми эмоционально позитивного опыта общения с прир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352680" y="3048120"/>
            <a:ext cx="52578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815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Для этого необходимо соблюдать следующие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готовность педагога к осуществлению экологического воспита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личностно-ориентированным взаимодействием взрослого и ребёнка в процессе освоения зада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постоянным общением детей с природой ближайшего ок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построением экологически развивающей среды в дошкольном учрежд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активном участии родителей в воспитательн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33720" y="3048120"/>
            <a:ext cx="50482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609480"/>
            <a:ext cx="815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Любовь к природе должна прививаться с детства. С ранних лет необходимо убеждать детей в необходимости гуманного, любовного, бережного отношения ко всему живому, учить видеть красоту природы, думать о ней. И чем раньше маленький человек познакомится с миром природы, тем быстрее пробудиться в нём чувство прекрас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56390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380880"/>
            <a:ext cx="76197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оспитание у детей любви к природе представляет собой сложный общественный процесс, зависящий от семьи, от примера старших, от правильной глубоко продуманной системы воспитания и обучения детей в детском са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2485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38124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емаловажным фактором в формировании экологического сознания детей  является правильная организация эколого - развивающей среды в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Эколого-развивающая среда - важное условие экологического образования детей дошкольного возраста. Организованная в соответствии с педагогическими и санитарно-гигиеническими требованиями, такая среда выполняет множество функций (развивающая, адаптационная, оздоровительная, корректирующая, воспитательная, познавательная, практико-ориентировочная и д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3049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Такая среда обеспечивает постоянное общение с природой, способствует воспитанию основ экологической культуры, формированию экологически целесообразного поведения, экологизации различных видов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рирода с её необычным разнообразием явлений, животных и растений производит на детей сильное впечат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457200"/>
            <a:ext cx="7640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сновными элементами эколого-развивающей среды в дошкольных учреждениях принято считать уголок природы и зелёные зоны на участке. Актуален вариативный подход к организации уголков природы. Это могут быть традиционные (комната природы, зимний сад, живые уголки в группах) и нетрадиционные элементы природной среды (экологическая лаборатория, фитобар и д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38680" y="2362320"/>
            <a:ext cx="3257640" cy="4343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666880" y="449568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080" y="457200"/>
            <a:ext cx="739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Уголок  природы в ДОУ выполняет  следующие функции: социокультурную; интеллектуально - познавательную; направленную на развитие эмоционально- личностной сферы дошкольника;  эстетическую; формирующую навыки позитивно- ориентированного взаимодействия с предметами и объектами природного окру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4038840" cy="2462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648320" cy="315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311760"/>
            <a:ext cx="7766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Цели эколого-развивающей среды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Демонстрация воспитателем, образца (эталона) взаимодействия человека с природой, в котором, реализуется экологический подход ко всему живому, гуманное отнош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Демонстрация   способов  общения   с объектами природы, обеспечивающих заинтересованное,   эмоционально   окрашенное,     практическое     взаимодействие     с н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Ненавязчивое   обучение   детей   приемам и операциям  по уходу за растениями    и    животными,    построенное    на основе  понимания  потребностей  живого орган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Косвенное обучение диалогу, вопросно-ответной речи, умению слушать и слышать   другого   человека,   реагировать   на его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"Развитие наблюдательности, формирование   понимания   причинно-следственных связей в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762120"/>
            <a:ext cx="74678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Экологически воспитанная личность характеризуется сформированным экологическим сознанием, экологически ориентированными поведением и деятельностью в природе, гуманным, природоохранным отнош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556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457200"/>
            <a:ext cx="814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Забота взрослых и дошкольников о растениях и животных, создание и поддержание необходимых условий для всех живых существ, находящихся в жизненном пространстве детей, являются главным методом экологического воспитания — методом, который обеспечивает развитие начал экологического сознания, формирование первых практических умений должного взаимодействия с природой ближайшего окру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4419720" cy="356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29200" y="25909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5940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Эффективность экологического воспитания дошкольников целиком зависит от создания и правильного использования развивающей экологической среды, а также от систематической работы с дет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53020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33520"/>
            <a:ext cx="819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Результатом экологического воспитания является экологическая культура личности. Составные экологической культуры личности дошкольника - это знания о природе и их экологическая направленность, умение использовать их в реальной жизни, в поведении, в разнообразной деятельности (в играх, труде, бы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64771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457200"/>
            <a:ext cx="715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 начале 21 века народы мира решают вопросы, затрагивающие интересы всего человечества. Одна из главных проблем - экологическая. Именно в детстве человек повышенно внимателен к отношению окружающих к чему бы то ни было. Задача сегодняшнего дня - воспитать планетарный патриотизм у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62320" y="22096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57200"/>
            <a:ext cx="73152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знавая, ребёнок осваивает представления о связях в природе и социуме, о многообразии ценностей природы Земли. В связи с этим возрастают возможности операциональной стороны интеллекта: совершенствуются познавательные умения, наблюдательность и познавательный интерес, способность понимать последствия поступков и осознавать возможность соблюдения норм и правил поведения в природе. Это позволяет детям применять полученные знания и умения в повседневном общении с прир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2971800"/>
            <a:ext cx="67341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8080" y="609480"/>
            <a:ext cx="6705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лохий З. П. рассматривал экологическую культуру дошкольника как уровень восприятия ребёнком природы, окружающего мира и оценка своего положения во вселенной, отношение к миру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601992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304920"/>
            <a:ext cx="845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оспитание заботливого отношения к окружающей природной среде у детей раннего возраста закладывается в семье и продолжает формироваться в дошкольные годы в детском саду. Программами по воспитанию и обучению детей дошкольного возраста  предусмотрено воспитание у детей любви и бережного отношения к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15320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533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Именно дошкольный период-это начальный этап формирования личности человека, его ценностной ориентации в окружающем мире. В этот период закладывается позитивное отношение к природе, к себе и к окружающим люд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057400" y="2286000"/>
            <a:ext cx="51055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533520"/>
            <a:ext cx="758376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Основным содержанием экологического воспитания является формирование у ребёнка осознанно-правильного отношения к природе. Такое отношение строится на чувственном её восприятии, эмоциональном отношении к природе, знании особенностей жизни, роста и развития отдельных живых существ, знании приспособительных зависимостей существования живых организмов от факторов внешн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2538360"/>
            <a:ext cx="61722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0T09:44:26Z</dcterms:created>
  <dc:creator>Михаил</dc:creator>
  <dc:description/>
  <dc:language>en-US</dc:language>
  <cp:lastModifiedBy>Михаил</cp:lastModifiedBy>
  <dcterms:modified xsi:type="dcterms:W3CDTF">2018-02-03T13:13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