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EF7-9E3F-4743-98F2-06B05FA4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5AB-38C8-44DA-8011-E6BBA8C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077-6477-48C7-8608-C4BECC9A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FD3-8D00-4597-88E6-86ECD889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8E1-7702-49B6-8AAE-641C69B7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092-431D-406A-AC44-F6E57444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88E-3C5C-420F-95C2-D4C1983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519C-0109-48C5-8CD6-5E00B070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C197-0DF9-43C2-914E-B10ADDF3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8A3-2A99-414F-97EC-3F85024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FEF5-05B4-47F9-8C6F-C0A118B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F08-FA2E-46CA-B023-F5BC7F5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B56-6170-4BBF-8E9E-1F7714A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42F9-2DB1-445F-9EBD-B241F9D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24E4-292A-4284-B05F-63FF29E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DC7-0486-4808-AFAC-4CBEBE93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1AFB-D334-4F31-A3E6-AF04BF35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CF5-B99B-400E-8D86-F3D2F8B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D9F-BAB7-410B-8251-52849206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C6C-F255-4CF0-8938-6BA44B2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948-2126-4D04-9B54-CD205762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3C8-673B-4EE4-BA69-B06074E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010-21F9-41E1-90DF-399495E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C9A-4BEF-43A0-B423-BE0DCA5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9C5-FE3F-49BA-80DE-EE7F369E08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41E1-ADD2-417A-A5A4-0A9BECD08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Есть у ребят зеленый дру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Веселый друг, хороши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Он им протянет сотни рук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И тысячи ладошек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92080" y="4092120"/>
            <a:ext cx="53370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нквей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емучий, гу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ит, защищает, выделяет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с – место обитания множества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ма урока: Тайга. Зона смешанных лес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: познакомиться с географическим положением зоны лесов, с растительным и животным мир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1T14:30:26Z</dcterms:created>
  <dc:creator>Samsung</dc:creator>
  <dc:description/>
  <dc:language>en-US</dc:language>
  <cp:lastModifiedBy>Samsung</cp:lastModifiedBy>
  <dcterms:modified xsi:type="dcterms:W3CDTF">2018-02-01T15:17:3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