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165-1F1C-4D3C-B3D4-552B4837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7F1-20FA-4221-8798-C1D392E7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06F-FDB8-43E9-B4CB-02277FE2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CF0-FF53-4A3B-97AA-F7DD2143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5DFE-B84B-48DF-8FEE-8165CFCC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2E1-0E29-4BBF-BCDF-589D84DF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CEC-AE4D-4090-A4E0-8A186A56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477-3164-4909-ACB1-F0F98569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191-2F52-4049-B51E-62F20CCC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B23-1DA2-4379-8AE0-1819C389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E04-D3D7-4BEB-BD50-8B7E9A08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80B-88A0-4DB9-B800-F7823FA0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A47D-52EF-4E3F-8DC6-DCC8C5B64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2"/>
          <a:stretch/>
        </p:blipFill>
        <p:spPr>
          <a:xfrm>
            <a:off x="1395360" y="1127160"/>
            <a:ext cx="67849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1547640" y="1268280"/>
            <a:ext cx="648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620640"/>
            <a:ext cx="6624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_AlgeriusRough"/>
              </a:rPr>
              <a:t>Обращения распростран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_AlgeriusRough"/>
              </a:rPr>
              <a:t>по общественным заведения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Я\Desktop\елка\DSC04510.JPG"/>
          <p:cNvPicPr/>
          <p:nvPr/>
        </p:nvPicPr>
        <p:blipFill>
          <a:blip r:embed="rId1"/>
          <a:stretch/>
        </p:blipFill>
        <p:spPr>
          <a:xfrm rot="20742000">
            <a:off x="261720" y="2308320"/>
            <a:ext cx="3127320" cy="2344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Я\Desktop\елка\DSC04511.JPG"/>
          <p:cNvPicPr/>
          <p:nvPr/>
        </p:nvPicPr>
        <p:blipFill>
          <a:blip r:embed="rId2"/>
          <a:stretch/>
        </p:blipFill>
        <p:spPr>
          <a:xfrm rot="20635200">
            <a:off x="4781520" y="1467000"/>
            <a:ext cx="3344760" cy="25081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6"/>
          <p:cNvSpPr/>
          <p:nvPr/>
        </p:nvSpPr>
        <p:spPr>
          <a:xfrm rot="20695200">
            <a:off x="191880" y="2309760"/>
            <a:ext cx="25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швейная  масте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 rot="20598000">
            <a:off x="5291280" y="1179360"/>
            <a:ext cx="295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арикмахе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Users\Я\Desktop\елка\DSC04513.JPG"/>
          <p:cNvPicPr/>
          <p:nvPr/>
        </p:nvPicPr>
        <p:blipFill>
          <a:blip r:embed="rId3"/>
          <a:stretch/>
        </p:blipFill>
        <p:spPr>
          <a:xfrm rot="20659800">
            <a:off x="2155680" y="4253040"/>
            <a:ext cx="2990880" cy="2243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9"/>
          <p:cNvSpPr/>
          <p:nvPr/>
        </p:nvSpPr>
        <p:spPr>
          <a:xfrm rot="20524800">
            <a:off x="2712960" y="5955840"/>
            <a:ext cx="266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книжный  мага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Users\Я\Desktop\елка\DSC04514.JPG"/>
          <p:cNvPicPr/>
          <p:nvPr/>
        </p:nvPicPr>
        <p:blipFill>
          <a:blip r:embed="rId4"/>
          <a:stretch/>
        </p:blipFill>
        <p:spPr>
          <a:xfrm rot="20712600">
            <a:off x="5572080" y="4088880"/>
            <a:ext cx="3252960" cy="2259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1"/>
          <p:cNvSpPr/>
          <p:nvPr/>
        </p:nvSpPr>
        <p:spPr>
          <a:xfrm rot="20695200">
            <a:off x="6681960" y="3895560"/>
            <a:ext cx="197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агазин о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2"/>
          <p:cNvSpPr/>
          <p:nvPr/>
        </p:nvSpPr>
        <p:spPr>
          <a:xfrm>
            <a:off x="1116000" y="1341360"/>
            <a:ext cx="69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_AlgeriusRough"/>
              </a:rPr>
              <a:t>а так же разместили на доски объявлений  на подъездах про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Я\Desktop\елка\DSC04516.JPG"/>
          <p:cNvPicPr/>
          <p:nvPr/>
        </p:nvPicPr>
        <p:blipFill>
          <a:blip r:embed="rId1"/>
          <a:stretch/>
        </p:blipFill>
        <p:spPr>
          <a:xfrm>
            <a:off x="1042920" y="2852640"/>
            <a:ext cx="2795760" cy="2097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Рисунок7556565251.jpg"/>
          <p:cNvPicPr/>
          <p:nvPr/>
        </p:nvPicPr>
        <p:blipFill>
          <a:blip r:embed="rId2"/>
          <a:stretch/>
        </p:blipFill>
        <p:spPr>
          <a:xfrm>
            <a:off x="3924360" y="2205000"/>
            <a:ext cx="424332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2"/>
          <p:cNvSpPr/>
          <p:nvPr/>
        </p:nvSpPr>
        <p:spPr>
          <a:xfrm>
            <a:off x="1258920" y="1052640"/>
            <a:ext cx="691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_AlgeriusRough"/>
              </a:rPr>
              <a:t>В детском саду прошла выставка  «Альтернатива   Новогодней   е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Я\Desktop\DSC04524.JPG"/>
          <p:cNvPicPr/>
          <p:nvPr/>
        </p:nvPicPr>
        <p:blipFill>
          <a:blip r:embed="rId1"/>
          <a:stretch/>
        </p:blipFill>
        <p:spPr>
          <a:xfrm>
            <a:off x="1187280" y="1989000"/>
            <a:ext cx="669780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2"/>
          <p:cNvSpPr/>
          <p:nvPr/>
        </p:nvSpPr>
        <p:spPr>
          <a:xfrm>
            <a:off x="1187280" y="836640"/>
            <a:ext cx="6769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_AlgeriusRough"/>
              </a:rPr>
              <a:t>В группе поставили искусственную ёлочку и вместе наряж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Рисунок17425.jpg"/>
          <p:cNvPicPr/>
          <p:nvPr/>
        </p:nvPicPr>
        <p:blipFill>
          <a:blip r:embed="rId1"/>
          <a:stretch/>
        </p:blipFill>
        <p:spPr>
          <a:xfrm>
            <a:off x="1763640" y="1773360"/>
            <a:ext cx="53960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4"/>
          <p:cNvSpPr/>
          <p:nvPr/>
        </p:nvSpPr>
        <p:spPr>
          <a:xfrm>
            <a:off x="971640" y="1413000"/>
            <a:ext cx="763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_AlgeriusRough"/>
              </a:rPr>
              <a:t>Дети получили новые знания, общение 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_AlgeriusRough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_AlgeriusRough"/>
              </a:rPr>
              <a:t>удовольств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_AlgeriusRough"/>
              </a:rPr>
              <a:t>С новым 2018 годом!!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G:\DCIM\101MSDCF\DSC04559.JPG"/>
          <p:cNvPicPr/>
          <p:nvPr/>
        </p:nvPicPr>
        <p:blipFill>
          <a:blip r:embed="rId1"/>
          <a:stretch/>
        </p:blipFill>
        <p:spPr>
          <a:xfrm>
            <a:off x="2916360" y="2276640"/>
            <a:ext cx="3317760" cy="44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4"/>
          <p:cNvSpPr/>
          <p:nvPr/>
        </p:nvSpPr>
        <p:spPr>
          <a:xfrm>
            <a:off x="971640" y="1197000"/>
            <a:ext cx="7632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_AlgeriusRough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414360" y="469800"/>
            <a:ext cx="819324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042920" y="1557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_AvanteTitulGr"/>
              </a:rPr>
              <a:t>Активные участники:  дети, родители, воспит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Рисунок11.jpg"/>
          <p:cNvPicPr/>
          <p:nvPr/>
        </p:nvPicPr>
        <p:blipFill>
          <a:blip r:embed="rId1"/>
          <a:stretch/>
        </p:blipFill>
        <p:spPr>
          <a:xfrm>
            <a:off x="2195640" y="1989000"/>
            <a:ext cx="43527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1547640" y="836640"/>
            <a:ext cx="604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_AvanteTitulGr"/>
              </a:rPr>
              <a:t>Для  родителей  оформили объ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Users\Я\Desktop\DSC04543.JPG"/>
          <p:cNvPicPr/>
          <p:nvPr/>
        </p:nvPicPr>
        <p:blipFill>
          <a:blip r:embed="rId1"/>
          <a:stretch/>
        </p:blipFill>
        <p:spPr>
          <a:xfrm>
            <a:off x="1258920" y="1484280"/>
            <a:ext cx="61927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-828720" y="1197000"/>
            <a:ext cx="68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_AvanteTitulGr"/>
              </a:rPr>
              <a:t>провели 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4" descr="Рисунок111111111.jpg"/>
          <p:cNvPicPr/>
          <p:nvPr/>
        </p:nvPicPr>
        <p:blipFill>
          <a:blip r:embed="rId1"/>
          <a:stretch/>
        </p:blipFill>
        <p:spPr>
          <a:xfrm>
            <a:off x="2916360" y="1916280"/>
            <a:ext cx="45306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Я\Desktop\DSC04520.JPG"/>
          <p:cNvPicPr/>
          <p:nvPr/>
        </p:nvPicPr>
        <p:blipFill>
          <a:blip r:embed="rId1"/>
          <a:stretch/>
        </p:blipFill>
        <p:spPr>
          <a:xfrm rot="4468800">
            <a:off x="810720" y="1069920"/>
            <a:ext cx="3214800" cy="241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Я\Desktop\DSC04520.JPG"/>
          <p:cNvPicPr/>
          <p:nvPr/>
        </p:nvPicPr>
        <p:blipFill>
          <a:blip r:embed="rId2"/>
          <a:stretch/>
        </p:blipFill>
        <p:spPr>
          <a:xfrm rot="4376400">
            <a:off x="3579120" y="1246320"/>
            <a:ext cx="2933640" cy="21999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539640" y="3573360"/>
            <a:ext cx="7632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_AvanteTitulGr"/>
              </a:rPr>
              <a:t>Социологический опр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_AvanteTitulGr"/>
              </a:rPr>
              <a:t>«Какую ёлку в Новый год выбирает наш народ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a_AvanteTitulG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_AvanteTitulGr"/>
              </a:rPr>
              <a:t>Будет ли у Вас на праздник ёлка?  Ответ из 22 – 22 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a_AvanteTitulG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_AvanteTitulGr"/>
              </a:rPr>
              <a:t>Какую ёлку будите устанавливать?   Ответ из 22 – 22 искусствен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a_AvanteTitulG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_AvanteTitulGr"/>
              </a:rPr>
              <a:t>Как Вы относитесь к тому, что люди  к празднику вырубают хвойные деревья  самовольно?  Ответ из 22                              – 22 отрица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"/>
          <p:cNvSpPr/>
          <p:nvPr/>
        </p:nvSpPr>
        <p:spPr>
          <a:xfrm>
            <a:off x="900000" y="2492280"/>
            <a:ext cx="4176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лавная задача человека  - сохранять и преумножать природные богатства. Ведь природа – наш большой друг, без неё человек не сможет ж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Рисунок11112221.jpg"/>
          <p:cNvPicPr/>
          <p:nvPr/>
        </p:nvPicPr>
        <p:blipFill>
          <a:blip r:embed="rId1"/>
          <a:stretch/>
        </p:blipFill>
        <p:spPr>
          <a:xfrm>
            <a:off x="5003640" y="1413000"/>
            <a:ext cx="284004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4"/>
          <p:cNvSpPr/>
          <p:nvPr/>
        </p:nvSpPr>
        <p:spPr>
          <a:xfrm>
            <a:off x="684360" y="1268280"/>
            <a:ext cx="720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_AlgeriusRough"/>
              </a:rPr>
              <a:t>В группе  с детьми проходили беседы о бережном отношении к окружающей среде, дети разукрашивали ёл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Рисунок4545451.jpg"/>
          <p:cNvPicPr/>
          <p:nvPr/>
        </p:nvPicPr>
        <p:blipFill>
          <a:blip r:embed="rId1"/>
          <a:stretch/>
        </p:blipFill>
        <p:spPr>
          <a:xfrm>
            <a:off x="1332000" y="2276640"/>
            <a:ext cx="444960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971640" y="141300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69236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_AlgeriusRough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_AlgeriusRough"/>
              </a:rPr>
              <a:t>оформили  обращения юных экологов к  жителям го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4" descr="Рисунок14785.jpg"/>
          <p:cNvPicPr/>
          <p:nvPr/>
        </p:nvPicPr>
        <p:blipFill>
          <a:blip r:embed="rId1"/>
          <a:stretch/>
        </p:blipFill>
        <p:spPr>
          <a:xfrm>
            <a:off x="1258920" y="2276640"/>
            <a:ext cx="417204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5:45:09Z</dcterms:created>
  <dc:creator>Я</dc:creator>
  <dc:description/>
  <dc:language>en-US</dc:language>
  <cp:lastModifiedBy>Я</cp:lastModifiedBy>
  <dcterms:modified xsi:type="dcterms:W3CDTF">2018-02-03T07:39:24Z</dcterms:modified>
  <cp:revision>43</cp:revision>
  <dc:subject/>
  <dc:title>Слайд 1</dc:title>
</cp:coreProperties>
</file>