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9A22-48DA-42F3-A5CA-A3550ADFA9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DB8E-B6EE-422B-A1FD-B17FCDB4A0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63AE-81E2-4347-8580-5ADF5769C0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DAA-DEAC-4F34-89E0-ED06B9CA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BE9-EE89-4FD4-9182-CE39C827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DAF-3996-4F2E-93CF-37D8D8CB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5A4-04B2-42D7-8A7C-F7A98808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6821-9255-40E2-A1D2-CE707A3E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8F92-C219-4D78-9F1E-9131250F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D6F4-A74E-4B40-B4E4-CA504515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AEBD-139C-404B-BE85-F7C058E1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8932-206D-4648-92F0-3B5C140E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2FB6-8ECC-441D-9285-FBCF71F6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C608-CDDB-4C6F-8041-9DE2018B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E18-8DDB-491A-BDFF-BD675291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70CD-6D7E-41AD-8E10-555ECFEB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9E75-8698-4B7A-ABB8-E5190F58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1C53-23FC-4E42-A57A-7C0161CA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5514-740D-4299-82FD-FADCFF51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D59C-684E-4FE5-A9D1-301139F1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D3F4-53AF-412F-9A3C-7404A765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B2BC-1631-4EB4-B37A-CEE0B0B4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88CE4-5EC2-4EB4-96FC-E9BBBB82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95CE7-64E2-46AD-BDD5-E292302E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F440B-3A2A-432F-A01A-ED762A7F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045-CC15-43C0-A054-35133629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EC89-8EA2-404C-8869-2E46A0B5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501BD-5A1D-4D7B-B4FE-B37A9835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9B1AE-4685-402D-BAB3-AFFE5F55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8E37E-72F0-43DB-8091-15B261FB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3825-E55E-4A44-AF79-EC0BD129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5020-C503-4058-917E-9492C831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9BD41-4CFC-4D68-A056-8FAF7B01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E55E0-8AB1-42B1-A684-FF22A3DD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9A7C3-C3ED-4B1C-B768-31B0A237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15F3-9274-4043-B1E0-2DC73CED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E83-EFFA-4314-9960-F6188B2A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59BC4-BAE2-4DD3-942B-BFE41610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BF056-E7A5-4FC5-BA62-DE559CFE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DC5ED-8444-438F-A1A9-587406CF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4E0E4-605E-40DE-9880-977FBCE5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EA74E-93BB-45A5-90C1-CA3258D2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F493D-CF5A-431A-968B-6F8EDAF5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1DFF4-0992-4E36-934E-D75704C0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42D9A-AF5D-4B1D-80B7-698E1FB3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6985-D236-4CBC-84AD-A80A820E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78D-012D-4D25-A720-4629F483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F6A-4394-44A5-972F-2222B83E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301-78C5-43AB-84AD-7359A2CA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E7B-551D-4018-8A7B-0C11170C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FD8-0DBA-4F60-A14F-E8E45859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7D88-57E3-4E8A-BE22-4CE092981A7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2E60-1FE4-422B-89FA-6846153CA3B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972C-F01C-4290-B010-E344D617808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E537-5C1B-40E9-AD1E-3333BC056D6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01640" y="476280"/>
            <a:ext cx="5940720" cy="61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униципальное общеобразовательное учреждение                            «Алгатуйская средняя общеобразовательная школа»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rcRect l="14776" t="65505" r="83925" b="32890"/>
          <a:stretch/>
        </p:blipFill>
        <p:spPr>
          <a:xfrm>
            <a:off x="3276720" y="5589720"/>
            <a:ext cx="46080" cy="712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4356000" y="1341360"/>
            <a:ext cx="43927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оект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бразовательной ситу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ля развития субъектной поз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Учитель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Грязн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23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11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.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C:\Users\school\Desktop\e1cb3389a6cd.jpg"/>
          <p:cNvPicPr/>
          <p:nvPr/>
        </p:nvPicPr>
        <p:blipFill>
          <a:blip r:embed="rId2"/>
          <a:srcRect l="0" t="0" r="0" b="5996"/>
          <a:stretch/>
        </p:blipFill>
        <p:spPr>
          <a:xfrm>
            <a:off x="179280" y="1773360"/>
            <a:ext cx="4176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амоконтрол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1320" y="1413000"/>
            <a:ext cx="8504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пишите ключевые слова в определение следующих поняти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убъектность –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правление деятельностью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е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убъектная позиция –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правление деятельностью на основе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ценностей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бразовательная ситуаци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оектируется кем?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зрослы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оектируется с какой целью?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ля решения конкретных задач развити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является основанием взаимодействия кого?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зрослого и учащегос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. Укажите цифрами последовательность развития уровней субъектной позиции обучающихся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субъект деятельност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субъект собственного действи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 субъект действи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- субъект собственной деятельност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В основе образовательной ситуации лежи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истемно-деятельностный подход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амоконтрол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1320" y="1413000"/>
            <a:ext cx="8504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4. Укажите недостающие этапы образовательной ситуации построенной на ценностном образце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тановка проблемы деятельности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ределение ценностной стороны проблемы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тановка цели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пределение ценностного образца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ределение шагов достижения цели и критериев оценки результативности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ределение ценностных критериев оценки на основе образца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вершение действий и контроль на соответствие цели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ценностный контроль совершаемых действий на соответствие образцу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ценивание с точки зрения достижения результата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ценивание с точки зрения ценностных критериев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ефлексия способов достижения результата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ценностная рефлексия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320" y="-399600"/>
            <a:ext cx="853452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560" y="1483920"/>
            <a:ext cx="8504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2268360" y="4221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920" y="0"/>
          <a:ext cx="9109080" cy="6014880"/>
        </p:xfrm>
        <a:graphic>
          <a:graphicData uri="http://schemas.openxmlformats.org/drawingml/2006/table">
            <a:tbl>
              <a:tblPr/>
              <a:tblGrid>
                <a:gridCol w="2363760"/>
                <a:gridCol w="6745320"/>
              </a:tblGrid>
              <a:tr h="449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адание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0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ctr" pos="296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Субъектная позиц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ctr" pos="296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 – способность человека превращать свою жизнедеятельность в предмет практического преобразования, т.е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управля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своим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м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планировать их способы, реализовывать намеченные программы, контролировать ход и оценивать результаты, рефлексировать пройденный путь достижения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Субъект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96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) – путь достижения цели, опирающийся на культурно выработанный способ, в основании которого лежит конкретный алгоритм, порядок ша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2924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Образовательная ситу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ctr" pos="296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) - интегральное качество личности человека, обеспечивающее готовность и способность человек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я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своей жизнью, своими отношениями с другими людьми и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ю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основе ценност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ctr" pos="296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) - лично принятые человеком обязательства и нормы перед самим собой и другими людьми, его ориентиры и мая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96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спроектированная взрослым под конкретные задачи развития субъектной позиции деятельнос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оторую включен и сам взрослый, и его воспитанн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0" y="6021360"/>
          <a:ext cx="9144000" cy="836640"/>
        </p:xfrm>
        <a:graphic>
          <a:graphicData uri="http://schemas.openxmlformats.org/drawingml/2006/table">
            <a:tbl>
              <a:tblPr/>
              <a:tblGrid>
                <a:gridCol w="3112920"/>
                <a:gridCol w="3016440"/>
                <a:gridCol w="3014640"/>
              </a:tblGrid>
              <a:tr h="419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1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rcRect l="22600" t="24272" r="21962" b="36353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rcRect l="4961" t="11675" r="6841" b="4854"/>
          <a:stretch/>
        </p:blipFill>
        <p:spPr>
          <a:xfrm>
            <a:off x="108000" y="0"/>
            <a:ext cx="8928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Базовая модель образовательной ситуаци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rcRect l="0" t="7946" r="5898" b="0"/>
          <a:stretch/>
        </p:blipFill>
        <p:spPr>
          <a:xfrm>
            <a:off x="306360" y="1484280"/>
            <a:ext cx="8531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6000" y="704880"/>
            <a:ext cx="577044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этапное развитие субъектной позици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rcRect l="5250" t="12708" r="6821" b="4747"/>
          <a:stretch/>
        </p:blipFill>
        <p:spPr>
          <a:xfrm>
            <a:off x="324000" y="981000"/>
            <a:ext cx="8496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Выноска со стрелкой вниз 7"/>
          <p:cNvSpPr/>
          <p:nvPr/>
        </p:nvSpPr>
        <p:spPr>
          <a:xfrm>
            <a:off x="108000" y="907920"/>
            <a:ext cx="251928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Проблемат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Выноска со стрелкой вниз 8"/>
          <p:cNvSpPr/>
          <p:nvPr/>
        </p:nvSpPr>
        <p:spPr>
          <a:xfrm>
            <a:off x="250920" y="1844640"/>
            <a:ext cx="2233440" cy="914400"/>
          </a:xfrm>
          <a:prstGeom prst="downArrowCallout">
            <a:avLst>
              <a:gd name="adj1" fmla="val 24993"/>
              <a:gd name="adj2" fmla="val 25002"/>
              <a:gd name="adj3" fmla="val 25000"/>
              <a:gd name="adj4" fmla="val 64977"/>
            </a:avLst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Выноска со стрелкой вниз 9"/>
          <p:cNvSpPr/>
          <p:nvPr/>
        </p:nvSpPr>
        <p:spPr>
          <a:xfrm>
            <a:off x="324000" y="2852640"/>
            <a:ext cx="2160360" cy="914400"/>
          </a:xfrm>
          <a:prstGeom prst="downArrowCallout">
            <a:avLst>
              <a:gd name="adj1" fmla="val 25006"/>
              <a:gd name="adj2" fmla="val 24993"/>
              <a:gd name="adj3" fmla="val 25000"/>
              <a:gd name="adj4" fmla="val 64977"/>
            </a:avLst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Выноска со стрелкой вниз 10"/>
          <p:cNvSpPr/>
          <p:nvPr/>
        </p:nvSpPr>
        <p:spPr>
          <a:xfrm>
            <a:off x="324000" y="3860640"/>
            <a:ext cx="2160360" cy="914400"/>
          </a:xfrm>
          <a:prstGeom prst="downArrowCallout">
            <a:avLst>
              <a:gd name="adj1" fmla="val 25006"/>
              <a:gd name="adj2" fmla="val 24993"/>
              <a:gd name="adj3" fmla="val 25000"/>
              <a:gd name="adj4" fmla="val 64977"/>
            </a:avLst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Реализация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Выноска со стрелкой вниз 11"/>
          <p:cNvSpPr/>
          <p:nvPr/>
        </p:nvSpPr>
        <p:spPr>
          <a:xfrm>
            <a:off x="324000" y="4869000"/>
            <a:ext cx="2160360" cy="914400"/>
          </a:xfrm>
          <a:prstGeom prst="downArrowCallout">
            <a:avLst>
              <a:gd name="adj1" fmla="val 25006"/>
              <a:gd name="adj2" fmla="val 24993"/>
              <a:gd name="adj3" fmla="val 25000"/>
              <a:gd name="adj4" fmla="val 64977"/>
            </a:avLst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Оценивание 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Выноска со стрелкой вниз 12"/>
          <p:cNvSpPr/>
          <p:nvPr/>
        </p:nvSpPr>
        <p:spPr>
          <a:xfrm>
            <a:off x="324000" y="5943600"/>
            <a:ext cx="2160360" cy="914400"/>
          </a:xfrm>
          <a:prstGeom prst="downArrowCallout">
            <a:avLst>
              <a:gd name="adj1" fmla="val 25006"/>
              <a:gd name="adj2" fmla="val 24993"/>
              <a:gd name="adj3" fmla="val 25000"/>
              <a:gd name="adj4" fmla="val 64977"/>
            </a:avLst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Рефлекс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Улыбающееся лицо 20"/>
          <p:cNvSpPr/>
          <p:nvPr/>
        </p:nvSpPr>
        <p:spPr>
          <a:xfrm>
            <a:off x="2700360" y="3789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Улыбающееся лицо 21"/>
          <p:cNvSpPr/>
          <p:nvPr/>
        </p:nvSpPr>
        <p:spPr>
          <a:xfrm>
            <a:off x="6156360" y="2781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Улыбающееся лицо 22"/>
          <p:cNvSpPr/>
          <p:nvPr/>
        </p:nvSpPr>
        <p:spPr>
          <a:xfrm>
            <a:off x="6156360" y="177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Улыбающееся лицо 23"/>
          <p:cNvSpPr/>
          <p:nvPr/>
        </p:nvSpPr>
        <p:spPr>
          <a:xfrm>
            <a:off x="4356000" y="4724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лыбающееся лицо 24"/>
          <p:cNvSpPr/>
          <p:nvPr/>
        </p:nvSpPr>
        <p:spPr>
          <a:xfrm>
            <a:off x="4356000" y="3789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лыбающееся лицо 25"/>
          <p:cNvSpPr/>
          <p:nvPr/>
        </p:nvSpPr>
        <p:spPr>
          <a:xfrm>
            <a:off x="4356000" y="2781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Улыбающееся лицо 26"/>
          <p:cNvSpPr/>
          <p:nvPr/>
        </p:nvSpPr>
        <p:spPr>
          <a:xfrm>
            <a:off x="7812000" y="2781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лыбающееся лицо 27"/>
          <p:cNvSpPr/>
          <p:nvPr/>
        </p:nvSpPr>
        <p:spPr>
          <a:xfrm>
            <a:off x="7812000" y="177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лыбающееся лицо 28"/>
          <p:cNvSpPr/>
          <p:nvPr/>
        </p:nvSpPr>
        <p:spPr>
          <a:xfrm>
            <a:off x="6227640" y="4724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лыбающееся лицо 29"/>
          <p:cNvSpPr/>
          <p:nvPr/>
        </p:nvSpPr>
        <p:spPr>
          <a:xfrm>
            <a:off x="6227640" y="3789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лыбающееся лицо 30"/>
          <p:cNvSpPr/>
          <p:nvPr/>
        </p:nvSpPr>
        <p:spPr>
          <a:xfrm>
            <a:off x="7885080" y="3789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лыбающееся лицо 31"/>
          <p:cNvSpPr/>
          <p:nvPr/>
        </p:nvSpPr>
        <p:spPr>
          <a:xfrm>
            <a:off x="7885080" y="4724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Улыбающееся лицо 32"/>
          <p:cNvSpPr/>
          <p:nvPr/>
        </p:nvSpPr>
        <p:spPr>
          <a:xfrm>
            <a:off x="7885080" y="5661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лыбающееся лицо 34"/>
          <p:cNvSpPr/>
          <p:nvPr/>
        </p:nvSpPr>
        <p:spPr>
          <a:xfrm>
            <a:off x="4284720" y="836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лыбающееся лицо 35"/>
          <p:cNvSpPr/>
          <p:nvPr/>
        </p:nvSpPr>
        <p:spPr>
          <a:xfrm>
            <a:off x="4356000" y="5732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лыбающееся лицо 36"/>
          <p:cNvSpPr/>
          <p:nvPr/>
        </p:nvSpPr>
        <p:spPr>
          <a:xfrm>
            <a:off x="4284720" y="1844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Улыбающееся лицо 38"/>
          <p:cNvSpPr/>
          <p:nvPr/>
        </p:nvSpPr>
        <p:spPr>
          <a:xfrm>
            <a:off x="2700360" y="4797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Улыбающееся лицо 39"/>
          <p:cNvSpPr/>
          <p:nvPr/>
        </p:nvSpPr>
        <p:spPr>
          <a:xfrm>
            <a:off x="2700360" y="2781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Улыбающееся лицо 40"/>
          <p:cNvSpPr/>
          <p:nvPr/>
        </p:nvSpPr>
        <p:spPr>
          <a:xfrm>
            <a:off x="2700360" y="177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Улыбающееся лицо 41"/>
          <p:cNvSpPr/>
          <p:nvPr/>
        </p:nvSpPr>
        <p:spPr>
          <a:xfrm>
            <a:off x="2700360" y="836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Улыбающееся лицо 42"/>
          <p:cNvSpPr/>
          <p:nvPr/>
        </p:nvSpPr>
        <p:spPr>
          <a:xfrm>
            <a:off x="6227640" y="5732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Улыбающееся лицо 43"/>
          <p:cNvSpPr/>
          <p:nvPr/>
        </p:nvSpPr>
        <p:spPr>
          <a:xfrm>
            <a:off x="7812000" y="76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Улыбающееся лицо 44"/>
          <p:cNvSpPr/>
          <p:nvPr/>
        </p:nvSpPr>
        <p:spPr>
          <a:xfrm>
            <a:off x="6084720" y="765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Прямоугольник 45"/>
          <p:cNvGrpSpPr/>
          <p:nvPr/>
        </p:nvGrpSpPr>
        <p:grpSpPr>
          <a:xfrm>
            <a:off x="3913200" y="-122400"/>
            <a:ext cx="1847880" cy="1152720"/>
            <a:chOff x="3913200" y="-122400"/>
            <a:chExt cx="1847880" cy="1152720"/>
          </a:xfrm>
        </p:grpSpPr>
        <p:pic>
          <p:nvPicPr>
            <p:cNvPr id="249" name="Прямоугольник 45" descr=""/>
            <p:cNvPicPr/>
            <p:nvPr/>
          </p:nvPicPr>
          <p:blipFill>
            <a:blip r:embed="rId1"/>
            <a:stretch/>
          </p:blipFill>
          <p:spPr>
            <a:xfrm>
              <a:off x="3913200" y="-122400"/>
              <a:ext cx="184788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995640" y="0"/>
              <a:ext cx="1656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Constantia"/>
                </a:rPr>
                <a:t>Субъект собственного дейст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Прямоугольник 49"/>
          <p:cNvGrpSpPr/>
          <p:nvPr/>
        </p:nvGrpSpPr>
        <p:grpSpPr>
          <a:xfrm>
            <a:off x="2200320" y="-30240"/>
            <a:ext cx="1785960" cy="925560"/>
            <a:chOff x="2200320" y="-30240"/>
            <a:chExt cx="1785960" cy="925560"/>
          </a:xfrm>
        </p:grpSpPr>
        <p:pic>
          <p:nvPicPr>
            <p:cNvPr id="252" name="Прямоугольник 49" descr=""/>
            <p:cNvPicPr/>
            <p:nvPr/>
          </p:nvPicPr>
          <p:blipFill>
            <a:blip r:embed="rId2"/>
            <a:stretch/>
          </p:blipFill>
          <p:spPr>
            <a:xfrm>
              <a:off x="2200320" y="-30240"/>
              <a:ext cx="178596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268360" y="0"/>
              <a:ext cx="16542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Constantia"/>
                </a:rPr>
                <a:t>Субъект дейст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Прямоугольник 50"/>
          <p:cNvGrpSpPr/>
          <p:nvPr/>
        </p:nvGrpSpPr>
        <p:grpSpPr>
          <a:xfrm>
            <a:off x="5626080" y="-30240"/>
            <a:ext cx="1841400" cy="925560"/>
            <a:chOff x="5626080" y="-30240"/>
            <a:chExt cx="1841400" cy="925560"/>
          </a:xfrm>
        </p:grpSpPr>
        <p:pic>
          <p:nvPicPr>
            <p:cNvPr id="255" name="Прямоугольник 50" descr=""/>
            <p:cNvPicPr/>
            <p:nvPr/>
          </p:nvPicPr>
          <p:blipFill>
            <a:blip r:embed="rId3"/>
            <a:stretch/>
          </p:blipFill>
          <p:spPr>
            <a:xfrm>
              <a:off x="5626080" y="-30240"/>
              <a:ext cx="1841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724360" y="0"/>
              <a:ext cx="1656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Constantia"/>
                </a:rPr>
                <a:t>Субъект 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оугольник 51"/>
          <p:cNvGrpSpPr/>
          <p:nvPr/>
        </p:nvGrpSpPr>
        <p:grpSpPr>
          <a:xfrm>
            <a:off x="7394400" y="-122400"/>
            <a:ext cx="1835280" cy="1152720"/>
            <a:chOff x="7394400" y="-122400"/>
            <a:chExt cx="1835280" cy="1152720"/>
          </a:xfrm>
        </p:grpSpPr>
        <p:pic>
          <p:nvPicPr>
            <p:cNvPr id="258" name="Прямоугольник 51" descr=""/>
            <p:cNvPicPr/>
            <p:nvPr/>
          </p:nvPicPr>
          <p:blipFill>
            <a:blip r:embed="rId4"/>
            <a:stretch/>
          </p:blipFill>
          <p:spPr>
            <a:xfrm>
              <a:off x="7394400" y="-122400"/>
              <a:ext cx="183528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488360" y="0"/>
              <a:ext cx="16556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Constantia"/>
                </a:rPr>
                <a:t>Субъект собственной 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Улыбающееся лицо 52"/>
          <p:cNvSpPr/>
          <p:nvPr/>
        </p:nvSpPr>
        <p:spPr>
          <a:xfrm>
            <a:off x="179280" y="333360"/>
            <a:ext cx="432000" cy="35892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Улыбающееся лицо 54"/>
          <p:cNvSpPr/>
          <p:nvPr/>
        </p:nvSpPr>
        <p:spPr>
          <a:xfrm>
            <a:off x="1476360" y="333360"/>
            <a:ext cx="431640" cy="365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5"/>
          <p:cNvSpPr/>
          <p:nvPr/>
        </p:nvSpPr>
        <p:spPr>
          <a:xfrm>
            <a:off x="17928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6"/>
          <p:cNvSpPr/>
          <p:nvPr/>
        </p:nvSpPr>
        <p:spPr>
          <a:xfrm>
            <a:off x="755640" y="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/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57"/>
          <p:cNvSpPr/>
          <p:nvPr/>
        </p:nvSpPr>
        <p:spPr>
          <a:xfrm>
            <a:off x="1476360" y="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Улыбающееся лицо 46"/>
          <p:cNvSpPr/>
          <p:nvPr/>
        </p:nvSpPr>
        <p:spPr>
          <a:xfrm>
            <a:off x="826920" y="333360"/>
            <a:ext cx="419400" cy="35892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rcRect l="20161" t="17975" r="5501" b="17455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Ценностные критерии оценки  на основе образца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Ценность: патриотизм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1320" y="1915920"/>
            <a:ext cx="85042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ан народ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тов идти на жертв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ужит Роди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вершает подви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рдится своей историей, народом, стран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важает традиции своего наро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ушевно и духовно связан с местом рожд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очет и может защитить Родин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упает таким образом, чтобы Родина процветала, чтобы не была порабощ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3:26:37Z</dcterms:created>
  <dc:creator>12</dc:creator>
  <dc:description/>
  <dc:language>en-US</dc:language>
  <cp:lastModifiedBy>VIT</cp:lastModifiedBy>
  <dcterms:modified xsi:type="dcterms:W3CDTF">2018-02-03T07:20:42Z</dcterms:modified>
  <cp:revision>267</cp:revision>
  <dc:subject/>
  <dc:title>Основная образовательная программа образовательного учреждения</dc:title>
</cp:coreProperties>
</file>