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7200" spc="-1" strike="noStrike">
                <a:solidFill>
                  <a:srgbClr val="df5327"/>
                </a:solidFill>
                <a:latin typeface="Corbel"/>
              </a:rPr>
              <a:t>Click to move the slide</a:t>
            </a:r>
            <a:endParaRPr b="1" lang="en-US" sz="7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230DC-C621-4B01-B9C6-C7F3A9E8E4C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4CE55-B788-42EB-ACF9-8A29F1B6826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8B2AE-AFB8-4163-A32A-D8607C90558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C1CE7-154D-4E4D-BB0F-92AD9F6BE54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48340-226B-4DBB-9964-60E3677BDA8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DEA88-B29E-41E7-992A-25CC9D36AB0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F8349-DA68-48F6-918F-35ADA982BF4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93AEB-8D06-4E3F-B5B5-C4E870AD104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B0A68-52C9-4AD9-8FBF-03C7EADC8E6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11B-425C-4282-BB98-681C6607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12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4166280"/>
            <a:ext cx="98712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76D-AEB9-42B8-9675-117DC8A4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416628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01000" y="416628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BC3-3997-4340-A442-30240FBE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80920" y="205740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18480" y="205740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416628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80920" y="416628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18480" y="416628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A7A-35F1-49C2-A2D8-964DC8B0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BF43-E275-4497-8A7C-EB4994A8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1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4448-3A27-4FD2-A914-48E6A9AC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12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BF4C-55D3-4C0F-B434-3D4A841A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FD3B-BD3B-4245-8656-CCE258DB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F1B9-2A85-44F1-BD40-4A7793BC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609480"/>
            <a:ext cx="9874080" cy="62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0CE6-DBA6-4728-9322-1B160AAA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43000" y="416628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1DA4-EC52-46E7-9F37-42E34548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1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261-A4B5-4750-851E-57EE63DA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01000" y="416628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3EDA-C80C-4211-B704-3EE50839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3000" y="4166280"/>
            <a:ext cx="98712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8615-5087-409A-82BF-D870F0D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12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43000" y="4166280"/>
            <a:ext cx="98712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55BA-7D25-44AE-9AD9-A730365D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16628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01000" y="416628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F337-D35B-40D7-9AC5-F210B2DB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0920" y="205740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18480" y="205740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43000" y="416628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80920" y="416628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818480" y="416628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D7EF-BCB3-4542-9741-C1C54D39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97FC2-0737-42EE-A97A-7CDAA932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1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BB3E-7A3B-4DCA-8EA1-4F3E58A2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12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DF07-0A44-44C9-8081-3176CC1B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6BF64-1D48-46E9-A7DF-4F9976AE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77AD3-07CA-4F63-A328-66C21E0A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12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635-E98E-4093-BC5F-7E4BDB85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3000" y="609480"/>
            <a:ext cx="9874080" cy="62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7821-537D-49E0-A212-8255BC79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416628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B7B7-6C45-4477-99EA-4877DF06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01000" y="416628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4C231-42D3-438C-B602-E3D27A55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3000" y="4166280"/>
            <a:ext cx="98712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98B67-D52D-4824-9C6F-CC2BBB1A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12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43000" y="4166280"/>
            <a:ext cx="98712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7BBD6-A669-4EB3-B333-94171AE4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43000" y="416628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01000" y="416628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7F4B4-000C-4F47-8A78-458F2720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80920" y="205740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818480" y="205740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43000" y="416628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480920" y="416628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7818480" y="4166280"/>
            <a:ext cx="31784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90760-0673-472F-869F-DF171F79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219-A301-4B36-9191-A5C7AC29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C35-3175-4CE3-90F0-3F21C7E7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480"/>
            <a:ext cx="9874080" cy="62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093-1ADF-46AD-88CC-C42EF428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416628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022-4B7C-41FF-A4D7-7C715C6E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01000" y="416628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532-9FEB-4213-9CEB-D00B84BC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01000" y="2057400"/>
            <a:ext cx="4816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4166280"/>
            <a:ext cx="98712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/>
          </a:bodyPr>
          <a:p>
            <a:pPr indent="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D44-AB82-40A4-92F5-68F948E0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53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09520" y="882360"/>
            <a:ext cx="99648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7200" spc="-1" strike="noStrike">
                <a:solidFill>
                  <a:srgbClr val="df5327"/>
                </a:solidFill>
                <a:latin typeface="Corbel"/>
              </a:rPr>
              <a:t>Click to edit the title text format</a:t>
            </a:r>
            <a:endParaRPr b="1" lang="en-US" sz="7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709640" y="3870360"/>
            <a:ext cx="87663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3760" bIns="46800" anchor="t">
            <a:noAutofit/>
          </a:bodyPr>
          <a:p>
            <a:pPr marL="358920" indent="-358920" algn="ctr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142640" y="6222960"/>
            <a:ext cx="232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f5327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f5327"/>
                </a:solidFill>
                <a:latin typeface="Corbel"/>
                <a:ea typeface="Lucida Sans Unicode"/>
              </a:rPr>
              <a:t>8.12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949560" y="6222960"/>
            <a:ext cx="4716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329760" y="6222960"/>
            <a:ext cx="17035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5327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FFA1DB-2B93-48DB-82A0-2F2F24580F86}" type="slidenum">
              <a:rPr b="0" lang="ru-RU" sz="1200" spc="-1" strike="noStrike">
                <a:solidFill>
                  <a:srgbClr val="df5327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1978200" y="3733920"/>
            <a:ext cx="8229600" cy="1440"/>
          </a:xfrm>
          <a:prstGeom prst="line">
            <a:avLst/>
          </a:prstGeom>
          <a:ln w="10080">
            <a:solidFill>
              <a:srgbClr val="df5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120" y="6246720"/>
            <a:ext cx="283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68440" y="6246720"/>
            <a:ext cx="38624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740440" y="6246720"/>
            <a:ext cx="283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DE74C-9E4D-4EFC-B4D8-EF13FE12A22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53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9874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f53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12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3760" bIns="46800" anchor="t">
            <a:normAutofit fontScale="90000"/>
          </a:bodyPr>
          <a:p>
            <a:pPr marL="388440" indent="-29124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df53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  <a:p>
            <a:pPr lvl="1" marL="777240" indent="-29160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df53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  <a:p>
            <a:pPr lvl="2" marL="1165680" indent="-25848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df53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  <a:p>
            <a:pPr lvl="3" marL="1554480" indent="-19440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df53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  <a:p>
            <a:pPr lvl="4" marL="1942920" indent="-19404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df53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  <a:p>
            <a:pPr lvl="5" marL="1942920" indent="-19404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df53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  <a:p>
            <a:pPr lvl="6" marL="1942920" indent="-194040">
              <a:lnSpc>
                <a:spcPct val="92000"/>
              </a:lnSpc>
              <a:spcBef>
                <a:spcPts val="1400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df53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142640" y="6222960"/>
            <a:ext cx="232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f5327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f5327"/>
                </a:solidFill>
                <a:latin typeface="Corbel"/>
                <a:ea typeface="Lucida Sans Unicode"/>
              </a:rPr>
              <a:t>8.12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949560" y="6222960"/>
            <a:ext cx="4716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9329760" y="6222960"/>
            <a:ext cx="17035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ctr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5327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ABBC11-F3ED-44D3-8A89-CACCC4BA151B}" type="slidenum">
              <a:rPr b="0" lang="ru-RU" sz="1200" spc="-1" strike="noStrike">
                <a:solidFill>
                  <a:srgbClr val="df5327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3880" y="-748080"/>
            <a:ext cx="10098000" cy="3770280"/>
          </a:xfrm>
          <a:prstGeom prst="rect">
            <a:avLst/>
          </a:prstGeom>
          <a:noFill/>
          <a:ln w="0">
            <a:noFill/>
          </a:ln>
        </p:spPr>
        <p:txBody>
          <a:bodyPr tIns="218520" anchor="b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7200" spc="-1" strike="noStrike" u="sng">
                <a:solidFill>
                  <a:srgbClr val="df5327"/>
                </a:solidFill>
                <a:uFillTx/>
                <a:latin typeface="Corbel"/>
              </a:rPr>
              <a:t>Russian people</a:t>
            </a:r>
            <a:endParaRPr b="1" lang="en-US" sz="72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35" name="Рисунок 4" descr=""/>
          <p:cNvPicPr/>
          <p:nvPr/>
        </p:nvPicPr>
        <p:blipFill>
          <a:blip r:embed="rId1"/>
          <a:stretch/>
        </p:blipFill>
        <p:spPr>
          <a:xfrm>
            <a:off x="5791320" y="3284640"/>
            <a:ext cx="5316480" cy="27572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"/>
          <p:cNvPicPr/>
          <p:nvPr/>
        </p:nvPicPr>
        <p:blipFill>
          <a:blip r:embed="rId2"/>
          <a:stretch/>
        </p:blipFill>
        <p:spPr>
          <a:xfrm>
            <a:off x="766800" y="3129120"/>
            <a:ext cx="5024520" cy="30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5580000" y="1565280"/>
            <a:ext cx="3151080" cy="4734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tIns="13572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 u="sng">
                <a:solidFill>
                  <a:srgbClr val="ab3c19"/>
                </a:solidFill>
                <a:uFillTx/>
                <a:latin typeface="Corbel"/>
              </a:rPr>
              <a:t>Slavs</a:t>
            </a: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8948880" y="1901880"/>
            <a:ext cx="3243240" cy="403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720720" y="2019240"/>
            <a:ext cx="480708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tIns="13572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 u="sng">
                <a:solidFill>
                  <a:srgbClr val="ff6238"/>
                </a:solidFill>
                <a:uFillTx/>
                <a:latin typeface="Corbel"/>
              </a:rPr>
              <a:t>Clothes</a:t>
            </a: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8561520" y="1054080"/>
            <a:ext cx="3133440" cy="3781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4819680" y="1020600"/>
            <a:ext cx="3635280" cy="5046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90680" y="3544920"/>
            <a:ext cx="4222440" cy="28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tIns="1468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ff8427"/>
                </a:solidFill>
                <a:uFillTx/>
                <a:latin typeface="MingLiU_HKSCS"/>
                <a:ea typeface="MingLiU_HKSCS"/>
              </a:rPr>
              <a:t>Holidays</a:t>
            </a: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228600" indent="-181080">
              <a:lnSpc>
                <a:spcPct val="86000"/>
              </a:lnSpc>
              <a:spcBef>
                <a:spcPts val="862"/>
              </a:spcBef>
              <a:buClr>
                <a:srgbClr val="df5327"/>
              </a:buClr>
              <a:buFont typeface="Corbe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 u="sng">
                <a:solidFill>
                  <a:srgbClr val="ffd147"/>
                </a:solidFill>
                <a:uFillTx/>
                <a:latin typeface="Times New Roman"/>
              </a:rPr>
              <a:t>Carn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173640" y="17478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79600" y="2798640"/>
            <a:ext cx="4620960" cy="363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1360" y="542880"/>
            <a:ext cx="9875880" cy="1355760"/>
          </a:xfrm>
          <a:prstGeom prst="rect">
            <a:avLst/>
          </a:prstGeom>
          <a:solidFill>
            <a:srgbClr val="ffffff"/>
          </a:solidFill>
          <a:ln w="19080">
            <a:solidFill>
              <a:srgbClr val="b64926"/>
            </a:solidFill>
            <a:round/>
          </a:ln>
        </p:spPr>
        <p:txBody>
          <a:bodyPr tIns="13572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ab3c19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ab3c19"/>
                </a:solidFill>
                <a:latin typeface="Corbel"/>
              </a:rPr>
              <a:t>Easter Christian</a:t>
            </a: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799160" y="1671480"/>
            <a:ext cx="6914880" cy="388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801720" y="1898640"/>
            <a:ext cx="3559320" cy="443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tIns="13572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rbel"/>
              </a:rPr>
              <a:t>Agrafena Kupalnitsa Yes Ivan Kupala</a:t>
            </a: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6119640" y="2519280"/>
            <a:ext cx="6237360" cy="4165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360360" y="2519280"/>
            <a:ext cx="5757840" cy="40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tIns="13572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193300"/>
                </a:solidFill>
                <a:latin typeface="Corbel"/>
              </a:rPr>
              <a:t>Wedding</a:t>
            </a: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7577280" y="2543040"/>
            <a:ext cx="4410000" cy="291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414680" y="374760"/>
            <a:ext cx="3162600" cy="4762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>
            <a:off x="0" y="3546360"/>
            <a:ext cx="44146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solidFill>
            <a:srgbClr val="ffffff"/>
          </a:solidFill>
          <a:ln w="19080">
            <a:solidFill>
              <a:srgbClr val="df5327"/>
            </a:solidFill>
            <a:round/>
          </a:ln>
        </p:spPr>
        <p:txBody>
          <a:bodyPr tIns="13572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rbel"/>
              </a:rPr>
              <a:t>Kitchen</a:t>
            </a:r>
            <a:endParaRPr b="0" lang="en-US" sz="4400" spc="-1" strike="noStrike">
              <a:solidFill>
                <a:srgbClr val="df5327"/>
              </a:solidFill>
              <a:latin typeface="Corbe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162320" y="382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44520" y="2824200"/>
            <a:ext cx="4875120" cy="3655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5940360" y="2340000"/>
            <a:ext cx="6248520" cy="41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8-02-03T16:34:08Z</dcterms:modified>
  <cp:revision>1</cp:revision>
  <dc:subject/>
  <dc:title>Russian people</dc:title>
</cp:coreProperties>
</file>