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0B76E-9FDC-414F-BE2B-C5DF4B539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CCC26-E574-4016-B753-A9FE862AE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AC85F-8A9E-486A-BA2D-E6050C8FF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56C69-F342-4880-ACAA-33410788E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0C0C6-E306-4528-827D-42A6F55E8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7C85D-C097-462F-ACB0-32EB8B310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1CB84-AB00-48A2-ADDD-2FF6A5CB9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356DC-56D8-45D5-8DB0-7E7E3F755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5E3BD-7D68-41C6-B918-0CE7CE168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A59F4-85FB-498E-B449-623AEF9D4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093A8-6433-4A16-834D-C6AD6EB8D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F7ABD-7731-4A19-9D59-D8E2E7E2C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00ffff"/>
            </a:gs>
            <a:gs pos="100000">
              <a:srgbClr val="ffff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E450D-B4A2-4598-A900-1C1ADF65F05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500040" y="428400"/>
            <a:ext cx="8072640" cy="121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3c6"/>
                </a:solidFill>
                <a:latin typeface="Arial"/>
              </a:rPr>
              <a:t>Техника безопасного поведен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3c6"/>
                </a:solidFill>
                <a:latin typeface="Arial"/>
              </a:rPr>
              <a:t>в разговоре с родителя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Рисунок 3" descr="медвежонок.png"/>
          <p:cNvPicPr/>
          <p:nvPr/>
        </p:nvPicPr>
        <p:blipFill>
          <a:blip r:embed="rId1"/>
          <a:stretch/>
        </p:blipFill>
        <p:spPr>
          <a:xfrm>
            <a:off x="3500280" y="1785960"/>
            <a:ext cx="2457720" cy="2903400"/>
          </a:xfrm>
          <a:prstGeom prst="rect">
            <a:avLst/>
          </a:prstGeom>
          <a:ln w="0">
            <a:noFill/>
          </a:ln>
        </p:spPr>
      </p:pic>
      <p:sp>
        <p:nvSpPr>
          <p:cNvPr id="43" name="Прямоугольник 4"/>
          <p:cNvSpPr/>
          <p:nvPr/>
        </p:nvSpPr>
        <p:spPr>
          <a:xfrm>
            <a:off x="2286000" y="5229360"/>
            <a:ext cx="6357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полнила: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тарший воспитатель, педагог-психолог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БДОУ-детский сад «Медвежонок»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рченко Елена Петр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бсуждайте в разговоре 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 родителями поступки только их собственного ребён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учить ребёнка моделям поведения в сложных ситуация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ешать эту проблему только по отношению к собственному ребёнк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вердо останавливать попытки вовлечь в обсуждение поведение других дет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13840" y="57132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Ребёнку свойственно воспринимать ситуацию субъективн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ебёнок, отрицающий свою вину не лжет, а заблуждает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зрослому надо сделать так, чтобы ребёнок извлек адекватный социальный опыт из любого происшеств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пыт соблюдения правил поведения в школе - важнейшая часть опыта взаимодействия с общественным институтом поряд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Техника 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«5 шагов ведения переговоров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гласить родителей и описать ситуацию, фиксировать е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сказать свою точку зр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просить точку зрения родител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дать вопрос: «Как вы думаете. Что мы с вами можем сделать в этой ситуации?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брать приемлемый вариант и придерживаться е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Результат успешных переговоров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договорённость сторон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14200" y="274680"/>
            <a:ext cx="8786880" cy="636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Трудный разговор с родителями</a:t>
            </a:r>
            <a:br>
              <a:rPr sz="4000"/>
            </a:br>
            <a:br>
              <a:rPr sz="40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Какой разговор с родителями можно назвать трудным?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Какой разговор с родителями труден для них?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Как провести разговор, чтобы родители захотели   и помогли решить проблемы ребёнка?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Что недопустимо при трудном разговоре?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Какие беседы с родителями трудны для педагога?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акой разговор с родителями труден для педагога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 неблаговидных поступках ребён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 неуспеваем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 социально осуждаемом поведен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 дефектах семейного воспит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 особенностях поведения ребён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 дефиците родительского вним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 нарушениях в развит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 возникшем конфликт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 разногласиях в семейном воспитан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гда родитель не готов к разговор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сли перед этим был опыт негативного общения с учител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 каким родителем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нфликтны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грессивны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виняющи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адекватны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социальны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доверяющи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ревожны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странённы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правляющи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веренным в своей правоте, упёрты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 родителем - педагогом(психологом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ажные правил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27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 трудным разговорам надо готовить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ести трудный разговор нужно так, чтобы он не стал ещё трудне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Что недопустимо при трудном разговоре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прё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ямое осужд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иторические вопросы, вопросы-ловуш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тации, мора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озр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гативные прогноз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Шантаж, угроз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арказ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низительные или двусмысленные высказы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гнорирование ответов собеседн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ТО ЕЩЁ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Что недопустимо при трудном разговоре с родителями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999800"/>
            <a:ext cx="8229600" cy="41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подготовлен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сутствие пози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достаток информ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ход от те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ездейств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ход в защит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Говорить - значит делать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етко осознайте, что вы хотите сделать по отношению к родителя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мните о контексте, подтексте, своих интонация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мните, что вы не начальник, не мать и не классный руководитель родителей, чьих детей вы воспитывае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овершенствовать разгово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 настаивайте на своей точке зр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стаивайте на необходимости разрешения возникшей ситуации и удержании её под контрол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 увеличивайте сопротивление родителей, не подкрепляйте их неконструктивную позици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26T14:30:29Z</dcterms:created>
  <dc:creator>ссс</dc:creator>
  <dc:description/>
  <dc:language>en-US</dc:language>
  <cp:lastModifiedBy>Admin</cp:lastModifiedBy>
  <dcterms:modified xsi:type="dcterms:W3CDTF">2014-04-03T08:40:17Z</dcterms:modified>
  <cp:revision>11</cp:revision>
  <dc:subject/>
  <dc:title>Выполнила:  старший воспитатель, педагог-психолог  МБДОУ-детский сад «Медвежонок» Корченко Елена Петровна</dc:title>
</cp:coreProperties>
</file>