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3BF-AB15-4CFA-B62C-2B4ECF0B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A20-C8F1-4E45-8238-15812EBB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C25-7FE6-4216-8F07-58F5A8E3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647-555B-4939-9383-9F01C8A1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8F35-E419-4564-8C41-3C63574F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25BD-0693-4705-B2CA-B12E9888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533E-63E6-4B10-88CE-3B53C28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1855-500F-4F1D-B20E-0FCF3DF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5C8-019F-44A7-93E0-8DA763D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6A32-C926-4E8B-8289-E0BE298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D28-38E1-4D38-BD6F-5A73917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0B-ED35-4318-A88B-ABD9B13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20B-6395-45EF-B00D-0350079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6B19-4E33-493E-B207-2A635D8A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86A5-8067-4D84-AE3D-7D03C40B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5059-3E1F-44FB-88E6-7F53F27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58C7-01F4-41A3-9B0B-C6218E5C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160-6C56-41EB-A177-6D25AE23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A31-398C-45EE-97AC-792E1E0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A48-5238-4D7E-835B-EE92833C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C6A-576F-4ADA-AB14-994870AC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16B-A901-43B6-8613-82161B16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3D0-FD6C-40DF-91E5-BF0CF09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B3E-57D8-4812-BB39-F02EFA8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627F-D320-4ABB-86BF-74604DBDEA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BE61-14F5-4B51-A945-D73A45EA26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tencil Std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Stencil Std"/>
              </a:rPr>
              <a:t>Уголовное право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ятия и категории уголовного пра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219320" y="4343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ил ученик 11Ф кла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орыгин Викто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обществознания: Богданова  Татьяна Алексе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ределе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ГОЛОВНОЕ ПРАВ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расль прав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дставляющая собой систем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юридических норм, охраняющих наиболе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ажные в данном обществе ценности о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сягательств путем объяв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ных деяний преступлениями и установ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казаний за их совершение, а также установ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авил назначения последних; кроме того, У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дусматривает иные меры уголовно-правово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здействия и порядок их применения;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)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 У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акже понимается наук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ающая соответствующую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а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отрасль права У.п.отличается о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х отраслей права тем, что охраня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ующие в обществе отношени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в подавляющем большинст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гулируются конституционны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жданским, трудовым, административны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ым и прочими отраслями права. Так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бственность регулируется и охраняется прежде всег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рмами гражданского права, однако охр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бственности от преступных посягательств (краж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шенничество, грабеж, разбой и др.) осущест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рмами У.п.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дмет уголовно-правово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гулирования составляю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ри группы общественны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ношений. Прежде всего это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охранительные уголовно-правовые отношен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зникающие в связи с совершением преступл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Это отношения между лицом, совершивши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рещенное уголовным законом деяние, 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государством в лице суда, следователя, прокурор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ргана дознания. Каждый из субъектов это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авоотношения обладает определенными правами 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сет корреспондирующие им обязанно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торым видом являются отношения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связанные с удержанием лица о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реступного посягательства посред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угрозы наказа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держащейся в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головно-правовых нормах. Уголовны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рет налагает на граждан обязан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здержаться от преступления и потом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гулирует поведение людей в обществ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ретья группа общественных отношений, входящих 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дмет У.п., </a:t>
            </a: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возникает при реализации гражданами права 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причинение вреда при защите от опасных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посягательств при необходимой обороне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, а также пр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райней необходимости и других обстоятельствах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сключающих преступн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еяния. Эти отношения можно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меновать регулятивным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головно-правовыми отношениям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(в отличие от охранительных)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ак как они складываются на основе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егулятивных норм и регламентирую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омерное  поведение лица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являющееся одновременно и социально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лезны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-385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У. п. обладает специфическим методом правового регулиро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отличие от других норм права, устанавливающи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зволения,предписания и запреты,уголов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авовые нормы устанавливают почти исключительно запреты, а су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писаний сводится 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укос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блюде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их запретов. В силу этого уголов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авовые отношения нося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дносторонний характер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ступник обязан поне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казание за наруш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оловно-правового запрет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государство в лице судеб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рганов, вправе его наказат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ключение представляет институ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стоятельств, исключающи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ступность деяния (гл. 8 У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рмы, расположенные в эт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аве, выполняют регулятивну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ункци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мимо метода правого регулирования У.п. характеризуется и особыми методами охраны общественных отношений: применение уголовно-правовых санкций, т.е. различных видов уголовного наказания; освобождение от уголовной ответственности: применение принудительных мер медицинского характера. В структурном отношении У.п. прежде всего подразделяется на две части: Общую и Особенную. Первая закрепляет общие принципы, основание уголовной ответственности, основные положения и понятия, а также порядок назначения наказания, освобождения от уголовной ответственности и наказания. Особенная часть У.п. представляет собой перечень отдельных преступлений, классифицированных по признакам родового объекта. Она - своего рода "каталог" преступных деяний, учитывающий сравнительную ценность благ, охраняемых уголовным законом. Особенная часть подразделяется на разделы, а разделы на- главы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точники У.п. представляют собой внешние формы выражения уголовно-правовых норм. В РФ уголовное законодательство является полностью кодифицированным, поэтому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динственный его источник -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головный кодекс РФ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широком смысле источникам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.п. можно признать имеющие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ее высокую юридическую силу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м УК, Конституцию РФ 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тифицированные РФ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еждународные договоры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например, Конвенция о борьбе с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езаконным захватом воздушных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удов 1970 г.).В большинстве стран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.п. кодифицировано не полностью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яду с УК источниками У.п. являются 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ные законы, устанавливающие уголовную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тветственность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demandag"/>
          <p:cNvPicPr/>
          <p:nvPr/>
        </p:nvPicPr>
        <p:blipFill>
          <a:blip r:embed="rId1"/>
          <a:stretch/>
        </p:blipFill>
        <p:spPr>
          <a:xfrm>
            <a:off x="68580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ПК</cp:lastModifiedBy>
  <dcterms:modified xsi:type="dcterms:W3CDTF">2018-02-03T12:30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