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7BB-4EF6-46ED-9E67-7956A690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25D-6865-4A1F-8C0E-557867E7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EE3-A85B-46D3-814F-13D6D497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2C2-04C4-4F83-8324-06C8B2D7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FD2C-00BF-4944-8F7E-7325E0C9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7AAF-815A-48CF-89BA-8E3B8A7F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AA03-3E7C-4BCD-B465-28D44B23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EAAE-B9DA-4BBC-A20D-154678D6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6ED7-7691-49B3-BB8A-8F648B2E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1BDF-6EA5-4AC5-ABC2-4565C76C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709D-3E43-410A-98A3-E18A558B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00D-422C-4DD3-A954-3A8A1F0F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8D4B-A3B3-4B14-9874-B6E47C2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360B-0A45-4728-BDCC-4A79CD0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E5B4-2397-49A4-947D-8079242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49B5-2F5A-4D52-B58F-3F40D407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35F8-A89F-43E0-8AD9-B62BB542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B59-6C50-4363-A27D-0922EAE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B7E-83DD-4E5B-97FC-5B8B70A8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E55-2F46-4945-9BAB-B0C2813F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2EB-B7C0-45AC-9F4D-6E0FFE59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236-3499-4AC4-B9B0-CE8BA55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C82-8D47-412C-B554-1B3FAF7B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AA2-E90E-4CCC-A609-51E60066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6FDC-F36C-4233-AA0E-57112C9B107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3070-F70B-4EED-8391-620C8E01E3D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7.jpeg"/><Relationship Id="rId6" Type="http://schemas.openxmlformats.org/officeDocument/2006/relationships/image" Target="../media/image12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1916280"/>
            <a:ext cx="7561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7d47d"/>
                </a:solidFill>
                <a:latin typeface="Georgia"/>
              </a:rPr>
              <a:t>Встреча с великими математиками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1764600">
            <a:off x="6876720" y="4292640"/>
            <a:ext cx="1730520" cy="2138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 rot="20242200">
            <a:off x="324000" y="333000"/>
            <a:ext cx="13222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4. Рене Декарт (1596-1650 гг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42706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59040" cy="3068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2390760" cy="3105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rcRect l="0" t="0" r="0" b="15099"/>
          <a:stretch/>
        </p:blipFill>
        <p:spPr>
          <a:xfrm>
            <a:off x="2700360" y="0"/>
            <a:ext cx="2286000" cy="3141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rcRect l="0" t="0" r="1695" b="0"/>
          <a:stretch/>
        </p:blipFill>
        <p:spPr>
          <a:xfrm>
            <a:off x="3132000" y="3068640"/>
            <a:ext cx="2438640" cy="3097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rcRect l="0" t="0" r="3023" b="0"/>
          <a:stretch/>
        </p:blipFill>
        <p:spPr>
          <a:xfrm>
            <a:off x="468360" y="3068640"/>
            <a:ext cx="2700360" cy="3097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rcRect l="8612" t="4165" r="7166" b="4442"/>
          <a:stretch/>
        </p:blipFill>
        <p:spPr>
          <a:xfrm>
            <a:off x="5580000" y="3068640"/>
            <a:ext cx="2592360" cy="3168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rcRect l="0" t="0" r="0" b="13143"/>
          <a:stretch/>
        </p:blipFill>
        <p:spPr>
          <a:xfrm>
            <a:off x="7143840" y="0"/>
            <a:ext cx="2340000" cy="3068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79280" y="2276640"/>
            <a:ext cx="360360" cy="73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843280" y="242100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148360" y="242100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236000" y="242100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1280" y="5445000"/>
            <a:ext cx="36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419640" y="537372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24360" y="551664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d47d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7d47d"/>
                </a:solidFill>
                <a:uFillTx/>
                <a:latin typeface="Arial"/>
              </a:rPr>
              <a:t>Разрезать (2 раза) так, чтобы при составлении частей получился бы квадрат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2349360"/>
            <a:ext cx="3240000" cy="3240360"/>
          </a:xfrm>
          <a:prstGeom prst="plus">
            <a:avLst>
              <a:gd name="adj" fmla="val 3047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11280" y="404640"/>
            <a:ext cx="79912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кой месяц короче всех? (Май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кой пятак не годится для проезда в автобусе? (Свиной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ва раза родится, один раз умирает? (Курица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то будет: три, три,три,три…(Дырка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к написать слова “мышеловка” пятью буквами? (Кошка)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жет ли дождь идти 3 дня подряд? (Нет, между ними есть ночь)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кие два местоимения мешают ездить по дорогам? (Я-мы)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то бы это значило: ноль без палочки (ничего не стоящий человек); абсолютный нуль (бесполезный человек); сводить к нулю (лишен смысла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каком числе столько же чисел, сколько букв в его названии? (Сто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колько раз за сутки часовая и минутная стрелки на часах составят прямой угол? (4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кое наименьшее целое положительное число можете написать двумя цифрами? (4/4,90, 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ашенные часы отбивают три удара за 12 сек. В течение, какого времени они пробьют 6 ударов, если между ударами промежуток 6 сек? (5 промежутков х 6 = 30 сек.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овина от половины числа равна половине. Какое это число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йдите недостающее число в ряду 2,3,5,9,…33 (5х2 – 1 = 9, 9х2 – 1=17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ремя различными способами выразите 100 пятью одинаковыми цифрами. (111 – 11 = 100; (5х5 – 5) = 100; (5+5+5+5)х5 = 100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з четырех двоек составьте выражение, значение которых равнялись бы числам 0,1.2,3,4,5,6,7,8,9,10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8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ff66"/>
                </a:solidFill>
                <a:latin typeface="Arial"/>
              </a:rPr>
              <a:t>Архимед (287 до н. э. — 212 до н. э.) — древнегреческий математик, механик</a:t>
            </a:r>
            <a:endParaRPr b="0" lang="en-US" sz="23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846440" cy="2057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95280" y="2058840"/>
            <a:ext cx="7800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рхимед родился в Сиракузах и там же занимался научной деятельностью. Учился сначала у своего отца астронома Фидия, потом в Александрии, где познакомился с учениками Евклида, с которыми всю жизнь поддерживал оживлённую переписку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Он был задумчив и спокоен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гадкой круга увлечен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ад ним невежественный вои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змахнул разбойничьим мечо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ошла столетий верениц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аучный подвиг не забы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икто не знает, кто убийца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о знает все, кто был убит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рхимед погиб от меча римского солдата, гордо воскликнув: 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«Отойди, не трогай моих чертежей!»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1. Пифагор (580-500 г.до н.э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39355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3382920" cy="4221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71640" y="4869000"/>
            <a:ext cx="652788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5e08f8"/>
                </a:solidFill>
                <a:uFillTx/>
                <a:latin typeface="Arial"/>
              </a:rPr>
              <a:t>Пифагоровы трой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Пифагор"/>
          <p:cNvPicPr/>
          <p:nvPr/>
        </p:nvPicPr>
        <p:blipFill>
          <a:blip r:embed="rId1"/>
          <a:stretch/>
        </p:blipFill>
        <p:spPr>
          <a:xfrm>
            <a:off x="5724360" y="260280"/>
            <a:ext cx="1998720" cy="2089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0920" y="1413000"/>
            <a:ext cx="568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Bodoni MT Black"/>
              </a:rPr>
              <a:t>3, 4 и 5;   5, 12 и 13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2. Леонард Эйлер (1707-1783 гг.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540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16000" y="765000"/>
            <a:ext cx="1943280" cy="18720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40360" y="692280"/>
            <a:ext cx="1942920" cy="1871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105264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тные числ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11640" y="1341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исл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0920" y="2637000"/>
            <a:ext cx="2881440" cy="2663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3573360"/>
            <a:ext cx="1368360" cy="12956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11280" y="907920"/>
            <a:ext cx="2016000" cy="2016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836640"/>
            <a:ext cx="2016000" cy="20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1413000"/>
            <a:ext cx="19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Хищные животны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134136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олосатые животны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79640" y="3645000"/>
            <a:ext cx="320040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3. Ковалевская Софья Васильевна (1850-1891 гг.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38228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7:15:26Z</dcterms:created>
  <dc:creator>WIN7XP</dc:creator>
  <dc:description/>
  <dc:language>en-US</dc:language>
  <cp:lastModifiedBy>WIN7XP</cp:lastModifiedBy>
  <dcterms:modified xsi:type="dcterms:W3CDTF">2010-12-13T10:15:15Z</dcterms:modified>
  <cp:revision>6</cp:revision>
  <dc:subject/>
  <dc:title>Встреча с великими математиками</dc:title>
</cp:coreProperties>
</file>