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32.gif" ContentType="image/gif"/>
  <Override PartName="/ppt/media/image8.jpeg" ContentType="image/jpeg"/>
  <Override PartName="/ppt/media/image10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6.gif" ContentType="image/gif"/>
  <Override PartName="/ppt/media/image28.png" ContentType="image/png"/>
  <Override PartName="/ppt/media/image5.gif" ContentType="image/gif"/>
  <Override PartName="/ppt/media/image31.wmf" ContentType="image/x-wmf"/>
  <Override PartName="/ppt/media/image7.jpeg" ContentType="image/jpeg"/>
  <Override PartName="/ppt/media/image12.jpeg" ContentType="image/jpeg"/>
  <Override PartName="/ppt/media/image13.gif" ContentType="image/gif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4.wmf" ContentType="image/x-wmf"/>
  <Override PartName="/ppt/media/image1.jpeg" ContentType="image/jpeg"/>
  <Override PartName="/ppt/media/image27.gif" ContentType="image/gif"/>
  <Override PartName="/ppt/media/image14.gif" ContentType="image/gif"/>
  <Override PartName="/ppt/media/image17.png" ContentType="image/png"/>
  <Override PartName="/ppt/media/image16.gif" ContentType="image/gif"/>
  <Override PartName="/ppt/media/image2.jpeg" ContentType="image/jpeg"/>
  <Override PartName="/ppt/media/image18.wmf" ContentType="image/x-wmf"/>
  <Override PartName="/ppt/media/image19.wmf" ContentType="image/x-wmf"/>
  <Override PartName="/ppt/media/image21.wmf" ContentType="image/x-wmf"/>
  <Override PartName="/ppt/media/image20.jpeg" ContentType="image/jpeg"/>
  <Override PartName="/ppt/media/image22.png" ContentType="image/png"/>
  <Override PartName="/ppt/media/image23.gif" ContentType="image/gif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08E4-E8EA-4ED0-BE43-5CE4047D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A02B-B937-40AE-9C74-1118195C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1583-42CB-4C4C-8924-D8DC9DD2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3966-C372-417F-B7C9-B6915D81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E3D5-E877-4B0D-BC7B-4CF18199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10C9-0C31-439F-8F53-2B47803E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8B3-5103-48C8-B196-6832F407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EDC4-8B64-4069-962A-73AE5D75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ACE0-CAA6-47DD-BC71-2C4FF49F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1B3-3951-40AB-BEB3-06B02FAB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F0D1-B2CB-4586-A664-C7831670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D65-3D6F-49D5-97AC-A852A873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4B35-C1F4-4BA5-9FC3-9D6A33F03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gif"/><Relationship Id="rId6" Type="http://schemas.openxmlformats.org/officeDocument/2006/relationships/image" Target="../media/image28.pn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jpeg"/><Relationship Id="rId5" Type="http://schemas.openxmlformats.org/officeDocument/2006/relationships/image" Target="../media/image16.gif"/><Relationship Id="rId6" Type="http://schemas.openxmlformats.org/officeDocument/2006/relationships/image" Target="../media/image17.pn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jpeg"/><Relationship Id="rId10" Type="http://schemas.openxmlformats.org/officeDocument/2006/relationships/image" Target="../media/image21.wmf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907920"/>
            <a:ext cx="698508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851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800000"/>
                  </a:solidFill>
                  <a:custDash>
                    <a:ds d="100000" sp="1000"/>
                  </a:custDash>
                  <a:miter/>
                </a:ln>
                <a:solidFill>
                  <a:srgbClr val="008000"/>
                </a:solidFill>
                <a:latin typeface="Arial"/>
              </a:rPr>
              <a:t>Знакомьтесь.</a:t>
            </a:r>
            <a:endParaRPr b="0" lang="en-US" sz="1800" spc="1" strike="noStrike">
              <a:ln cap="rnd" w="12600">
                <a:solidFill>
                  <a:srgbClr val="800000"/>
                </a:solidFill>
                <a:custDash>
                  <a:ds d="100000" sp="1000"/>
                </a:custDash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19280" y="2924280"/>
            <a:ext cx="6121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9966"/>
                  </a:solidFill>
                  <a:prstDash val="sysDot"/>
                  <a:miter/>
                </a:ln>
                <a:solidFill>
                  <a:srgbClr val="800000"/>
                </a:solidFill>
                <a:latin typeface="Times New Roman"/>
              </a:rPr>
              <a:t>Геометрия.</a:t>
            </a:r>
            <a:endParaRPr b="0" lang="en-US" sz="1800" spc="1" strike="noStrike">
              <a:ln w="38160">
                <a:solidFill>
                  <a:srgbClr val="339966"/>
                </a:solidFill>
                <a:prstDash val="sysDot"/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948360" y="1989000"/>
            <a:ext cx="1584360" cy="1268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508720" y="4437000"/>
            <a:ext cx="3184560" cy="2122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851280" y="1413000"/>
            <a:ext cx="2065320" cy="1676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0" y="1773360"/>
            <a:ext cx="1584360" cy="1515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700360" y="4653000"/>
            <a:ext cx="1727280" cy="1701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50920" y="4292640"/>
            <a:ext cx="211932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42e04"/>
                </a:solidFill>
                <a:uFillTx/>
                <a:latin typeface="Comic Sans MS"/>
              </a:rPr>
              <a:t>    </a:t>
            </a:r>
            <a:r>
              <a:rPr b="1" lang="en-US" sz="3600" spc="-1" strike="noStrike" u="sng">
                <a:solidFill>
                  <a:srgbClr val="b42e04"/>
                </a:solidFill>
                <a:uFillTx/>
                <a:latin typeface="Comic Sans MS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4362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eae34"/>
                </a:solidFill>
                <a:latin typeface="Arial"/>
              </a:rPr>
              <a:t>Слово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«геометрия»</a:t>
            </a:r>
            <a:r>
              <a:rPr b="1" lang="ru-RU" sz="3600" spc="-1" strike="noStrike">
                <a:solidFill>
                  <a:srgbClr val="0eae34"/>
                </a:solidFill>
                <a:latin typeface="Arial"/>
              </a:rPr>
              <a:t> греческое, произошло от слов «геос» - земля и «метрия» - измерение, переводится – землемер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Геометрия </a:t>
            </a:r>
            <a:r>
              <a:rPr b="1" lang="ru-RU" sz="3600" spc="-1" strike="noStrike">
                <a:solidFill>
                  <a:srgbClr val="0eae34"/>
                </a:solidFill>
                <a:latin typeface="Arial"/>
              </a:rPr>
              <a:t>– древняя нау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ланиметрия</a:t>
            </a:r>
            <a:r>
              <a:rPr b="1" lang="ru-RU" sz="3600" spc="-1" strike="noStrike">
                <a:solidFill>
                  <a:srgbClr val="0eae34"/>
                </a:solidFill>
                <a:latin typeface="Arial"/>
              </a:rPr>
              <a:t> – раздел геометрии, изучающий фигуры на плоск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0eae3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eae34"/>
                </a:solidFill>
                <a:latin typeface="Arial"/>
              </a:rPr>
              <a:t>Основные фигуры планиметрии –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точка и прям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eae34"/>
                </a:solidFill>
                <a:latin typeface="Arial"/>
              </a:rPr>
              <a:t>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спортсмен"/>
          <p:cNvPicPr/>
          <p:nvPr/>
        </p:nvPicPr>
        <p:blipFill>
          <a:blip r:embed="rId2"/>
          <a:stretch/>
        </p:blipFill>
        <p:spPr>
          <a:xfrm>
            <a:off x="250920" y="1268280"/>
            <a:ext cx="1733400" cy="4348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619280" y="260280"/>
            <a:ext cx="6121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imes New Roman"/>
              </a:rPr>
              <a:t>Физкультминутк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14840" y="1268280"/>
            <a:ext cx="68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А теперь, друзья, все дружно вст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33760" y="1989000"/>
            <a:ext cx="53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Быстро руки вверх подня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3016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В стороны, вперёд,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35200" y="3141720"/>
            <a:ext cx="53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Повернулись вправо, влев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27280" y="3645000"/>
            <a:ext cx="59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Ещё руки вверх подня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В стороны, вперёд,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35200" y="4581360"/>
            <a:ext cx="53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Повернулись вправо, влев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32320" y="5084640"/>
            <a:ext cx="48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Тихо сели, вновь за дел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187280" y="476280"/>
            <a:ext cx="6985080" cy="3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666699"/>
                  </a:solidFill>
                  <a:prstDash val="dash"/>
                  <a:miter/>
                </a:ln>
                <a:solidFill>
                  <a:srgbClr val="800080"/>
                </a:solidFill>
                <a:latin typeface="Arial"/>
              </a:rPr>
              <a:t>Геометрические</a:t>
            </a:r>
            <a:endParaRPr b="1" lang="en-US" sz="1800" spc="1" strike="noStrike">
              <a:ln w="12600">
                <a:solidFill>
                  <a:srgbClr val="666699"/>
                </a:solidFill>
                <a:prstDash val="dash"/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332000" y="1268280"/>
            <a:ext cx="6480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99"/>
                  </a:solidFill>
                  <a:prstDash val="dash"/>
                  <a:miter/>
                </a:ln>
                <a:solidFill>
                  <a:srgbClr val="993300"/>
                </a:solidFill>
                <a:latin typeface="Times New Roman"/>
              </a:rPr>
              <a:t>иллюзии</a:t>
            </a:r>
            <a:endParaRPr b="1" lang="en-US" sz="1800" spc="1" strike="noStrike">
              <a:ln w="12600">
                <a:solidFill>
                  <a:srgbClr val="333399"/>
                </a:solidFill>
                <a:prstDash val="dash"/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2520720" cy="1530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203640" y="2637000"/>
            <a:ext cx="2808360" cy="1544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395280" y="4581360"/>
            <a:ext cx="2521080" cy="1413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6881760" y="2781360"/>
            <a:ext cx="1712880" cy="2663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3419640" y="4581360"/>
            <a:ext cx="2592360" cy="1389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395280" y="2133720"/>
            <a:ext cx="52563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5f5f07"/>
                </a:solidFill>
                <a:latin typeface="Times New Roman"/>
              </a:rPr>
              <a:t>Параллельны ли прямые?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5f5f07"/>
              </a:solidFill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6093000"/>
            <a:ext cx="83343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3366ff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Times New Roman"/>
              </a:rPr>
              <a:t>Геометрия есть исскуство правильно рассуждать на неправильном чертеже.</a:t>
            </a:r>
            <a:endParaRPr b="1" lang="en-US" sz="2000" spc="1" strike="noStrike">
              <a:ln w="9360">
                <a:solidFill>
                  <a:srgbClr val="3366ff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093080" y="6381720"/>
            <a:ext cx="8665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66ff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Times New Roman"/>
              </a:rPr>
              <a:t>Пойа Д.</a:t>
            </a:r>
            <a:endParaRPr b="0" lang="en-US" sz="2000" spc="1" strike="noStrike">
              <a:ln w="9360">
                <a:solidFill>
                  <a:srgbClr val="3366ff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4360" y="115920"/>
            <a:ext cx="799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Какие фигуры изображены на рисунках?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179280" y="981000"/>
            <a:ext cx="3075120" cy="3095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rcRect l="10149" t="10584" r="35469" b="52945"/>
          <a:stretch/>
        </p:blipFill>
        <p:spPr>
          <a:xfrm>
            <a:off x="6227640" y="981000"/>
            <a:ext cx="2737080" cy="2649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rcRect l="17461" t="57796" r="24306" b="1868"/>
          <a:stretch/>
        </p:blipFill>
        <p:spPr>
          <a:xfrm>
            <a:off x="3635280" y="3860640"/>
            <a:ext cx="2737080" cy="273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79280" y="981000"/>
            <a:ext cx="3095640" cy="309564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27640" y="981000"/>
            <a:ext cx="2737080" cy="26431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35280" y="3860640"/>
            <a:ext cx="2737080" cy="271476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3635280" y="126828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835280" y="3860640"/>
            <a:ext cx="604836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24720" y="2565360"/>
            <a:ext cx="432000" cy="14292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76360" y="3716280"/>
            <a:ext cx="431640" cy="14292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85080" y="3860640"/>
            <a:ext cx="432000" cy="14292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451640" y="2707920"/>
            <a:ext cx="505080" cy="14436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885080" y="3573360"/>
            <a:ext cx="432000" cy="2872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908000" y="2492280"/>
            <a:ext cx="358920" cy="21744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8000" y="2708280"/>
            <a:ext cx="360360" cy="21600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403280" y="3860640"/>
            <a:ext cx="504720" cy="21600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60360" y="2205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02520" y="2205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93800" y="39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68720" y="4005360"/>
            <a:ext cx="5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4360" y="333360"/>
            <a:ext cx="792000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Сравните длины отрезков АВ и СД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17440" y="4941720"/>
            <a:ext cx="293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Arial"/>
              </a:rPr>
              <a:t>АВ = С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8000" y="2708280"/>
            <a:ext cx="604872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5647E-006 L 2.77778E-007 0.16794 E">
                                      <p:cBhvr>
                                        <p:cTn id="588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4360" y="1989000"/>
            <a:ext cx="914400" cy="91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19280" y="1989000"/>
            <a:ext cx="914400" cy="91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1989000"/>
            <a:ext cx="914400" cy="91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1989000"/>
            <a:ext cx="914400" cy="91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92360" y="2924280"/>
            <a:ext cx="914400" cy="91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2924280"/>
            <a:ext cx="914400" cy="91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56000" y="2924280"/>
            <a:ext cx="914400" cy="91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19280" y="2924280"/>
            <a:ext cx="914400" cy="91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979640" y="260280"/>
            <a:ext cx="64483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3300"/>
                </a:solidFill>
                <a:latin typeface="Times New Roman"/>
              </a:rPr>
              <a:t>Сколько квадратов видите вы на рисунках?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3300"/>
              </a:solidFill>
              <a:latin typeface="Times New Roman"/>
              <a:ea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64000" y="1268280"/>
            <a:ext cx="914400" cy="914400"/>
          </a:xfrm>
          <a:prstGeom prst="rect">
            <a:avLst/>
          </a:prstGeom>
          <a:solidFill>
            <a:srgbClr val="daedb1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00720" y="1268280"/>
            <a:ext cx="914400" cy="914400"/>
          </a:xfrm>
          <a:prstGeom prst="rect">
            <a:avLst/>
          </a:prstGeom>
          <a:solidFill>
            <a:srgbClr val="daedb1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36000" y="1268280"/>
            <a:ext cx="914400" cy="914400"/>
          </a:xfrm>
          <a:prstGeom prst="rect">
            <a:avLst/>
          </a:prstGeom>
          <a:solidFill>
            <a:srgbClr val="daedb1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64000" y="2205000"/>
            <a:ext cx="914400" cy="914400"/>
          </a:xfrm>
          <a:prstGeom prst="rect">
            <a:avLst/>
          </a:prstGeom>
          <a:solidFill>
            <a:srgbClr val="daedb1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00720" y="2205000"/>
            <a:ext cx="914400" cy="914400"/>
          </a:xfrm>
          <a:prstGeom prst="rect">
            <a:avLst/>
          </a:prstGeom>
          <a:solidFill>
            <a:srgbClr val="daedb1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36000" y="2205000"/>
            <a:ext cx="914400" cy="914400"/>
          </a:xfrm>
          <a:prstGeom prst="rect">
            <a:avLst/>
          </a:prstGeom>
          <a:solidFill>
            <a:srgbClr val="daedb1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64000" y="3141720"/>
            <a:ext cx="914400" cy="914400"/>
          </a:xfrm>
          <a:prstGeom prst="rect">
            <a:avLst/>
          </a:prstGeom>
          <a:solidFill>
            <a:srgbClr val="daedb1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00720" y="3141720"/>
            <a:ext cx="914400" cy="914400"/>
          </a:xfrm>
          <a:prstGeom prst="rect">
            <a:avLst/>
          </a:prstGeom>
          <a:solidFill>
            <a:srgbClr val="daedb1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6000" y="3141720"/>
            <a:ext cx="914400" cy="914400"/>
          </a:xfrm>
          <a:prstGeom prst="rect">
            <a:avLst/>
          </a:prstGeom>
          <a:solidFill>
            <a:srgbClr val="daedb1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4581360"/>
            <a:ext cx="914400" cy="91440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47640" y="4581360"/>
            <a:ext cx="914400" cy="91440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84360" y="4581360"/>
            <a:ext cx="914400" cy="91440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19640" y="4581360"/>
            <a:ext cx="914400" cy="91440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56000" y="4581360"/>
            <a:ext cx="914400" cy="91440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92720" y="4581360"/>
            <a:ext cx="914400" cy="91440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5516640"/>
            <a:ext cx="914400" cy="91440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47640" y="5516640"/>
            <a:ext cx="914400" cy="91440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516640"/>
            <a:ext cx="914400" cy="91440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19640" y="5516640"/>
            <a:ext cx="914400" cy="91440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6000" y="5516640"/>
            <a:ext cx="914400" cy="91440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92720" y="5516640"/>
            <a:ext cx="914400" cy="91440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13280" y="1143000"/>
            <a:ext cx="21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11 квадр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513280" y="974880"/>
            <a:ext cx="464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74520" y="5373720"/>
            <a:ext cx="21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17 квадр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1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1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1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2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2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set>
                                      <p:cBhvr>
                                        <p:cTn id="63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set>
                                      <p:cBhvr>
                                        <p:cTn id="63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set>
                                      <p:cBhvr>
                                        <p:cTn id="63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set>
                                      <p:cBhvr>
                                        <p:cTn id="63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5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5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eae34"/>
                                      </p:to>
                                    </p:animClr>
                                    <p:set>
                                      <p:cBhvr>
                                        <p:cTn id="65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eae34"/>
                                      </p:to>
                                    </p:animClr>
                                    <p:set>
                                      <p:cBhvr>
                                        <p:cTn id="66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eae34"/>
                                      </p:to>
                                    </p:animClr>
                                    <p:set>
                                      <p:cBhvr>
                                        <p:cTn id="66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eae34"/>
                                      </p:to>
                                    </p:animClr>
                                    <p:set>
                                      <p:cBhvr>
                                        <p:cTn id="66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7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7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7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8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1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69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70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70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70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aedb1"/>
                                      </p:to>
                                    </p:animClr>
                                    <p:set>
                                      <p:cBhvr>
                                        <p:cTn id="71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aedb1"/>
                                      </p:to>
                                    </p:animClr>
                                    <p:set>
                                      <p:cBhvr>
                                        <p:cTn id="71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aedb1"/>
                                      </p:to>
                                    </p:animClr>
                                    <p:set>
                                      <p:cBhvr>
                                        <p:cTn id="71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aedb1"/>
                                      </p:to>
                                    </p:animClr>
                                    <p:set>
                                      <p:cBhvr>
                                        <p:cTn id="72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72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72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73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73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aedb1"/>
                                      </p:to>
                                    </p:animClr>
                                    <p:set>
                                      <p:cBhvr>
                                        <p:cTn id="73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aedb1"/>
                                      </p:to>
                                    </p:animClr>
                                    <p:set>
                                      <p:cBhvr>
                                        <p:cTn id="74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aedb1"/>
                                      </p:to>
                                    </p:animClr>
                                    <p:set>
                                      <p:cBhvr>
                                        <p:cTn id="74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aedb1"/>
                                      </p:to>
                                    </p:animClr>
                                    <p:set>
                                      <p:cBhvr>
                                        <p:cTn id="74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75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75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75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76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aedb1"/>
                                      </p:to>
                                    </p:animClr>
                                    <p:set>
                                      <p:cBhvr>
                                        <p:cTn id="76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aedb1"/>
                                      </p:to>
                                    </p:animClr>
                                    <p:set>
                                      <p:cBhvr>
                                        <p:cTn id="77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aedb1"/>
                                      </p:to>
                                    </p:animClr>
                                    <p:set>
                                      <p:cBhvr>
                                        <p:cTn id="77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aedb1"/>
                                      </p:to>
                                    </p:animClr>
                                    <p:set>
                                      <p:cBhvr>
                                        <p:cTn id="77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78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78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78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79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aedb1"/>
                                      </p:to>
                                    </p:animClr>
                                    <p:set>
                                      <p:cBhvr>
                                        <p:cTn id="79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aedb1"/>
                                      </p:to>
                                    </p:animClr>
                                    <p:set>
                                      <p:cBhvr>
                                        <p:cTn id="79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aedb1"/>
                                      </p:to>
                                    </p:animClr>
                                    <p:set>
                                      <p:cBhvr>
                                        <p:cTn id="80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aedb1"/>
                                      </p:to>
                                    </p:animClr>
                                    <p:set>
                                      <p:cBhvr>
                                        <p:cTn id="80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80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81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81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81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82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82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82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83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83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5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1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4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7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0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3" dur="50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6" dur="50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900000" y="189000"/>
            <a:ext cx="7848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Сколько имеется треугольников на рисунках?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3500280"/>
            <a:ext cx="3097080" cy="3024360"/>
          </a:xfrm>
          <a:prstGeom prst="rect">
            <a:avLst/>
          </a:prstGeom>
          <a:solidFill>
            <a:srgbClr val="daedb1"/>
          </a:solidFill>
          <a:ln w="57240">
            <a:solidFill>
              <a:srgbClr val="0eae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3420800">
            <a:off x="850680" y="1568160"/>
            <a:ext cx="981000" cy="988920"/>
          </a:xfrm>
          <a:prstGeom prst="rtTriangle">
            <a:avLst/>
          </a:prstGeom>
          <a:solidFill>
            <a:srgbClr val="ff99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8321400">
            <a:off x="1542600" y="2241000"/>
            <a:ext cx="1008000" cy="936360"/>
          </a:xfrm>
          <a:prstGeom prst="rtTriangle">
            <a:avLst/>
          </a:prstGeom>
          <a:solidFill>
            <a:srgbClr val="ff99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681000">
            <a:off x="1587240" y="924120"/>
            <a:ext cx="928800" cy="1004760"/>
          </a:xfrm>
          <a:prstGeom prst="rtTriangle">
            <a:avLst/>
          </a:prstGeom>
          <a:solidFill>
            <a:srgbClr val="ff99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8082600">
            <a:off x="2311200" y="1609200"/>
            <a:ext cx="863640" cy="914400"/>
          </a:xfrm>
          <a:prstGeom prst="rtTriangle">
            <a:avLst/>
          </a:prstGeom>
          <a:solidFill>
            <a:srgbClr val="ff99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9036800">
            <a:off x="2268000" y="1628640"/>
            <a:ext cx="914400" cy="914400"/>
          </a:xfrm>
          <a:prstGeom prst="rtTriangle">
            <a:avLst/>
          </a:prstGeom>
          <a:solidFill>
            <a:srgbClr val="ff99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8212200">
            <a:off x="2892600" y="2266560"/>
            <a:ext cx="955440" cy="866880"/>
          </a:xfrm>
          <a:prstGeom prst="rtTriangle">
            <a:avLst/>
          </a:prstGeom>
          <a:solidFill>
            <a:srgbClr val="ff99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2789400">
            <a:off x="3577680" y="1642680"/>
            <a:ext cx="944640" cy="852480"/>
          </a:xfrm>
          <a:prstGeom prst="rtTriangle">
            <a:avLst/>
          </a:prstGeom>
          <a:solidFill>
            <a:srgbClr val="ff99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8934800">
            <a:off x="2914560" y="969480"/>
            <a:ext cx="932040" cy="924120"/>
          </a:xfrm>
          <a:prstGeom prst="rtTriangle">
            <a:avLst/>
          </a:prstGeom>
          <a:solidFill>
            <a:srgbClr val="ff99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32000" y="1413000"/>
            <a:ext cx="2735280" cy="1295280"/>
          </a:xfrm>
          <a:prstGeom prst="rect">
            <a:avLst/>
          </a:prstGeom>
          <a:noFill/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41800" y="1773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11280" y="3499920"/>
            <a:ext cx="3097080" cy="3024360"/>
          </a:xfrm>
          <a:prstGeom prst="line">
            <a:avLst/>
          </a:prstGeom>
          <a:ln w="57240">
            <a:solidFill>
              <a:srgbClr val="0eae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1280" y="3500280"/>
            <a:ext cx="3097080" cy="3024360"/>
          </a:xfrm>
          <a:prstGeom prst="line">
            <a:avLst/>
          </a:prstGeom>
          <a:ln w="57240">
            <a:solidFill>
              <a:srgbClr val="0eae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11280" y="4941360"/>
            <a:ext cx="3097080" cy="142920"/>
          </a:xfrm>
          <a:prstGeom prst="line">
            <a:avLst/>
          </a:prstGeom>
          <a:ln w="57240">
            <a:solidFill>
              <a:srgbClr val="0eae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24000" y="3500280"/>
            <a:ext cx="71640" cy="3024360"/>
          </a:xfrm>
          <a:prstGeom prst="line">
            <a:avLst/>
          </a:prstGeom>
          <a:ln w="57240">
            <a:solidFill>
              <a:srgbClr val="0eae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09800" y="47242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292720" y="2133720"/>
            <a:ext cx="1224000" cy="1224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516720" y="2133720"/>
            <a:ext cx="360360" cy="5032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516720" y="1413000"/>
            <a:ext cx="719280" cy="720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876720" y="1413000"/>
            <a:ext cx="358920" cy="1224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6659640" y="2637000"/>
            <a:ext cx="217440" cy="720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92720" y="3357720"/>
            <a:ext cx="13669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59640" y="3357720"/>
            <a:ext cx="720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77080" y="2637000"/>
            <a:ext cx="503280" cy="720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60920" y="1979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859280" y="4005360"/>
            <a:ext cx="1657440" cy="244800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16720" y="4005360"/>
            <a:ext cx="2303280" cy="129528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859280" y="5300640"/>
            <a:ext cx="3960720" cy="11527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859280" y="4581360"/>
            <a:ext cx="2665440" cy="187200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6720" y="4005360"/>
            <a:ext cx="503280" cy="1800000"/>
          </a:xfrm>
          <a:prstGeom prst="line">
            <a:avLst/>
          </a:prstGeom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5796000" y="5013360"/>
            <a:ext cx="2952720" cy="287280"/>
          </a:xfrm>
          <a:prstGeom prst="line">
            <a:avLst/>
          </a:prstGeom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53640" y="618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90160" y="36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730360" y="5248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86000" y="4456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60920" y="5796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77280" y="4095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10880" y="4581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05440" y="5950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1413000"/>
            <a:ext cx="1368360" cy="129528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332000" y="1413000"/>
            <a:ext cx="1439640" cy="129528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00360" y="1413000"/>
            <a:ext cx="1366920" cy="129528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700360" y="1413000"/>
            <a:ext cx="1366920" cy="129528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24000" y="2060640"/>
            <a:ext cx="1224000" cy="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2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2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93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93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eae34"/>
                                      </p:to>
                                    </p:animClr>
                                    <p:set>
                                      <p:cBhvr>
                                        <p:cTn id="94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eae34"/>
                                      </p:to>
                                    </p:animClr>
                                    <p:set>
                                      <p:cBhvr>
                                        <p:cTn id="94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94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95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95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95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96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96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97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97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98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98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98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99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99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99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100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100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100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101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ff"/>
                                      </p:to>
                                    </p:animClr>
                                    <p:set>
                                      <p:cBhvr>
                                        <p:cTn id="101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ff"/>
                                      </p:to>
                                    </p:animClr>
                                    <p:set>
                                      <p:cBhvr>
                                        <p:cTn id="101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ff"/>
                                      </p:to>
                                    </p:animClr>
                                    <p:set>
                                      <p:cBhvr>
                                        <p:cTn id="102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ff"/>
                                      </p:to>
                                    </p:animClr>
                                    <p:set>
                                      <p:cBhvr>
                                        <p:cTn id="102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06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06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06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07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07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07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08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08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3300"/>
                                      </p:to>
                                    </p:animClr>
                                    <p:set>
                                      <p:cBhvr>
                                        <p:cTn id="109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3300"/>
                                      </p:to>
                                    </p:animClr>
                                    <p:set>
                                      <p:cBhvr>
                                        <p:cTn id="109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3300"/>
                                      </p:to>
                                    </p:animClr>
                                    <p:set>
                                      <p:cBhvr>
                                        <p:cTn id="109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10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10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10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 rot="20536200">
            <a:off x="2268360" y="2420640"/>
            <a:ext cx="4464360" cy="38257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755640" y="692280"/>
            <a:ext cx="7775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</a:t>
            </a:r>
            <a:endParaRPr b="1" lang="en-US" sz="1800" spc="1" strike="noStrike">
              <a:ln w="3492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3640" y="4292640"/>
            <a:ext cx="760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Первый урок геометрии в 7 клас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«Знакомьтесь. Геометр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Поплавская Марина Борис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МОУ «Общеобразовательная средняя школа №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г. Ряза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2400"/>
            </a:br>
            <a:r>
              <a:rPr b="1" i="1" lang="ru-RU" sz="3600" spc="-1" strike="noStrike">
                <a:solidFill>
                  <a:srgbClr val="0000ff"/>
                </a:solidFill>
                <a:latin typeface="Monotype Corsiva"/>
              </a:rPr>
              <a:t>«</a:t>
            </a:r>
            <a:r>
              <a:rPr b="1" i="1" lang="ru-RU" sz="3600" spc="-1" strike="noStrike">
                <a:solidFill>
                  <a:srgbClr val="0000ff"/>
                </a:solidFill>
                <a:latin typeface="Monotype Corsiva"/>
              </a:rPr>
              <a:t>Никогда до настоящего времени мы не жили </a:t>
            </a: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Monotype Corsiva"/>
              </a:rPr>
              <a:t>в  такой геометрический период. </a:t>
            </a: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Monotype Corsiva"/>
              </a:rPr>
              <a:t>          Все вокруг – геометрия».</a:t>
            </a: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Monotype Corsiva"/>
              </a:rPr>
              <a:t>         ( Ле Корбюзье - французский архитектор</a:t>
            </a:r>
            <a:r>
              <a:rPr b="1" i="1" lang="ru-RU" sz="4000" spc="-1" strike="noStrike">
                <a:solidFill>
                  <a:srgbClr val="0000ff"/>
                </a:solidFill>
                <a:latin typeface="Monotype Corsiva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2331720"/>
            <a:ext cx="85899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3200" spc="-1" strike="noStrike">
                <a:solidFill>
                  <a:srgbClr val="663300"/>
                </a:solidFill>
                <a:latin typeface="Monotype Corsiva"/>
              </a:rPr>
              <a:t>Мир, в котором мы живем, наполнен геометрией домов и улиц, гор и полей, творениями природы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Monotype Corsiva"/>
              </a:rPr>
              <a:t>      </a:t>
            </a:r>
            <a:r>
              <a:rPr b="1" i="1" lang="en-US" sz="3200" spc="-1" strike="noStrike">
                <a:solidFill>
                  <a:srgbClr val="990000"/>
                </a:solidFill>
                <a:latin typeface="Monotype Corsiva"/>
              </a:rPr>
              <a:t>«Геометрия является самым могущественным средством для изощрения наших    умственных способностей и дает нам возможность правильно мыслить и рассужда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Monotype Corsiva"/>
              </a:rPr>
              <a:t>                                                       </a:t>
            </a:r>
            <a:r>
              <a:rPr b="1" i="1" lang="en-US" sz="3200" spc="-1" strike="noStrike">
                <a:solidFill>
                  <a:srgbClr val="990000"/>
                </a:solidFill>
                <a:latin typeface="Monotype Corsiva"/>
              </a:rPr>
              <a:t>(Галилео Галиле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3311" t="0" r="51639" b="10591"/>
          <a:stretch/>
        </p:blipFill>
        <p:spPr>
          <a:xfrm>
            <a:off x="4284720" y="4508640"/>
            <a:ext cx="1368360" cy="1149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48228" t="4390" r="4930" b="7205"/>
          <a:stretch/>
        </p:blipFill>
        <p:spPr>
          <a:xfrm>
            <a:off x="0" y="4508640"/>
            <a:ext cx="1801800" cy="1439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0" t="61355" r="3742" b="2282"/>
          <a:stretch/>
        </p:blipFill>
        <p:spPr>
          <a:xfrm>
            <a:off x="6084720" y="4365720"/>
            <a:ext cx="2808360" cy="1225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rcRect l="6191" t="5296" r="4285" b="41298"/>
          <a:stretch/>
        </p:blipFill>
        <p:spPr>
          <a:xfrm>
            <a:off x="1979640" y="5157720"/>
            <a:ext cx="2089080" cy="1441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263700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Comic Sans MS"/>
              </a:rPr>
              <a:t>Занятия людей в древ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Comic Sans MS"/>
              </a:rPr>
              <a:t>Строительство храмов и дом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Comic Sans MS"/>
              </a:rPr>
              <a:t>Украшение орнаментом посуды и жилищ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Comic Sans MS"/>
              </a:rPr>
              <a:t>Разметка земли, измерение расстояний и площад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990000"/>
                </a:solidFill>
                <a:latin typeface="Comic Sans MS"/>
              </a:rPr>
              <a:t>объемов сосу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189000"/>
            <a:ext cx="878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«Геометрия была открыта египтянами и возник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ри измерении земли. Это измерение было 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необходимо вследствие разлития Нила, постоянно смывавшего границы. Нет ничего необычного в том, что эта наука, как и другие, возникла из потребностей человека»                           Эвдем Родос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284720" y="5734080"/>
            <a:ext cx="4716360" cy="93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620640"/>
            <a:ext cx="2808360" cy="2879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2635200" cy="2736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11280" y="0"/>
            <a:ext cx="6732720" cy="685800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24360" y="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«В геометрии нет цар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              </a:t>
            </a: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дорог»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907920"/>
            <a:ext cx="4967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Евклид – известный древнегрече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математик, родился в Афинах около 325 г. до н.э, был учеником Платона. В г.Александрия организовал математическую шко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Основная его работа «Начала», в которой он обработал все предыдущие достижения греческих математиков и создал фундамент для ее дальнейше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4005360"/>
            <a:ext cx="4824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Евклид сам сформулировал </a:t>
            </a: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V </a:t>
            </a: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постулат (аксиому) о параллельных прям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Другие его рабо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«Данны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«Явл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«Опти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omic Sans MS"/>
              </a:rPr>
              <a:t>«Сечения кано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4005360"/>
            <a:ext cx="275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9520" y="3645000"/>
            <a:ext cx="209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Евкли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(</a:t>
            </a: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III </a:t>
            </a: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в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260280"/>
            <a:ext cx="8064360" cy="1081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24720" y="1341360"/>
            <a:ext cx="863640" cy="4392720"/>
          </a:xfrm>
          <a:prstGeom prst="downArrow">
            <a:avLst>
              <a:gd name="adj1" fmla="val 31620"/>
              <a:gd name="adj2" fmla="val 103468"/>
            </a:avLst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341360"/>
            <a:ext cx="863640" cy="4319640"/>
          </a:xfrm>
          <a:prstGeom prst="downArrow">
            <a:avLst>
              <a:gd name="adj1" fmla="val 36028"/>
              <a:gd name="adj2" fmla="val 90632"/>
            </a:avLst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87640" y="1341360"/>
            <a:ext cx="792360" cy="3311640"/>
          </a:xfrm>
          <a:prstGeom prst="downArrow">
            <a:avLst>
              <a:gd name="adj1" fmla="val 36602"/>
              <a:gd name="adj2" fmla="val 62885"/>
            </a:avLst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1916280"/>
            <a:ext cx="4248000" cy="1873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Платон основал школ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девиз кото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«Не знающие геометрии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допускаются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(2400 лет наза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Comic Sans MS"/>
              </a:rPr>
              <a:t>Основоположники геометр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51640" y="1341360"/>
            <a:ext cx="647640" cy="1511280"/>
          </a:xfrm>
          <a:prstGeom prst="downArrow">
            <a:avLst>
              <a:gd name="adj1" fmla="val 36278"/>
              <a:gd name="adj2" fmla="val 47697"/>
            </a:avLst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48360" y="5734080"/>
            <a:ext cx="3887640" cy="863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Рене Дек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(17 в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63640" y="4653000"/>
            <a:ext cx="3888000" cy="865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Евклид (</a:t>
            </a: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III</a:t>
            </a: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 в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2852640"/>
            <a:ext cx="3888000" cy="8654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Пифаг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(</a:t>
            </a: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VI</a:t>
            </a:r>
            <a:r>
              <a:rPr b="1" lang="ru-RU" sz="2400" spc="-1" strike="noStrike">
                <a:solidFill>
                  <a:srgbClr val="663300"/>
                </a:solidFill>
                <a:latin typeface="Comic Sans MS"/>
              </a:rPr>
              <a:t> в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5661000"/>
            <a:ext cx="3887640" cy="865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Фалес Милет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mic Sans MS"/>
              </a:rPr>
              <a:t>(640-548 г.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1341360"/>
            <a:ext cx="648000" cy="719280"/>
          </a:xfrm>
          <a:prstGeom prst="downArrow">
            <a:avLst>
              <a:gd name="adj1" fmla="val 36278"/>
              <a:gd name="adj2" fmla="val 22688"/>
            </a:avLst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-360" y="1557000"/>
            <a:ext cx="8642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Геометрия – это наука о геометрических фигу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Планиметрия – это раздел геометрии, в котором изучаются фигуры на плоскости</a:t>
            </a:r>
            <a:r>
              <a:rPr b="0" lang="en-US" sz="2800" spc="-1" strike="noStrike">
                <a:solidFill>
                  <a:srgbClr val="ff505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476360" y="333360"/>
            <a:ext cx="6408720" cy="48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rnd" w="12600">
                  <a:solidFill>
                    <a:srgbClr val="993300"/>
                  </a:solidFill>
                  <a:custDash>
                    <a:ds d="100000" sp="1000"/>
                  </a:custDash>
                  <a:miter/>
                </a:ln>
                <a:solidFill>
                  <a:srgbClr val="008000"/>
                </a:solidFill>
                <a:latin typeface="Arial"/>
              </a:rPr>
              <a:t>Геометрические</a:t>
            </a:r>
            <a:endParaRPr b="0" lang="en-US" sz="2400" spc="1" strike="noStrike">
              <a:ln cap="rnd" w="12600">
                <a:solidFill>
                  <a:srgbClr val="993300"/>
                </a:solidFill>
                <a:custDash>
                  <a:ds d="100000" sp="1000"/>
                </a:custDash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340000" y="836640"/>
            <a:ext cx="424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prstDash val="sysDot"/>
                  <a:miter/>
                </a:ln>
                <a:solidFill>
                  <a:srgbClr val="993300"/>
                </a:solidFill>
                <a:latin typeface="Times New Roman"/>
              </a:rPr>
              <a:t>фигуры</a:t>
            </a:r>
            <a:endParaRPr b="0" lang="en-US" sz="2400" spc="1" strike="noStrike">
              <a:ln w="9360">
                <a:solidFill>
                  <a:srgbClr val="ff0000"/>
                </a:solidFill>
                <a:prstDash val="sysDot"/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20953800">
            <a:off x="324000" y="3860640"/>
            <a:ext cx="18000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0" y="3716280"/>
            <a:ext cx="2376360" cy="1274760"/>
          </a:xfrm>
          <a:custGeom>
            <a:avLst/>
            <a:gdLst>
              <a:gd name="textAreaLeft" fmla="*/ 522360 w 2376360"/>
              <a:gd name="textAreaRight" fmla="*/ 1854000 w 2376360"/>
              <a:gd name="textAreaTop" fmla="*/ 280080 h 1274760"/>
              <a:gd name="textAreaBottom" fmla="*/ 994680 h 127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436600">
            <a:off x="5292360" y="4365360"/>
            <a:ext cx="2376360" cy="2016000"/>
          </a:xfrm>
          <a:prstGeom prst="triangle">
            <a:avLst>
              <a:gd name="adj" fmla="val 75551"/>
            </a:avLst>
          </a:prstGeom>
          <a:solidFill>
            <a:srgbClr val="f7a7a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5157720"/>
            <a:ext cx="1439640" cy="1440000"/>
          </a:xfrm>
          <a:prstGeom prst="ellipse">
            <a:avLst/>
          </a:prstGeom>
          <a:solidFill>
            <a:srgbClr val="b42e04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16360" y="5084640"/>
            <a:ext cx="1584360" cy="1584360"/>
          </a:xfrm>
          <a:prstGeom prst="ellipse">
            <a:avLst/>
          </a:prstGeom>
          <a:noFill/>
          <a:ln w="28440">
            <a:solidFill>
              <a:srgbClr val="660033">
                <a:alpha val="9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41497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99cc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29720" y="692280"/>
            <a:ext cx="1214280" cy="2808000"/>
          </a:xfrm>
          <a:prstGeom prst="diamond">
            <a:avLst/>
          </a:prstGeom>
          <a:solidFill>
            <a:srgbClr val="0eae34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11280" y="0"/>
            <a:ext cx="7993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Основные геометрические фигуры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</a:rPr>
              <a:t>на плоскости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0720" y="1596960"/>
            <a:ext cx="11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Т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2276640"/>
            <a:ext cx="14472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6640" y="2060640"/>
            <a:ext cx="87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А, В, С… - большие буквы латинского алфав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2637000"/>
            <a:ext cx="75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eae34"/>
                </a:solidFill>
                <a:latin typeface="Arial"/>
              </a:rPr>
              <a:t>Точка есть то, что не имеет частей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eae34"/>
                </a:solidFill>
                <a:latin typeface="Arial"/>
              </a:rPr>
              <a:t>                                                  </a:t>
            </a:r>
            <a:r>
              <a:rPr b="1" i="1" lang="en-US" sz="2800" spc="-1" strike="noStrike">
                <a:solidFill>
                  <a:srgbClr val="0eae34"/>
                </a:solidFill>
                <a:latin typeface="Arial"/>
              </a:rPr>
              <a:t>Евкли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9600" y="3592440"/>
            <a:ext cx="15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Прям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08000" y="4076280"/>
            <a:ext cx="4319640" cy="252108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4920" y="6256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10360" y="4095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61280" y="380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4797360"/>
            <a:ext cx="521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Прямая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МР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или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– одна маленькая буква латинского    алфавита  или две большие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 flipV="1">
            <a:off x="611280" y="620640"/>
            <a:ext cx="7993080" cy="29527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4076640"/>
            <a:ext cx="7128000" cy="187344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7800" y="27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58880" y="115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1341360"/>
            <a:ext cx="144360" cy="1447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88000" y="1916280"/>
            <a:ext cx="14436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35280" y="4076640"/>
            <a:ext cx="14436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3284640"/>
            <a:ext cx="14436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01080" y="692280"/>
            <a:ext cx="14436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101080" y="5734080"/>
            <a:ext cx="14436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61800" y="54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45280" y="4189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58880" y="5950080"/>
            <a:ext cx="4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534520" y="5373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5661000"/>
            <a:ext cx="14436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4869000"/>
            <a:ext cx="14472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72360" y="2492280"/>
            <a:ext cx="144720" cy="1447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10520" y="119700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5440" y="13413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442360" y="2244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18520" y="4365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6160" y="5516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843280" y="170028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7308720" y="5373720"/>
            <a:ext cx="1428840" cy="552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250920" y="1484280"/>
            <a:ext cx="1841400" cy="1612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7164360" y="3357720"/>
            <a:ext cx="1152720" cy="1019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3564000" y="1268280"/>
            <a:ext cx="1933560" cy="3097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2843280" y="4797360"/>
            <a:ext cx="3583080" cy="1798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250920" y="4653000"/>
            <a:ext cx="2144520" cy="1668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6732720" y="692280"/>
            <a:ext cx="2109600" cy="1487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26920" y="-14400"/>
            <a:ext cx="83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Какие инструменты нужны на уроках геометр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0"/>
          <a:srcRect l="6763" t="8031" r="7484" b="8031"/>
          <a:stretch/>
        </p:blipFill>
        <p:spPr>
          <a:xfrm>
            <a:off x="5796000" y="285264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1"/>
          <a:stretch/>
        </p:blipFill>
        <p:spPr>
          <a:xfrm rot="1642200">
            <a:off x="539280" y="4005000"/>
            <a:ext cx="325296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07:55:24Z</dcterms:created>
  <dc:creator>PoMara</dc:creator>
  <dc:description/>
  <dc:language>en-US</dc:language>
  <cp:lastModifiedBy>КарМаН</cp:lastModifiedBy>
  <dcterms:modified xsi:type="dcterms:W3CDTF">2011-08-29T11:38:16Z</dcterms:modified>
  <cp:revision>40</cp:revision>
  <dc:subject/>
  <dc:title>Слайд 1</dc:title>
</cp:coreProperties>
</file>