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4.png" ContentType="image/png"/>
  <Override PartName="/ppt/media/image10.jpeg" ContentType="image/jpeg"/>
  <Override PartName="/ppt/media/image19.gif" ContentType="image/gif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26.gif" ContentType="image/gif"/>
  <Override PartName="/ppt/media/image33.jpeg" ContentType="image/jpeg"/>
  <Override PartName="/ppt/media/image45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7.png" ContentType="image/png"/>
  <Override PartName="/ppt/media/image35.jpeg" ContentType="image/jpeg"/>
  <Override PartName="/ppt/media/image25.gif" ContentType="image/gi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27.gif" ContentType="image/gif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4FC-B651-4851-B356-8960FA64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F67-366A-4730-B184-962B8F00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DB6-7671-48CB-AE84-76E0D101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421-92D4-4566-8C4B-1598F101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93A7-2C3B-4EA2-AD08-33D67740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4624-CA44-4461-8952-27FC1BEC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C9F3-C088-416F-B4E3-20902BFC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9ED1-5EA6-4F19-8F31-988DA47E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7BF3-7571-4E48-9DE2-8522A321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7567-B890-416E-AA14-2AB25E6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7699-C646-4545-A074-D15BE86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41E-0BC0-423E-81FB-FE8957E0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ADCC-F2D5-482C-B4D4-32B2B10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4669-955C-4FDF-B243-1EBE0D3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B9DD-C2F9-4FCC-9B33-8B804860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EEA8-BFAB-4340-A7C3-9D51ABD3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7457-BA13-46C0-A073-3582B56D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1A04-8773-4002-8DF8-07249CB9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B16F-DCDA-4812-9306-58A4F703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2891-FF08-4228-8075-6B3D85EC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F707-116B-4EB4-9E00-BFD840D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9DB7-73BB-4748-85B0-B715399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77A-B97E-4F8D-8EE7-5EB58AE5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ACA4-19BF-403C-90EC-83C59E54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C538-9C1F-4C80-86C7-8214379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5349-624E-4FEC-9896-F3D7CDE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7A02-33E5-4367-B502-D38F5AF8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3702-9241-4854-B7E8-E8B5512B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A41A-F424-4AB0-9F26-847C7574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B251-9D85-4463-84A9-6653EEE1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75FA-1120-48D3-98E2-79D7BA3B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F8BA-BADA-4FF0-AB78-D704DAA8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17B41-3F05-4F27-8396-5AA642D5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A72-5A08-4016-B6BB-5EA986CC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B084-5C63-4FCC-B2E4-0BE42CC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EC05-9C7D-44A3-9292-EDE3067C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5583-4635-44D4-BC42-7E234D49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24AB-C251-474E-9F9B-8C69A80B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452C-E092-4513-9654-B216F05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3685-2C48-46C3-980E-DE768CB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2B43-FE72-4A4B-B96F-5B87DC95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C8B5-EA62-4616-9F31-5D0D3128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9222-E208-46F5-B1C1-F4130A89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E596-5584-46A6-A3F6-96441C82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84B-6B51-4405-BCB2-6EF3D695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F4F0E-5432-4E26-848F-3C980674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61DDC-64C5-4B2C-918D-F3EECAB9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C44A2-F7DA-4AE5-B0D4-38E5E76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97708-3451-424D-851E-C03A002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092C5-C11D-460A-8C9C-3226616C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AE37-BF62-4177-9C17-4D09066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ED2F9-413B-4D06-91A7-3B35162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083F-4498-4771-8FED-C6E0D14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7F00A-EABE-44D7-9DB8-1C54AA2B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89267-51CD-4B97-8B13-F445C5E6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DB0-06E8-4CDC-9FE5-D9C9877C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1DEB-A1DC-4424-8153-A0FE9103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03BE-6A2C-4A10-BB35-06436284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040B-615F-432E-99DB-A1E097A9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B556-D998-47DA-B6B6-3D5BB27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ED7F-092B-4BE3-B61D-26976FE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0A1C-3BBF-454B-94A8-8FF5EF39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AE90-8CA2-4C9B-9733-ACFF5BEC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55034-02C7-4E1A-BAB8-71B5544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0707E-01FD-400C-83D0-7F29638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6F7B-F804-4DE7-A85C-84A8945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FA9-8A62-48BC-A582-A367B6A0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A396E-EE31-445B-BAF4-A7F2BC1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85E1-F720-4945-826B-5DE64622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42550-E010-400A-916A-797351FF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12B9-ADB2-451D-B43F-2503A124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8CA9F-6897-4E21-86F0-BFC4A1A8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36E1F-05D0-450D-ADB9-1E0723F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861CA-CA88-4BA8-9DB7-122E331B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B243-A344-47C4-9A3C-BF55460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72727-76F9-4791-919B-F57EAE7C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23E67-8769-4CBF-8748-131C52E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097-83A0-4298-97D8-E5978466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1C64-9E7D-4204-A0DC-034B0F8D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36D37-26D3-45D5-ABF0-96A3722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A5DF6-9234-4203-8333-80542277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E6182-35A6-4D16-A612-12EDB6D4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B8736-2734-472A-9C7C-54FBF0EA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8AF-1628-4689-8D79-29B9C43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DD3-69D3-4778-B2BC-460AAAA67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5955-4849-4BF8-95A0-8E7A6DD31E7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1E64-65DA-4984-8FE9-8A594BC4F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F305-E4B1-480E-BF2A-7A006E745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F13-F1F9-43FB-BF38-E5844714D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A926-95D6-440E-9725-17956B925FB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68B7-8014-45A4-8102-5BBF2E68AD4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Круглая лента лицом вниз 1"/>
          <p:cNvSpPr/>
          <p:nvPr/>
        </p:nvSpPr>
        <p:spPr>
          <a:xfrm>
            <a:off x="642960" y="928800"/>
            <a:ext cx="8286840" cy="4572000"/>
          </a:xfrm>
          <a:custGeom>
            <a:avLst/>
            <a:gdLst>
              <a:gd name="textAreaLeft" fmla="*/ 2071440 w 8286840"/>
              <a:gd name="textAreaRight" fmla="*/ 6215400 w 8286840"/>
              <a:gd name="textAreaTop" fmla="*/ 1143000 h 4572000"/>
              <a:gd name="textAreaBottom" fmla="*/ 44366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есть у дерева, цветк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есть у уравнени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нак особый – радикал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ним связан, вне сомнен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й многих он итог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 этим мы не спорим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еемся, что каждый смог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ить: это … Корен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8" descr="47.gif"/>
          <p:cNvPicPr/>
          <p:nvPr/>
        </p:nvPicPr>
        <p:blipFill>
          <a:blip r:embed="rId2"/>
          <a:stretch/>
        </p:blipFill>
        <p:spPr>
          <a:xfrm>
            <a:off x="2357280" y="3286080"/>
            <a:ext cx="1357560" cy="21747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47.gif"/>
          <p:cNvPicPr/>
          <p:nvPr/>
        </p:nvPicPr>
        <p:blipFill>
          <a:blip r:embed="rId3"/>
          <a:stretch/>
        </p:blipFill>
        <p:spPr>
          <a:xfrm>
            <a:off x="4143240" y="3786120"/>
            <a:ext cx="1357560" cy="21751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0" descr="47.gif"/>
          <p:cNvPicPr/>
          <p:nvPr/>
        </p:nvPicPr>
        <p:blipFill>
          <a:blip r:embed="rId4"/>
          <a:stretch/>
        </p:blipFill>
        <p:spPr>
          <a:xfrm>
            <a:off x="5500800" y="3214800"/>
            <a:ext cx="135720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5" descr="45.gif"/>
          <p:cNvPicPr/>
          <p:nvPr/>
        </p:nvPicPr>
        <p:blipFill>
          <a:blip r:embed="rId2"/>
          <a:stretch/>
        </p:blipFill>
        <p:spPr>
          <a:xfrm>
            <a:off x="2643120" y="3214800"/>
            <a:ext cx="1357560" cy="220968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6" descr="45.gif"/>
          <p:cNvPicPr/>
          <p:nvPr/>
        </p:nvPicPr>
        <p:blipFill>
          <a:blip r:embed="rId3"/>
          <a:stretch/>
        </p:blipFill>
        <p:spPr>
          <a:xfrm>
            <a:off x="4357800" y="3571920"/>
            <a:ext cx="1357200" cy="2209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7" descr="45.gif"/>
          <p:cNvPicPr/>
          <p:nvPr/>
        </p:nvPicPr>
        <p:blipFill>
          <a:blip r:embed="rId4"/>
          <a:stretch/>
        </p:blipFill>
        <p:spPr>
          <a:xfrm>
            <a:off x="5786280" y="3143160"/>
            <a:ext cx="1357560" cy="22100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2" descr="53.gif"/>
          <p:cNvPicPr/>
          <p:nvPr/>
        </p:nvPicPr>
        <p:blipFill>
          <a:blip r:embed="rId2"/>
          <a:stretch/>
        </p:blipFill>
        <p:spPr>
          <a:xfrm>
            <a:off x="2286000" y="306864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53.gif"/>
          <p:cNvPicPr/>
          <p:nvPr/>
        </p:nvPicPr>
        <p:blipFill>
          <a:blip r:embed="rId3"/>
          <a:stretch/>
        </p:blipFill>
        <p:spPr>
          <a:xfrm>
            <a:off x="3786120" y="3357720"/>
            <a:ext cx="1643040" cy="24415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9" descr="53.gif"/>
          <p:cNvPicPr/>
          <p:nvPr/>
        </p:nvPicPr>
        <p:blipFill>
          <a:blip r:embed="rId4"/>
          <a:stretch/>
        </p:blipFill>
        <p:spPr>
          <a:xfrm>
            <a:off x="5214960" y="2928960"/>
            <a:ext cx="1643040" cy="24415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" descr="42.gif"/>
          <p:cNvPicPr/>
          <p:nvPr/>
        </p:nvPicPr>
        <p:blipFill>
          <a:blip r:embed="rId2"/>
          <a:stretch/>
        </p:blipFill>
        <p:spPr>
          <a:xfrm>
            <a:off x="2428920" y="3214800"/>
            <a:ext cx="1643040" cy="21762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3" descr="42.gif"/>
          <p:cNvPicPr/>
          <p:nvPr/>
        </p:nvPicPr>
        <p:blipFill>
          <a:blip r:embed="rId3"/>
          <a:stretch/>
        </p:blipFill>
        <p:spPr>
          <a:xfrm>
            <a:off x="5500800" y="3143160"/>
            <a:ext cx="1643040" cy="21765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42.gif"/>
          <p:cNvPicPr/>
          <p:nvPr/>
        </p:nvPicPr>
        <p:blipFill>
          <a:blip r:embed="rId4"/>
          <a:stretch/>
        </p:blipFill>
        <p:spPr>
          <a:xfrm>
            <a:off x="4143240" y="3643200"/>
            <a:ext cx="1643040" cy="217656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" descr="54.gif"/>
          <p:cNvPicPr/>
          <p:nvPr/>
        </p:nvPicPr>
        <p:blipFill>
          <a:blip r:embed="rId2"/>
          <a:stretch/>
        </p:blipFill>
        <p:spPr>
          <a:xfrm>
            <a:off x="5357880" y="285768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7" descr="54.gif"/>
          <p:cNvPicPr/>
          <p:nvPr/>
        </p:nvPicPr>
        <p:blipFill>
          <a:blip r:embed="rId3"/>
          <a:stretch/>
        </p:blipFill>
        <p:spPr>
          <a:xfrm>
            <a:off x="3857760" y="3643200"/>
            <a:ext cx="1447560" cy="25574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8" descr="54.gif"/>
          <p:cNvPicPr/>
          <p:nvPr/>
        </p:nvPicPr>
        <p:blipFill>
          <a:blip r:embed="rId4"/>
          <a:stretch/>
        </p:blipFill>
        <p:spPr>
          <a:xfrm>
            <a:off x="2357280" y="2857680"/>
            <a:ext cx="1447920" cy="255744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9" descr="48.gif"/>
          <p:cNvPicPr/>
          <p:nvPr/>
        </p:nvPicPr>
        <p:blipFill>
          <a:blip r:embed="rId2"/>
          <a:stretch/>
        </p:blipFill>
        <p:spPr>
          <a:xfrm>
            <a:off x="2428920" y="328608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0" descr="48.gif"/>
          <p:cNvPicPr/>
          <p:nvPr/>
        </p:nvPicPr>
        <p:blipFill>
          <a:blip r:embed="rId3"/>
          <a:stretch/>
        </p:blipFill>
        <p:spPr>
          <a:xfrm>
            <a:off x="4071960" y="3786120"/>
            <a:ext cx="1233360" cy="214164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1" descr="48.gif"/>
          <p:cNvPicPr/>
          <p:nvPr/>
        </p:nvPicPr>
        <p:blipFill>
          <a:blip r:embed="rId4"/>
          <a:stretch/>
        </p:blipFill>
        <p:spPr>
          <a:xfrm>
            <a:off x="5429160" y="3214800"/>
            <a:ext cx="1233720" cy="21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2" name="Скругленный прямоугольник 9"/>
          <p:cNvGrpSpPr/>
          <p:nvPr/>
        </p:nvGrpSpPr>
        <p:grpSpPr>
          <a:xfrm>
            <a:off x="2298600" y="2462040"/>
            <a:ext cx="4187880" cy="2109960"/>
            <a:chOff x="2298600" y="2462040"/>
            <a:chExt cx="4187880" cy="2109960"/>
          </a:xfrm>
        </p:grpSpPr>
        <p:pic>
          <p:nvPicPr>
            <p:cNvPr id="373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2298600" y="2462040"/>
              <a:ext cx="418788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4"/>
            <p:cNvSpPr/>
            <p:nvPr/>
          </p:nvSpPr>
          <p:spPr>
            <a:xfrm>
              <a:off x="2454120" y="2598840"/>
              <a:ext cx="3876840" cy="180324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усть весь ден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 вас буд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хорошее настро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-49320" y="-6480"/>
            <a:ext cx="8742600" cy="14702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-5868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мпьютер – не более              мин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товый телефон – не более               сек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левизор – не более       часов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" descr=""/>
          <p:cNvPicPr/>
          <p:nvPr/>
        </p:nvPicPr>
        <p:blipFill>
          <a:blip r:embed="rId2"/>
          <a:stretch/>
        </p:blipFill>
        <p:spPr>
          <a:xfrm>
            <a:off x="4286160" y="1143000"/>
            <a:ext cx="1409760" cy="9237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6786720" y="1328760"/>
            <a:ext cx="20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Lucida Sans Unicode"/>
              </a:rPr>
              <a:t>20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3"/>
          <a:stretch/>
        </p:blipFill>
        <p:spPr>
          <a:xfrm>
            <a:off x="5214960" y="2071800"/>
            <a:ext cx="1752480" cy="9237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8"/>
          <p:cNvSpPr/>
          <p:nvPr/>
        </p:nvSpPr>
        <p:spPr>
          <a:xfrm>
            <a:off x="7613640" y="226548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Lucida Sans Unicode"/>
              </a:rPr>
              <a:t>40с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4"/>
          <a:stretch/>
        </p:blipFill>
        <p:spPr>
          <a:xfrm>
            <a:off x="4030560" y="3000240"/>
            <a:ext cx="733680" cy="9241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11"/>
          <p:cNvSpPr/>
          <p:nvPr/>
        </p:nvSpPr>
        <p:spPr>
          <a:xfrm>
            <a:off x="6070680" y="3171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Lucida Sans Unicode"/>
              </a:rPr>
              <a:t>2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4" descr="images"/>
          <p:cNvPicPr/>
          <p:nvPr/>
        </p:nvPicPr>
        <p:blipFill>
          <a:blip r:embed="rId5"/>
          <a:stretch/>
        </p:blipFill>
        <p:spPr>
          <a:xfrm>
            <a:off x="144360" y="144360"/>
            <a:ext cx="2665440" cy="4005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5" descr="802166-young-boy-on-cell-phone"/>
          <p:cNvPicPr/>
          <p:nvPr/>
        </p:nvPicPr>
        <p:blipFill>
          <a:blip r:embed="rId6"/>
          <a:stretch/>
        </p:blipFill>
        <p:spPr>
          <a:xfrm>
            <a:off x="2124000" y="4149720"/>
            <a:ext cx="2737080" cy="1841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48176292_i_telek_2"/>
          <p:cNvPicPr/>
          <p:nvPr/>
        </p:nvPicPr>
        <p:blipFill>
          <a:blip r:embed="rId7"/>
          <a:stretch/>
        </p:blipFill>
        <p:spPr>
          <a:xfrm>
            <a:off x="4859280" y="2602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ень можно съедать не более         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достей, дневная норма потребл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леба составляет             кг, сливоч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ла           к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грамм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ладостей, хлеба, сливочного масла может съедать в день уче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5857920" y="0"/>
            <a:ext cx="571320" cy="13572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3357720" y="1857240"/>
            <a:ext cx="928440" cy="1071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3"/>
          <a:stretch/>
        </p:blipFill>
        <p:spPr>
          <a:xfrm>
            <a:off x="1571760" y="264312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7"/>
          <p:cNvSpPr/>
          <p:nvPr/>
        </p:nvSpPr>
        <p:spPr>
          <a:xfrm>
            <a:off x="785880" y="142884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0,25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; 7 ; -4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;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 0 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48104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25 ; 7 ; -4 ;      ;  0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" descr=""/>
          <p:cNvPicPr/>
          <p:nvPr/>
        </p:nvPicPr>
        <p:blipFill>
          <a:blip r:embed="rId2"/>
          <a:stretch/>
        </p:blipFill>
        <p:spPr>
          <a:xfrm>
            <a:off x="3929040" y="1214280"/>
            <a:ext cx="214200" cy="9558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5500800" y="1285920"/>
            <a:ext cx="500040" cy="9446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4"/>
          <a:stretch/>
        </p:blipFill>
        <p:spPr>
          <a:xfrm>
            <a:off x="928800" y="2214720"/>
            <a:ext cx="7358040" cy="819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-90000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8" descr=""/>
          <p:cNvPicPr/>
          <p:nvPr/>
        </p:nvPicPr>
        <p:blipFill>
          <a:blip r:embed="rId5"/>
          <a:stretch/>
        </p:blipFill>
        <p:spPr>
          <a:xfrm>
            <a:off x="1000080" y="3171960"/>
            <a:ext cx="2979720" cy="785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6"/>
          <a:stretch/>
        </p:blipFill>
        <p:spPr>
          <a:xfrm>
            <a:off x="1214280" y="4043520"/>
            <a:ext cx="2086200" cy="1114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3" descr=""/>
          <p:cNvPicPr/>
          <p:nvPr/>
        </p:nvPicPr>
        <p:blipFill>
          <a:blip r:embed="rId7"/>
          <a:stretch/>
        </p:blipFill>
        <p:spPr>
          <a:xfrm>
            <a:off x="1000080" y="5472000"/>
            <a:ext cx="3200400" cy="7048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8"/>
          <p:cNvSpPr/>
          <p:nvPr/>
        </p:nvSpPr>
        <p:spPr>
          <a:xfrm>
            <a:off x="1214280" y="207180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6     66      68     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9"/>
          <p:cNvSpPr/>
          <p:nvPr/>
        </p:nvSpPr>
        <p:spPr>
          <a:xfrm>
            <a:off x="4000680" y="3071880"/>
            <a:ext cx="357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=7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0"/>
          <p:cNvSpPr/>
          <p:nvPr/>
        </p:nvSpPr>
        <p:spPr>
          <a:xfrm>
            <a:off x="3429000" y="4143240"/>
            <a:ext cx="36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=  =0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9" descr=""/>
          <p:cNvPicPr/>
          <p:nvPr/>
        </p:nvPicPr>
        <p:blipFill>
          <a:blip r:embed="rId8"/>
          <a:stretch/>
        </p:blipFill>
        <p:spPr>
          <a:xfrm>
            <a:off x="3857760" y="3857760"/>
            <a:ext cx="571320" cy="16221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ая соединительная линия 23"/>
          <p:cNvSpPr/>
          <p:nvPr/>
        </p:nvSpPr>
        <p:spPr>
          <a:xfrm>
            <a:off x="3000240" y="5429160"/>
            <a:ext cx="1508400" cy="714600"/>
          </a:xfrm>
          <a:prstGeom prst="line">
            <a:avLst/>
          </a:prstGeom>
          <a:ln w="42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25"/>
          <p:cNvSpPr/>
          <p:nvPr/>
        </p:nvSpPr>
        <p:spPr>
          <a:xfrm flipV="1">
            <a:off x="3071880" y="5357520"/>
            <a:ext cx="1428840" cy="785880"/>
          </a:xfrm>
          <a:prstGeom prst="line">
            <a:avLst/>
          </a:prstGeom>
          <a:ln w="42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5929200" y="3143160"/>
            <a:ext cx="32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стави оцен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ошибка  -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3 ошибки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5 ошибок -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939960" y="857160"/>
            <a:ext cx="8204040" cy="2212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72040" y="3643200"/>
            <a:ext cx="355752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304" name="Picture 2" descr="C:\Documents and Settings\Администратор.COMP\Мои документы\картинки\Сказочные персонажи\4cad205d9fb7.gif"/>
          <p:cNvPicPr/>
          <p:nvPr/>
        </p:nvPicPr>
        <p:blipFill>
          <a:blip r:embed="rId2"/>
          <a:stretch/>
        </p:blipFill>
        <p:spPr>
          <a:xfrm>
            <a:off x="0" y="4071960"/>
            <a:ext cx="3220920" cy="25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8824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2( 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.   9,6            Б.  0              В.  0,38         Г. 2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числите:         (2 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+ (-3 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.   42             Б.   18            В.   60           Г.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,5   + 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.    62,93           Б. 0               В.  8,2         Г. 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0,5 ( 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.   141      Б.     9.            В.      6              Г.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числите значение выражения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. 0          Б. 0,7           В.1             Г.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457200" y="1882800"/>
          <a:ext cx="8229600" cy="741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928800" y="128592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005f"/>
                </a:solidFill>
                <a:latin typeface="Times New Roman"/>
              </a:rPr>
              <a:t>Если правильно решено 5 заданий – ставим 5, на 4 задания – 4, на 3 задания –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то мы повторили сегодня?                                                                                                                                                    Вы выполняли задания и какие выводы вы сделали для себя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Шёл мудрец, а навстречу ему три человека, которые везли под горячим солнцем тележки с камнями для строительства храма. Мудрец остановился и задал каждому  по вопросу. У первого спросил: «Что ты делал сегодня?» И тот с ухмылкой ответил, что целый день возил проклятые камни. У второго мудрец спросил: «А что ты делал сегодня?» и тот ответил: «А я добросовестно выполнял свою работу». А третий улыбнулся, его лицо засветилось радостью и удовольствием. А я принимал участие в строительстве храм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Ребята, кто работал так, как первый человек, поднимите рук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Кто работал как второй человек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Кто принимал участие в строительстве храм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Стрелка вправо 3">
            <a:hlinkClick r:id="rId2" action="ppaction://hlinksldjump"/>
          </p:cNvPr>
          <p:cNvSpPr/>
          <p:nvPr/>
        </p:nvSpPr>
        <p:spPr>
          <a:xfrm>
            <a:off x="0" y="614376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388c"/>
          </a:soli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9360">
            <a:solidFill>
              <a:srgbClr val="e90062"/>
            </a:solidFill>
            <a:miter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бщить знания по т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ить знания, умения и навыки учащихся по теме “ Арифметический квадратный корень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вычислительные навыки, устную и письменную математическую речь, а так же внимание и личностные качества (целеустремленность, настойчивость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ть чувство ответственности за качество и результат выполняемой рабо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умение осуществлять взаимоконтроль и самоконтро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Блок-схема: перфолента 3" descr=""/>
          <p:cNvPicPr/>
          <p:nvPr/>
        </p:nvPicPr>
        <p:blipFill>
          <a:blip r:embed="rId1"/>
          <a:stretch/>
        </p:blipFill>
        <p:spPr>
          <a:xfrm>
            <a:off x="463680" y="-23760"/>
            <a:ext cx="83628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077920"/>
            <a:ext cx="85154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Квадратным корнем из числа а, называется (число, квадрат которого равен 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рифметическим квадратным корнем из числа а, называется (неотрицательное число, квадрат которого равен 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Как называется знак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Сколько имеет корней уравнение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  &gt; 0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 =  0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  &lt;  0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Arial"/>
            </a:endParaRPr>
          </a:p>
        </p:txBody>
      </p:sp>
      <p:pic>
        <p:nvPicPr>
          <p:cNvPr id="313" name="Таблица 3" descr=""/>
          <p:cNvPicPr/>
          <p:nvPr/>
        </p:nvPicPr>
        <p:blipFill>
          <a:blip r:embed="rId1"/>
          <a:stretch/>
        </p:blipFill>
        <p:spPr>
          <a:xfrm>
            <a:off x="55440" y="1494000"/>
            <a:ext cx="8790120" cy="507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214200" y="1457280"/>
          <a:ext cx="6096240" cy="701640"/>
        </p:xfrm>
        <a:graphic>
          <a:graphicData uri="http://schemas.openxmlformats.org/drawingml/2006/table">
            <a:tbl>
              <a:tblPr/>
              <a:tblGrid>
                <a:gridCol w="500040"/>
                <a:gridCol w="571680"/>
                <a:gridCol w="642960"/>
                <a:gridCol w="571320"/>
                <a:gridCol w="571680"/>
                <a:gridCol w="571320"/>
                <a:gridCol w="571680"/>
                <a:gridCol w="571320"/>
                <a:gridCol w="571680"/>
                <a:gridCol w="9525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000240" y="2108160"/>
          <a:ext cx="4170600" cy="701640"/>
        </p:xfrm>
        <a:graphic>
          <a:graphicData uri="http://schemas.openxmlformats.org/drawingml/2006/table">
            <a:tbl>
              <a:tblPr/>
              <a:tblGrid>
                <a:gridCol w="595440"/>
                <a:gridCol w="595440"/>
                <a:gridCol w="596880"/>
                <a:gridCol w="595080"/>
                <a:gridCol w="595440"/>
                <a:gridCol w="595440"/>
                <a:gridCol w="596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857240" y="2674800"/>
          <a:ext cx="4114800" cy="70164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520"/>
                <a:gridCol w="587160"/>
                <a:gridCol w="588960"/>
                <a:gridCol w="587520"/>
                <a:gridCol w="587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857240" y="3957480"/>
          <a:ext cx="4143600" cy="702000"/>
        </p:xfrm>
        <a:graphic>
          <a:graphicData uri="http://schemas.openxmlformats.org/drawingml/2006/table">
            <a:tbl>
              <a:tblPr/>
              <a:tblGrid>
                <a:gridCol w="592200"/>
                <a:gridCol w="592200"/>
                <a:gridCol w="592200"/>
                <a:gridCol w="590400"/>
                <a:gridCol w="592200"/>
                <a:gridCol w="592200"/>
                <a:gridCol w="5922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786200" y="5815080"/>
          <a:ext cx="4052880" cy="701640"/>
        </p:xfrm>
        <a:graphic>
          <a:graphicData uri="http://schemas.openxmlformats.org/drawingml/2006/table">
            <a:tbl>
              <a:tblPr/>
              <a:tblGrid>
                <a:gridCol w="579600"/>
                <a:gridCol w="577800"/>
                <a:gridCol w="579600"/>
                <a:gridCol w="579240"/>
                <a:gridCol w="579600"/>
                <a:gridCol w="577800"/>
                <a:gridCol w="5792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571920" y="4541760"/>
          <a:ext cx="3571920" cy="701640"/>
        </p:xfrm>
        <a:graphic>
          <a:graphicData uri="http://schemas.openxmlformats.org/drawingml/2006/table">
            <a:tbl>
              <a:tblPr/>
              <a:tblGrid>
                <a:gridCol w="595440"/>
                <a:gridCol w="595080"/>
                <a:gridCol w="595440"/>
                <a:gridCol w="595080"/>
                <a:gridCol w="595440"/>
                <a:gridCol w="595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4143240" y="3314880"/>
          <a:ext cx="3571920" cy="701640"/>
        </p:xfrm>
        <a:graphic>
          <a:graphicData uri="http://schemas.openxmlformats.org/drawingml/2006/table">
            <a:tbl>
              <a:tblPr/>
              <a:tblGrid>
                <a:gridCol w="595440"/>
                <a:gridCol w="595440"/>
                <a:gridCol w="595080"/>
                <a:gridCol w="595440"/>
                <a:gridCol w="595440"/>
                <a:gridCol w="5950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1857240" y="5186520"/>
          <a:ext cx="3500640" cy="70164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3920"/>
                <a:gridCol w="582840"/>
                <a:gridCol w="583920"/>
                <a:gridCol w="5828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58760" y="665280"/>
            <a:ext cx="9131400" cy="4917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5"/>
          <p:cNvSpPr/>
          <p:nvPr/>
        </p:nvSpPr>
        <p:spPr>
          <a:xfrm>
            <a:off x="428760" y="28584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Решите зад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0" y="121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Курение сокращает жизнь детей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2"/>
          <a:stretch/>
        </p:blipFill>
        <p:spPr>
          <a:xfrm>
            <a:off x="7356600" y="1000080"/>
            <a:ext cx="1778040" cy="8589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0" y="22860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акова продолжительность жизни курящих детей, если средняя продолжительность жизни </a:t>
            </a: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56 лет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L 0 -0.07722 E">
                                      <p:cBhvr>
                                        <p:cTn id="115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48555E-006 L -0.00018 -0.07584 E">
                                      <p:cBhvr>
                                        <p:cTn id="11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711E-006 L 0 -0.1771 E">
                                      <p:cBhvr>
                                        <p:cTn id="119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http://www.ignyte.com/portfolio/GraphicsIllustrations/12-boy-girl-large.jpg"/>
          <p:cNvPicPr/>
          <p:nvPr/>
        </p:nvPicPr>
        <p:blipFill>
          <a:blip r:embed="rId1"/>
          <a:stretch/>
        </p:blipFill>
        <p:spPr>
          <a:xfrm>
            <a:off x="1000080" y="1285920"/>
            <a:ext cx="7626240" cy="4786200"/>
          </a:xfrm>
          <a:prstGeom prst="rect">
            <a:avLst/>
          </a:prstGeom>
          <a:ln w="0">
            <a:noFill/>
          </a:ln>
        </p:spPr>
      </p:pic>
      <p:pic>
        <p:nvPicPr>
          <p:cNvPr id="332" name="TextBox 3" descr=""/>
          <p:cNvPicPr/>
          <p:nvPr/>
        </p:nvPicPr>
        <p:blipFill>
          <a:blip r:embed="rId2"/>
          <a:stretch/>
        </p:blipFill>
        <p:spPr>
          <a:xfrm>
            <a:off x="3676680" y="311040"/>
            <a:ext cx="2260440" cy="84780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4" descr=""/>
          <p:cNvPicPr/>
          <p:nvPr/>
        </p:nvPicPr>
        <p:blipFill>
          <a:blip r:embed="rId3"/>
          <a:stretch/>
        </p:blipFill>
        <p:spPr>
          <a:xfrm>
            <a:off x="743040" y="3382920"/>
            <a:ext cx="2390760" cy="847800"/>
          </a:xfrm>
          <a:prstGeom prst="rect">
            <a:avLst/>
          </a:prstGeom>
          <a:ln w="0">
            <a:noFill/>
          </a:ln>
        </p:spPr>
      </p:pic>
      <p:pic>
        <p:nvPicPr>
          <p:cNvPr id="334" name="TextBox 5" descr=""/>
          <p:cNvPicPr/>
          <p:nvPr/>
        </p:nvPicPr>
        <p:blipFill>
          <a:blip r:embed="rId4"/>
          <a:stretch/>
        </p:blipFill>
        <p:spPr>
          <a:xfrm>
            <a:off x="5962680" y="2670120"/>
            <a:ext cx="2552760" cy="84780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6" descr=""/>
          <p:cNvPicPr/>
          <p:nvPr/>
        </p:nvPicPr>
        <p:blipFill>
          <a:blip r:embed="rId5"/>
          <a:stretch/>
        </p:blipFill>
        <p:spPr>
          <a:xfrm>
            <a:off x="6315120" y="1736640"/>
            <a:ext cx="2195640" cy="847800"/>
          </a:xfrm>
          <a:prstGeom prst="rect">
            <a:avLst/>
          </a:prstGeom>
          <a:ln w="0">
            <a:noFill/>
          </a:ln>
        </p:spPr>
      </p:pic>
      <p:pic>
        <p:nvPicPr>
          <p:cNvPr id="336" name="TextBox 7" descr=""/>
          <p:cNvPicPr/>
          <p:nvPr/>
        </p:nvPicPr>
        <p:blipFill>
          <a:blip r:embed="rId6"/>
          <a:stretch/>
        </p:blipFill>
        <p:spPr>
          <a:xfrm>
            <a:off x="6029280" y="3382920"/>
            <a:ext cx="1981080" cy="847800"/>
          </a:xfrm>
          <a:prstGeom prst="rect">
            <a:avLst/>
          </a:prstGeom>
          <a:ln w="0">
            <a:noFill/>
          </a:ln>
        </p:spPr>
      </p:pic>
      <p:pic>
        <p:nvPicPr>
          <p:cNvPr id="337" name="TextBox 8" descr=""/>
          <p:cNvPicPr/>
          <p:nvPr/>
        </p:nvPicPr>
        <p:blipFill>
          <a:blip r:embed="rId7"/>
          <a:stretch/>
        </p:blipFill>
        <p:spPr>
          <a:xfrm>
            <a:off x="817560" y="1809720"/>
            <a:ext cx="2333520" cy="84780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9" descr=""/>
          <p:cNvPicPr/>
          <p:nvPr/>
        </p:nvPicPr>
        <p:blipFill>
          <a:blip r:embed="rId8"/>
          <a:stretch/>
        </p:blipFill>
        <p:spPr>
          <a:xfrm>
            <a:off x="957240" y="2523960"/>
            <a:ext cx="1560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2" descr="51.gif"/>
          <p:cNvPicPr/>
          <p:nvPr/>
        </p:nvPicPr>
        <p:blipFill>
          <a:blip r:embed="rId2"/>
          <a:stretch/>
        </p:blipFill>
        <p:spPr>
          <a:xfrm>
            <a:off x="2484360" y="3357720"/>
            <a:ext cx="1216080" cy="19047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5" descr="51.gif"/>
          <p:cNvPicPr/>
          <p:nvPr/>
        </p:nvPicPr>
        <p:blipFill>
          <a:blip r:embed="rId3"/>
          <a:stretch/>
        </p:blipFill>
        <p:spPr>
          <a:xfrm>
            <a:off x="4000680" y="3643200"/>
            <a:ext cx="1357200" cy="21258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6" descr="51.gif"/>
          <p:cNvPicPr/>
          <p:nvPr/>
        </p:nvPicPr>
        <p:blipFill>
          <a:blip r:embed="rId4"/>
          <a:stretch/>
        </p:blipFill>
        <p:spPr>
          <a:xfrm>
            <a:off x="5500800" y="3321000"/>
            <a:ext cx="1285920" cy="2013120"/>
          </a:xfrm>
          <a:prstGeom prst="rect">
            <a:avLst/>
          </a:prstGeom>
          <a:ln w="0">
            <a:noFill/>
          </a:ln>
        </p:spPr>
      </p:pic>
      <p:grpSp>
        <p:nvGrpSpPr>
          <p:cNvPr id="343" name="Скругленный прямоугольник 11"/>
          <p:cNvGrpSpPr/>
          <p:nvPr/>
        </p:nvGrpSpPr>
        <p:grpSpPr>
          <a:xfrm>
            <a:off x="5010120" y="249120"/>
            <a:ext cx="3689280" cy="1751040"/>
            <a:chOff x="5010120" y="249120"/>
            <a:chExt cx="3689280" cy="1751040"/>
          </a:xfrm>
        </p:grpSpPr>
        <p:pic>
          <p:nvPicPr>
            <p:cNvPr id="344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10120" y="249120"/>
              <a:ext cx="368928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7"/>
            <p:cNvSpPr/>
            <p:nvPr/>
          </p:nvSpPr>
          <p:spPr>
            <a:xfrm>
              <a:off x="5153040" y="366840"/>
              <a:ext cx="340992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Танцевальная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отрезок.mp3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1:42:49Z</dcterms:created>
  <dc:creator>дом</dc:creator>
  <dc:description/>
  <dc:language>en-US</dc:language>
  <cp:lastModifiedBy>Compag</cp:lastModifiedBy>
  <dcterms:modified xsi:type="dcterms:W3CDTF">2014-11-30T18:19:35Z</dcterms:modified>
  <cp:revision>80</cp:revision>
  <dc:subject/>
  <dc:title>Тема урока: «Арифметический корень квадратный»</dc:title>
</cp:coreProperties>
</file>