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5AC-2C8E-4536-AA5F-A6B5C61F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4BD-269C-4AD0-8D3B-618AEAEC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17A-7DF3-4895-8AE1-769036DF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BC1-61A8-4CDF-ACA7-8359005F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786-AA48-4A0A-82BE-4F841DC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DE4-7BD7-4014-AC75-E51D6D0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099-AB6F-4671-B762-BD2C83A0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187-85B0-497C-B37A-EC3FDA9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3BE-0115-452E-8B28-5741874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5C2-2E41-4EAD-9128-A346FC8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57F-7CE6-4F4F-B8E2-BD50AF8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5E4-3FDC-4BD7-BCCD-3ECBB1C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6C8-4538-47CF-BAC6-95DB7BA57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3212640"/>
            <a:ext cx="756108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индивидуальной работы с детьми  подготовительной группы на дорожках здоров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25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Конспекти занять психолога 2014 План-конспект занятия подготовительная группа по теме цикл"/>
          <p:cNvPicPr/>
          <p:nvPr/>
        </p:nvPicPr>
        <p:blipFill>
          <a:blip r:embed="rId1"/>
          <a:stretch/>
        </p:blipFill>
        <p:spPr>
          <a:xfrm>
            <a:off x="4572000" y="4624560"/>
            <a:ext cx="4435560" cy="2401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устарела Кто служит в Приморском крае, с. Монастырище,в/ч 16871 - Страница 182 - форум для призывников"/>
          <p:cNvPicPr/>
          <p:nvPr/>
        </p:nvPicPr>
        <p:blipFill>
          <a:blip r:embed="rId2"/>
          <a:stretch/>
        </p:blipFill>
        <p:spPr>
          <a:xfrm>
            <a:off x="345960" y="4830840"/>
            <a:ext cx="1657440" cy="1987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1258920" y="2016000"/>
            <a:ext cx="684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Формировать у детей интерес к двигательной деятельн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поощрять  их активность и самосто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Коррекционные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Формировать пространственные и временные представл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Развивать речь посредством движ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Способствовать развитию познавательных процессов  через разнообразные виды двигательной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Воспитывать уверенность в своих силах, умение преодолевать препят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Одно из средств реализации поставленных задач , являются дорожки здоровь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Дорожки здоровья-индивидуальный двигательный маршрут, который составляется совместно воспитателем и ребенк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:\DCIM\Camera\IMG_20141217_174228.jpg"/>
          <p:cNvPicPr/>
          <p:nvPr/>
        </p:nvPicPr>
        <p:blipFill>
          <a:blip r:embed="rId2"/>
          <a:stretch/>
        </p:blipFill>
        <p:spPr>
          <a:xfrm>
            <a:off x="749160" y="4303800"/>
            <a:ext cx="3237120" cy="243180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3"/>
          <a:stretch/>
        </p:blipFill>
        <p:spPr>
          <a:xfrm>
            <a:off x="-165240" y="66600"/>
            <a:ext cx="9156960" cy="3432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5" descr="C:\Users\света\Desktop\для участка\фото улица\SAM_8283.JPG"/>
          <p:cNvPicPr/>
          <p:nvPr/>
        </p:nvPicPr>
        <p:blipFill>
          <a:blip r:embed="rId4"/>
          <a:stretch/>
        </p:blipFill>
        <p:spPr>
          <a:xfrm>
            <a:off x="714240" y="4143240"/>
            <a:ext cx="3143520" cy="2428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света\Desktop\для участка\фото улица\SAM_8284.JPG"/>
          <p:cNvPicPr/>
          <p:nvPr/>
        </p:nvPicPr>
        <p:blipFill>
          <a:blip r:embed="rId5"/>
          <a:stretch/>
        </p:blipFill>
        <p:spPr>
          <a:xfrm>
            <a:off x="5214960" y="3571920"/>
            <a:ext cx="292896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-30240" y="-6480"/>
            <a:ext cx="6912000" cy="233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айт о красивой чистой любви поцелуи картинки анимация объятия валентинки рисунки сердечки изображения"/>
          <p:cNvPicPr/>
          <p:nvPr/>
        </p:nvPicPr>
        <p:blipFill>
          <a:blip r:embed="rId3"/>
          <a:stretch/>
        </p:blipFill>
        <p:spPr>
          <a:xfrm>
            <a:off x="250920" y="443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7" descr="C:\Users\света\Desktop\для участка\фото улица\SAM_8286.JPG"/>
          <p:cNvPicPr/>
          <p:nvPr/>
        </p:nvPicPr>
        <p:blipFill>
          <a:blip r:embed="rId4"/>
          <a:stretch/>
        </p:blipFill>
        <p:spPr>
          <a:xfrm>
            <a:off x="285840" y="35719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C:\Users\света\Desktop\для участка\фото улица\SAM_8294.JPG"/>
          <p:cNvPicPr/>
          <p:nvPr/>
        </p:nvPicPr>
        <p:blipFill>
          <a:blip r:embed="rId5"/>
          <a:stretch/>
        </p:blipFill>
        <p:spPr>
          <a:xfrm>
            <a:off x="3571920" y="3571920"/>
            <a:ext cx="299556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b70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Спортивное оборудования отбирается по следующим критер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-надеж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-эмоциональная привлека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-достато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C:\Users\света\Desktop\для участка\фото улица\SAM_8278.JPG"/>
          <p:cNvPicPr/>
          <p:nvPr/>
        </p:nvPicPr>
        <p:blipFill>
          <a:blip r:embed="rId1"/>
          <a:stretch/>
        </p:blipFill>
        <p:spPr>
          <a:xfrm>
            <a:off x="3929040" y="3857760"/>
            <a:ext cx="3929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-49320" y="-1365120"/>
            <a:ext cx="7096320" cy="550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света\Desktop\для участка\фото улица\SAM_8300.JPG"/>
          <p:cNvPicPr/>
          <p:nvPr/>
        </p:nvPicPr>
        <p:blipFill>
          <a:blip r:embed="rId3"/>
          <a:stretch/>
        </p:blipFill>
        <p:spPr>
          <a:xfrm>
            <a:off x="5857920" y="4071960"/>
            <a:ext cx="303984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Значение дорожек здоровья для детей: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1.Развитие самооценк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2.Осознание трудностей, которые встретит ребен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3.Радость от того, что  трудности преодалены</a:t>
            </a:r>
            <a:r>
              <a:rPr b="1" lang="ru-RU" sz="3200" spc="-1" strike="noStrike">
                <a:solidFill>
                  <a:srgbClr val="002b7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9:16:17Z</dcterms:created>
  <dc:creator>12</dc:creator>
  <dc:description/>
  <dc:language>en-US</dc:language>
  <cp:lastModifiedBy>Customer</cp:lastModifiedBy>
  <dcterms:modified xsi:type="dcterms:W3CDTF">2018-02-04T16:44:08Z</dcterms:modified>
  <cp:revision>44</cp:revision>
  <dc:subject/>
  <dc:title>Дидактические игры здоровья сберегающего характера</dc:title>
</cp:coreProperties>
</file>