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9E5E-71D6-4B36-A9C7-90B39C0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F879-7C65-4727-9D2C-01EC209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A235-4BEB-420D-BF98-4B97B7F9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16FC-EAD6-449B-AF89-E3EC6E90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48C-16E4-4501-8DD1-2E39D214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2C1-0AA4-4D46-B7AA-6BD433B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32F9-316F-44BE-B222-C43DDA36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899-7DA2-4BBC-9DA8-365C549D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68E9-D62F-4CB0-8C97-09E4F852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8709-8FB8-4F41-B3F1-8ED8695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C82-5EB2-4A96-8B22-4AC2F1A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FC6C-66AF-4769-A0E1-850F8F6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DB06-0EFC-4CA0-85FA-0C034C2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6C4A-46BB-4E58-8A10-948F82A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7377-9398-414F-A656-8A413045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119-0A38-4105-B40E-877D7F98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9D3-61AD-4620-BDB9-F5B220F2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A669-636B-47D2-850B-EF992CC4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A8FA-EC4C-4B2F-94F4-FB01F40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96FE-DF2C-493D-B25D-18BFADB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552E-C8A1-4B5B-8C7D-10CB59F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4968-0DFA-43B5-A69B-B98D968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AD9A-80B5-432C-840F-4DD110E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8FDB-988C-4F14-8AC3-41844BB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058-C045-4F5B-BCEF-F7C3EF8D96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A6D-BF88-4BC8-8E9F-666B1FFA0A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640" y="2205000"/>
            <a:ext cx="720072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Сочинение – описание по карт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И.Э.Грабаря «Февральская лазур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Март Грабарь"/>
          <p:cNvPicPr/>
          <p:nvPr/>
        </p:nvPicPr>
        <p:blipFill>
          <a:blip r:embed="rId1"/>
          <a:stretch/>
        </p:blipFill>
        <p:spPr>
          <a:xfrm>
            <a:off x="684360" y="1052640"/>
            <a:ext cx="7775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51280" y="692280"/>
            <a:ext cx="303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евраль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зур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февральская лазурь 1"/>
          <p:cNvPicPr/>
          <p:nvPr/>
        </p:nvPicPr>
        <p:blipFill>
          <a:blip r:embed="rId1"/>
          <a:stretch/>
        </p:blipFill>
        <p:spPr>
          <a:xfrm>
            <a:off x="324000" y="333360"/>
            <a:ext cx="4968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создания карт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Я стоял около дивного экземпляра березы, редкостного по ритмическому строению ветвей. Заглядевшись на нее, я уронил палку и нагнулся, чтобы ее поднять. Когда я взглянул на верхушку березы снизу, с поверхности снега, я обомлел от открывшегося передо мной зрелища фантастической красоты: какие-то перезвоны и перекликания всех цветов радуги, объединенные голубой эмалью неба. Природа как будто праздновала какой-то небывалый праздник лазоревого неба, жемчужных берез, коралловых веток и сапфировых теней на сиреневом снегу". Неудивительно, что художнику страстно захотелось передать "хоть десятую долю этой красот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. Э. Граб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опис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ип речи, с помощью которого можно представить предмет, характеризуя его с разных стор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пейзаж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йза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изображение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Почему картина называется «Февральская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лазурь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Основная палитра карт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Почему именно белый и голубой цвета используются художн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февральская лазурь 1"/>
          <p:cNvPicPr/>
          <p:nvPr/>
        </p:nvPicPr>
        <p:blipFill>
          <a:blip r:embed="rId2"/>
          <a:stretch/>
        </p:blipFill>
        <p:spPr>
          <a:xfrm>
            <a:off x="395280" y="476280"/>
            <a:ext cx="396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ЛАЗ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Светло-синий цвет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. Бледна, как лилия в лазури васильков. (Батюшков).  2.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Цвет неба, моря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поэт.). Под ним струя светлей лазури. (Лермонт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Небесная лазурь.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адо мной в лазури ясной светит звездочка одна. (Пушкин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666699"/>
                </a:solidFill>
                <a:latin typeface="Arial"/>
              </a:rPr>
              <a:t>Краска светло-синего цвета.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ерлинская лазур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Что изображено на переднем плане карт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Символом чего является бере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февральская лазурь 1"/>
          <p:cNvPicPr/>
          <p:nvPr/>
        </p:nvPicPr>
        <p:blipFill>
          <a:blip r:embed="rId1"/>
          <a:stretch/>
        </p:blipFill>
        <p:spPr>
          <a:xfrm>
            <a:off x="395280" y="47628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8320" y="333360"/>
            <a:ext cx="4038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Что вы чувствуете, когда смотрите на картину И.Э. Грабаря «Февральская лазурь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Какие эмоции у вас вызывает берёза, написанная художником на первом пла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февральская лазурь 1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48320" y="33300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Рассмотрите небо, есть ли на нем облака? Как меняется цвет неба к горизо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Рассмотрите снег. Меняется ли его цвет на солнце и в т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Какие цвета использует художник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Arial"/>
              </a:rPr>
              <a:t>Подберите словарь цветов и оттенков по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февральская лазурь 1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3880" y="49968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учащихся к произведениям живописи, наблюдательность, умение описывать картины, навыки монологической речи, умение употреблять синонимы в речи; формировать интерес к искусству, к самостоятельной творческой 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28440" y="5500800"/>
            <a:ext cx="30718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3280" y="5500800"/>
            <a:ext cx="4043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меты изоб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734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вверху, на горизо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а солнце, в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з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твол, вет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а - помощ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б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  лазоревое, синее, голубое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безд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снежный, жемчужный,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синий, сирене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рится, блестит, сверкает,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си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онимы - 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писец, пейзажист, автор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зил, написал, созда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т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йзаж, полотно, репрод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р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ая красавица, симво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русских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ия – помощ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художника к изображению радостного состояния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хищение русской красав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мчужные переливы белого и голуб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евное переплетение вет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зурное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чувстви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ение-опис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о мной репродукция прекрасной картины И. Э. Грабаря "Февральская лазурь". Всё в ней просто и бесподобно. Изображён изумительный февральский день. Морозно и солнечно. На небе ни облачка. Оно лазоревое и ослепляет голубизной. Возле горизонта светло-голубое, а в вышине синее, и синева эта уходит в бесконечность. Снег искрится, сверкает. Он сиреневый на солнце и синий в т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ё пространство картины заполняют деревья. Особенно хороша берёза, изображённая художником на переднем плане. Она раскинула широкие ветви, слегка изогнулась, будто в радостном, вольном танце. Цвет её ствола мерцает и словно светится изнутри, как жемчуг. Прошлогодние листья на верхушке не только не портят наряда берёзы а, наоборот, украшают его своим золотистым блеском. Хороши и другие берёзки. Их ветви, переплетаясь, образуют рисунок искусного, тонкого кружева. По линии горизонта на заднем плане виднеется тянущийся сплошной стеной кустарник красно-коричнев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ник передал на своём полотне красоту природы. При первой встрече с картиной поражает идущее от неё лазурное сияние. Помог передать фантастическую красоту голубой цвет. На полотне всё утопает в лазоревом свете, поэтому картина и названа "Февральская лазур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ейзаж вызывает радостное и праздничное настроение. Хочется побывать здесь и увидеть всё своими гл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Автор картины И.Э. Граб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ремя года, изображенное на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едметы изображения ав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береза на переднем плане ( ее строение, цвет ствола, ветв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деревья на заднем пл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Изображение неба, снега около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Какое настроение вызывает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я материал урока, вопросы к упр. 368, напишите сочинение-описание пейзажа  по картине И.Э. Грабар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Февральская лазур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724000" y="1980720"/>
            <a:ext cx="296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о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мануилович Граб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1 – 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3018-074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ентябрьский сне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Грачиные гнезда Грабарь"/>
          <p:cNvPicPr/>
          <p:nvPr/>
        </p:nvPicPr>
        <p:blipFill>
          <a:blip r:embed="rId1"/>
          <a:stretch/>
        </p:blipFill>
        <p:spPr>
          <a:xfrm>
            <a:off x="1116000" y="1125360"/>
            <a:ext cx="69120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724000" y="549000"/>
            <a:ext cx="296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чи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нез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Грачиные гнезда Грабарь 2"/>
          <p:cNvPicPr/>
          <p:nvPr/>
        </p:nvPicPr>
        <p:blipFill>
          <a:blip r:embed="rId1"/>
          <a:stretch/>
        </p:blipFill>
        <p:spPr>
          <a:xfrm>
            <a:off x="395280" y="333360"/>
            <a:ext cx="446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ход солн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Иней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имнее утр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Зимнее утро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Зимний вече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Зимний вечер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51280" y="549000"/>
            <a:ext cx="3035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р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Мартовский снег Грабарь 2"/>
          <p:cNvPicPr/>
          <p:nvPr/>
        </p:nvPicPr>
        <p:blipFill>
          <a:blip r:embed="rId1"/>
          <a:stretch/>
        </p:blipFill>
        <p:spPr>
          <a:xfrm>
            <a:off x="395280" y="333360"/>
            <a:ext cx="5256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35:27Z</dcterms:created>
  <dc:creator>Алексей</dc:creator>
  <dc:description/>
  <dc:language>en-US</dc:language>
  <cp:lastModifiedBy>Master</cp:lastModifiedBy>
  <dcterms:modified xsi:type="dcterms:W3CDTF">2018-01-12T10:13:29Z</dcterms:modified>
  <cp:revision>7</cp:revision>
  <dc:subject/>
  <dc:title>Тема урока</dc:title>
</cp:coreProperties>
</file>