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1A8-17CD-4D76-9EE1-3784FFCE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50C-F38C-4D1F-A9A8-8C2B6A6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31D-008B-4DC3-8524-6EB607BC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991-AE7C-42FE-B944-AE8DAD4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A7B-4818-4A93-A5AB-C09882F9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5A-A80F-4266-B9D5-CA0ED2AE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D8A-81EF-459F-8184-B67DAF6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BDC-C1A5-4900-B1C1-17AAF85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412-06E9-4AFA-B565-B0719D4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5BB-3F1C-4393-83C4-B84B4E9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36A-7EAA-4BB7-BD2A-EF808AE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3DA-09D6-4FFB-BE7C-827A1BA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50E-72A6-4379-A38C-D56FC37CA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5760"/>
            <a:ext cx="4752720" cy="36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ма урока: «ГОСУДАР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076280"/>
            <a:ext cx="7991280" cy="25448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ласть находит себе наиболее полное воплощение в ГОСУДАРСТВ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о представляет собой огромный, разветвленный, сложносоставной механизм завоевания                      и поддержания политической в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деловые люди картинки\1f (2).jpg"/>
          <p:cNvPicPr/>
          <p:nvPr/>
        </p:nvPicPr>
        <p:blipFill>
          <a:blip r:embed="rId1"/>
          <a:stretch/>
        </p:blipFill>
        <p:spPr>
          <a:xfrm>
            <a:off x="5435640" y="404640"/>
            <a:ext cx="3281400" cy="3346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4920" y="12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«Пока есть государство, нет свободы.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гда будет свобода, не будет государства»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В.И. Лени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esktop\деловые люди картинки\1f (4).jpg"/>
          <p:cNvPicPr/>
          <p:nvPr/>
        </p:nvPicPr>
        <p:blipFill>
          <a:blip r:embed="rId1"/>
          <a:stretch/>
        </p:blipFill>
        <p:spPr>
          <a:xfrm>
            <a:off x="250920" y="2968560"/>
            <a:ext cx="2952720" cy="3635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987640" y="573264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умайте в течение у рока, что имел в виду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В.И. Лен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75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ишем опреде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3860280"/>
            <a:ext cx="4895640" cy="20163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)Государство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это особая форма организации общества, действующая на ограниченной территории методами внутренней и внешней политик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96000" y="404640"/>
            <a:ext cx="3000240" cy="1143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ТРАНА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- территория               с границами и суверен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5796000" y="3860640"/>
            <a:ext cx="3024000" cy="194472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)ГОСУДАРСТВО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- политическая организация страны                  с определенным                     типом режима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796000" y="1844640"/>
            <a:ext cx="2998800" cy="172872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ЩЕСТВО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– социальная организация ( люди ) страны с определенной структурой ( слоя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User\Desktop\деловые люди картинки\1f (4).jpg"/>
          <p:cNvPicPr/>
          <p:nvPr/>
        </p:nvPicPr>
        <p:blipFill>
          <a:blip r:embed="rId1"/>
          <a:stretch/>
        </p:blipFill>
        <p:spPr>
          <a:xfrm>
            <a:off x="4067280" y="1341360"/>
            <a:ext cx="1584360" cy="195120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324000" y="1197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итическая система общества включает государство, партии, профсоюзы, общественные организации и движения, преследующие определенные     политически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84360" y="6021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ироком смысле государство равнозначно стране и ее народу, в узком смысле означает только организацию верховной власти в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95280" y="549360"/>
            <a:ext cx="4105440" cy="302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ОСУДАРСТВ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это система учреждений, обладающая определенной властью на определенн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централь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не единственный институт политической системы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4" descr=""/>
          <p:cNvPicPr/>
          <p:nvPr/>
        </p:nvPicPr>
        <p:blipFill>
          <a:blip r:embed="rId1"/>
          <a:stretch/>
        </p:blipFill>
        <p:spPr>
          <a:xfrm>
            <a:off x="596880" y="324000"/>
            <a:ext cx="80773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930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осударство издает законы, содержит СМИ, армию, суды, полицию, выдает паспорта и визы, зарплату бюджетным организациям, охраняет границы, борется с контрабандой, начисляет пенсии и социальные выплаты,                поддерживает культуру, спорт и т.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рядок взаимоотношений между членами общества и применения власти определяется: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ей, законами и  другими правовыми документами государств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которые являются частью формального (по установленным правилам) устройства государства; а также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обычаями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формировавшимися внутри общества независимо от государства, которые являются основаниями для понимания законов государства и определяют неформализованный порядок применения и трактовки закон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3" descr=""/>
          <p:cNvPicPr/>
          <p:nvPr/>
        </p:nvPicPr>
        <p:blipFill>
          <a:blip r:embed="rId1"/>
          <a:stretch/>
        </p:blipFill>
        <p:spPr>
          <a:xfrm>
            <a:off x="311040" y="1195560"/>
            <a:ext cx="8126640" cy="51861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5867280" y="404640"/>
            <a:ext cx="2737080" cy="208764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50920" y="1890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веренитет – независимость. Суверенность – право представлять общество в целом, издавать обязательные для всех зак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хема 1" descr=""/>
          <p:cNvPicPr/>
          <p:nvPr/>
        </p:nvPicPr>
        <p:blipFill>
          <a:blip r:embed="rId1"/>
          <a:stretch/>
        </p:blipFill>
        <p:spPr>
          <a:xfrm>
            <a:off x="682560" y="334800"/>
            <a:ext cx="8570880" cy="59738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верх 2"/>
          <p:cNvSpPr/>
          <p:nvPr/>
        </p:nvSpPr>
        <p:spPr>
          <a:xfrm>
            <a:off x="2340000" y="4941720"/>
            <a:ext cx="503280" cy="107964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3"/>
          <p:cNvSpPr/>
          <p:nvPr/>
        </p:nvSpPr>
        <p:spPr>
          <a:xfrm>
            <a:off x="2268360" y="1989000"/>
            <a:ext cx="503280" cy="107964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деловые люди картинки\1f (2).jpg"/>
          <p:cNvPicPr/>
          <p:nvPr/>
        </p:nvPicPr>
        <p:blipFill>
          <a:blip r:embed="rId1"/>
          <a:stretch/>
        </p:blipFill>
        <p:spPr>
          <a:xfrm>
            <a:off x="2916360" y="260280"/>
            <a:ext cx="3281400" cy="334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78920" y="3716280"/>
            <a:ext cx="8713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омашнее задание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§2, пересказ + выписать в тетрадь  причины появления государства.</a:t>
            </a:r>
            <a:br>
              <a:rPr sz="3000"/>
            </a:b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Задание на «3» - вопросы №1,3.</a:t>
            </a:r>
            <a:br>
              <a:rPr sz="3000"/>
            </a:b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Задание на «4»- вопросы №6,8.</a:t>
            </a:r>
            <a:br>
              <a:rPr sz="3000"/>
            </a:b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Задание на «5» – вопросы №2,10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6:16:41Z</dcterms:created>
  <dc:creator>User</dc:creator>
  <dc:description/>
  <dc:language>en-US</dc:language>
  <cp:lastModifiedBy>Оля</cp:lastModifiedBy>
  <dcterms:modified xsi:type="dcterms:W3CDTF">2018-02-04T11:06:41Z</dcterms:modified>
  <cp:revision>24</cp:revision>
  <dc:subject/>
  <dc:title>Обществознание.  9 класс. 14.09.11 Урок №2 Тема урока: «ГОСУДАРСТВО»</dc:title>
</cp:coreProperties>
</file>