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CAMERA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540-F86D-4E59-81B2-7F339B7F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EB6-62C8-4A99-B3D2-02A8A3DC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137-701B-4F52-969B-48E0CA4B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FD2-38D2-42DF-825E-ABE006BA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69AC-BA1F-4D82-BF47-AE3DCBCC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72D3-A960-4B5D-A3A3-B214F94E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2439-A3AE-4886-9A2F-98C8A376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67FA-159A-4A0F-B6E9-215E4B40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59C3-E142-4A0A-ADED-2BB2BC1B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36E8-B917-4128-A712-6008F5DA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422C-64A9-4575-B893-00B1F580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FB5-FB72-47C1-8875-170A816D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ED3B-13EE-43ED-B4B2-59AD00CF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5787-46FC-4C83-80D9-6F7F8CF1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4C12-9AC5-4A2D-A2A9-A3946F52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771E-492A-42FE-9988-CD8ADF8B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FB82-0A69-41FC-A5D8-DD748577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97F-BE3E-4F72-850C-DA231B41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1F9-0B76-4DAF-A521-E39EC6D7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1DF-F2DF-42ED-A984-ECD287F8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E1B-FEF6-4870-B78A-A7742D92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ED8-79ED-470B-AEEE-E996B777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275-9474-4F73-BB89-41B40E6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B1A-7538-4738-BB66-181E065A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EEFF-BA7D-4EDB-8C8D-4A09D7A3E8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809E-902F-4998-A016-AA799C7A38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9d7aa"/>
                </a:solidFill>
                <a:latin typeface="Arial"/>
              </a:rPr>
              <a:t>ХИМИЯ</a:t>
            </a:r>
            <a:br>
              <a:rPr sz="8800"/>
            </a:br>
            <a:r>
              <a:rPr b="0" lang="ru-RU" sz="8800" spc="-1" strike="noStrike">
                <a:solidFill>
                  <a:srgbClr val="e9d7aa"/>
                </a:solidFill>
                <a:latin typeface="Arial"/>
              </a:rPr>
              <a:t>ВОКРУГ НАС</a:t>
            </a:r>
            <a:br>
              <a:rPr sz="6000"/>
            </a:br>
            <a:r>
              <a:rPr b="0" lang="ru-RU" sz="5400" spc="-1" strike="noStrike">
                <a:solidFill>
                  <a:srgbClr val="e9d7aa"/>
                </a:solidFill>
                <a:latin typeface="Arial"/>
              </a:rPr>
              <a:t>интеллектуальная игр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876560" y="5028840"/>
            <a:ext cx="4267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829"/>
                </a:solidFill>
                <a:latin typeface="Tahoma"/>
              </a:rPr>
              <a:t>Составила учитель химии Покарева Т.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имия смело простирает рук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 дела любой мирской науки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уда ни кинешь взор – повсюду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ишла она на помощь люду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bbd71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70c0"/>
                </a:solidFill>
                <a:latin typeface="Tahoma"/>
              </a:rPr>
              <a:t>Носки, ботинки и рубашки,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ahoma"/>
              </a:rPr>
              <a:t>Ковры и куклы-неваляшки.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ahoma"/>
              </a:rPr>
              <a:t>Серёжки, шубы, мебель, елки,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ahoma"/>
              </a:rPr>
              <a:t>Косметика, чулки, расчёски.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ahoma"/>
              </a:rPr>
              <a:t>И даже что-то из еды - </a:t>
            </a: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Tahoma"/>
              </a:rPr>
              <a:t>Волшебной химии плоды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286000" y="541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bbd7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bbd71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991720" cy="61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наем мы, что встреча наша – лишь игра.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 расставаться нам пришла пора.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Будите с улыбкой вспоминать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 пытались баллы добывать.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Но не важен в баллах результат,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Дружба побеждает – это факт.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А находчивость по жизни вас ведет,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натокам всегда, везде везет!</a:t>
            </a:r>
            <a:br>
              <a:rPr sz="3800"/>
            </a:br>
            <a:endParaRPr b="0" lang="en-US" sz="3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2" name="Picture 16" descr="река"/>
          <p:cNvPicPr/>
          <p:nvPr/>
        </p:nvPicPr>
        <p:blipFill>
          <a:blip r:embed="rId1"/>
          <a:stretch/>
        </p:blipFill>
        <p:spPr>
          <a:xfrm>
            <a:off x="685800" y="533520"/>
            <a:ext cx="8075520" cy="6056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3" name="Прямоугольник 4"/>
          <p:cNvSpPr/>
          <p:nvPr/>
        </p:nvSpPr>
        <p:spPr>
          <a:xfrm>
            <a:off x="1295280" y="3276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бобщить, систематизировать и закрепить знания по хим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лизовать межпредметные связ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Формировать умение работать в коллективе, совершенствовать умения логически рассуждать, высказывать свои мысли, развивать чувства товарищества и взаимопомощи, развивать умения и навыки применения своих знаний на практ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Воспитание познавательного интереса к предмету хим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54100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«Химия – область чудес.       В ней скрыто счастье человека; величайшие завоевания будущего будут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ru-RU" sz="4800" spc="-1" strike="noStrike">
                <a:solidFill>
                  <a:srgbClr val="ffffff"/>
                </a:solidFill>
                <a:latin typeface="Tahoma"/>
              </a:rPr>
              <a:t>сделаны именно в этой области»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А.М.Горький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48360" y="414360"/>
            <a:ext cx="35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380880" y="1047600"/>
            <a:ext cx="1905120" cy="609840"/>
          </a:xfrm>
          <a:prstGeom prst="cloudCallout">
            <a:avLst>
              <a:gd name="adj1" fmla="val -49250"/>
              <a:gd name="adj2" fmla="val 119009"/>
            </a:avLst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2500200" y="914400"/>
            <a:ext cx="2143080" cy="43344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724280" y="361800"/>
            <a:ext cx="1905120" cy="609840"/>
          </a:xfrm>
          <a:prstGeom prst="cloudCallout">
            <a:avLst>
              <a:gd name="adj1" fmla="val -49250"/>
              <a:gd name="adj2" fmla="val 119009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99720" y="3105000"/>
            <a:ext cx="31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явление запа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Object 9" descr=""/>
          <p:cNvPicPr/>
          <p:nvPr/>
        </p:nvPicPr>
        <p:blipFill>
          <a:blip r:embed="rId1"/>
          <a:stretch/>
        </p:blipFill>
        <p:spPr>
          <a:xfrm>
            <a:off x="4419720" y="2343240"/>
            <a:ext cx="1752480" cy="2514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1187280" y="1809720"/>
            <a:ext cx="45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(раствор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а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Object 12" descr=""/>
          <p:cNvPicPr/>
          <p:nvPr/>
        </p:nvPicPr>
        <p:blipFill>
          <a:blip r:embed="rId2"/>
          <a:stretch/>
        </p:blipFill>
        <p:spPr>
          <a:xfrm>
            <a:off x="6629400" y="1047600"/>
            <a:ext cx="1584360" cy="1600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3"/>
          <p:cNvSpPr/>
          <p:nvPr/>
        </p:nvSpPr>
        <p:spPr>
          <a:xfrm>
            <a:off x="750960" y="600084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деление г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Object 14" descr=""/>
          <p:cNvPicPr/>
          <p:nvPr/>
        </p:nvPicPr>
        <p:blipFill>
          <a:blip r:embed="rId3"/>
          <a:stretch/>
        </p:blipFill>
        <p:spPr>
          <a:xfrm>
            <a:off x="3962520" y="5533920"/>
            <a:ext cx="2361960" cy="1324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533520" y="462924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деление или поглощение энер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Object 18" descr=""/>
          <p:cNvPicPr/>
          <p:nvPr/>
        </p:nvPicPr>
        <p:blipFill>
          <a:blip r:embed="rId4"/>
          <a:stretch/>
        </p:blipFill>
        <p:spPr>
          <a:xfrm>
            <a:off x="7197840" y="3943440"/>
            <a:ext cx="194616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77560"/>
            <a:ext cx="853452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1.Разминка. Химические загад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хожусь, друзья, везд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минералах и в в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меня вы как без ру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т меня – огонь поту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– металл незаменимый,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чень летчиком любим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гкий, электропроводн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характер – переход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bbd71"/>
                </a:solidFill>
                <a:latin typeface="Arial"/>
              </a:rPr>
              <a:t>«Химия и медицина»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Tahoma"/>
              </a:rPr>
              <a:t>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0" y="541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bbd7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bbd71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imgb" descr="http://www.vokrugsveta.ru/img/cmn/2008/04/30/014.jpg"/>
          <p:cNvPicPr/>
          <p:nvPr/>
        </p:nvPicPr>
        <p:blipFill>
          <a:blip r:embed="rId1"/>
          <a:stretch/>
        </p:blipFill>
        <p:spPr>
          <a:xfrm>
            <a:off x="609480" y="182880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шение задач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W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=</a:t>
            </a:r>
            <a:r>
              <a:rPr b="1" i="1" lang="ru-RU" sz="2400" spc="-1" strike="noStrike">
                <a:solidFill>
                  <a:srgbClr val="dbbd71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dbbd71"/>
                </a:solidFill>
                <a:uFillTx/>
                <a:latin typeface="Tahoma"/>
              </a:rPr>
              <a:t>m(</a:t>
            </a:r>
            <a:r>
              <a:rPr b="1" lang="ru-RU" sz="2400" spc="-1" strike="noStrike" u="sng">
                <a:solidFill>
                  <a:srgbClr val="dbbd71"/>
                </a:solidFill>
                <a:uFillTx/>
                <a:latin typeface="Tahoma"/>
              </a:rPr>
              <a:t>в-ва)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               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m(NaF)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= 0,321%*100г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/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m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(смеси)             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m(NaF)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= 0,321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М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r(NaF)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=23 + 19 = 4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Следовательно, в 42г 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(NaF)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 содержится 19г (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                             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в 0,321г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 (NaF)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 содержится Хг (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                                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m(F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) = 0,145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Используется в год 1,5г 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(F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В тюбике 0,145г </a:t>
            </a:r>
            <a:r>
              <a:rPr b="1" lang="en-US" sz="2400" spc="-1" strike="noStrike">
                <a:solidFill>
                  <a:srgbClr val="dbbd71"/>
                </a:solidFill>
                <a:latin typeface="Tahoma"/>
              </a:rPr>
              <a:t>(F</a:t>
            </a: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Ответ: примерно 10 тюб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Tahoma"/>
              </a:rPr>
              <a:t>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286000" y="541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bbd7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bbd71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bd71"/>
                </a:solidFill>
                <a:latin typeface="Arial"/>
              </a:rPr>
              <a:t>«Химия в сельском хозяйстве»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http://perm-most.ru/User_Files/36/Colony.jpg"/>
          <p:cNvPicPr/>
          <p:nvPr/>
        </p:nvPicPr>
        <p:blipFill>
          <a:blip r:embed="rId1"/>
          <a:stretch/>
        </p:blipFill>
        <p:spPr>
          <a:xfrm>
            <a:off x="1371600" y="1949400"/>
            <a:ext cx="65530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bd71"/>
                </a:solidFill>
                <a:latin typeface="Arial"/>
              </a:rPr>
              <a:t>«Химия и косметика»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0" y="541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bbd7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bbd71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438280" y="1415880"/>
            <a:ext cx="46483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0:56:32Z</dcterms:created>
  <dc:creator>РАМИЛ</dc:creator>
  <dc:description/>
  <dc:language>en-US</dc:language>
  <cp:lastModifiedBy>Гость</cp:lastModifiedBy>
  <dcterms:modified xsi:type="dcterms:W3CDTF">2018-01-24T17:24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