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10.gif" ContentType="image/gif"/>
  <Override PartName="/ppt/media/image5.gif" ContentType="image/gif"/>
  <Override PartName="/ppt/media/image13.gif" ContentType="image/gif"/>
  <Override PartName="/ppt/media/image8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20.png" ContentType="image/png"/>
  <Override PartName="/ppt/media/image15.gif" ContentType="image/gif"/>
  <Override PartName="/ppt/media/image19.png" ContentType="image/png"/>
  <Override PartName="/ppt/media/image16.gif" ContentType="image/gif"/>
  <Override PartName="/ppt/media/image14.gif" ContentType="image/gif"/>
  <Override PartName="/ppt/media/image1.png" ContentType="image/png"/>
  <Override PartName="/ppt/media/image21.gif" ContentType="image/gif"/>
  <Override PartName="/ppt/media/image7.png" ContentType="image/pn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28D8-7C65-4678-954F-0464793C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53A-325E-4A5F-B467-09390BFC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C63-7F2E-4040-8A6E-E6C44858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6791-8D5D-409B-AE4B-4E3C3AD9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437-7034-4E35-BDC2-F7328610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234-0CCE-43C3-A538-97A90FB2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EF7-8453-42B3-8EA5-08F4507D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84F-D647-432D-8675-0CBF1AC5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0DD-B049-4963-9E92-FF87C045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7BB7-0CD6-4744-8290-681AB6F2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803-A227-469C-9200-59749EA6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A4F-8743-4F8E-8373-42415FF6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CD97-B4C8-4729-A78D-689714549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gif"/><Relationship Id="rId3" Type="http://schemas.openxmlformats.org/officeDocument/2006/relationships/hyperlink" Target="http://www.9151394.ru/projects/inyaz/fio_mioo/kulbida/web/27march/jack.htm" TargetMode="External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 rot="21301800">
            <a:off x="1042560" y="789120"/>
            <a:ext cx="734220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0066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HOLIDAYS</a:t>
            </a:r>
            <a:endParaRPr b="1" lang="en-US" sz="1800" spc="1" strike="noStrike">
              <a:ln w="57240">
                <a:solidFill>
                  <a:srgbClr val="ff0066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ANIMATED_BACK_TO_SCHOOL"/>
          <p:cNvPicPr/>
          <p:nvPr/>
        </p:nvPicPr>
        <p:blipFill>
          <a:blip r:embed="rId2"/>
          <a:stretch/>
        </p:blipFill>
        <p:spPr>
          <a:xfrm>
            <a:off x="1476360" y="303120"/>
            <a:ext cx="3409920" cy="2229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BD07190_"/>
          <p:cNvPicPr/>
          <p:nvPr/>
        </p:nvPicPr>
        <p:blipFill>
          <a:blip r:embed="rId3">
            <a:grayscl/>
          </a:blip>
          <a:stretch/>
        </p:blipFill>
        <p:spPr>
          <a:xfrm>
            <a:off x="539640" y="2571840"/>
            <a:ext cx="3024360" cy="2184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5219640" y="1222200"/>
            <a:ext cx="338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In Gteat Britain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don’t go to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on the 1</a:t>
            </a:r>
            <a:r>
              <a:rPr b="1" lang="en-US" sz="2800" spc="-1" strike="noStrike" baseline="30000">
                <a:solidFill>
                  <a:srgbClr val="6600cc"/>
                </a:solidFill>
                <a:latin typeface="Comic Sans MS"/>
              </a:rPr>
              <a:t>st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of Sept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They begin to study on the second  Tuesday of Sept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hell"/>
          <p:cNvPicPr/>
          <p:nvPr/>
        </p:nvPicPr>
        <p:blipFill>
          <a:blip r:embed="rId2"/>
          <a:stretch/>
        </p:blipFill>
        <p:spPr>
          <a:xfrm>
            <a:off x="0" y="2347920"/>
            <a:ext cx="4824360" cy="27957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780000" y="-96840"/>
            <a:ext cx="46083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allow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On the 31st of October there is Halloween. The symbol of this holiday i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"Jack o'lantern"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. People make it from a pumpk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Children like Hal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oween parties, they put on witch’s and  ghost’s dresses. They go “trick or treat”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happy_halloween"/>
          <p:cNvPicPr/>
          <p:nvPr/>
        </p:nvPicPr>
        <p:blipFill>
          <a:blip r:embed="rId4"/>
          <a:stretch/>
        </p:blipFill>
        <p:spPr>
          <a:xfrm>
            <a:off x="755640" y="35712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3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3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3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christmas3"/>
          <p:cNvPicPr/>
          <p:nvPr/>
        </p:nvPicPr>
        <p:blipFill>
          <a:blip r:embed="rId2"/>
          <a:stretch/>
        </p:blipFill>
        <p:spPr>
          <a:xfrm>
            <a:off x="324000" y="1168560"/>
            <a:ext cx="3809880" cy="31003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4356000" y="-109800"/>
            <a:ext cx="46087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Christ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On the 25th of December there is the greatest holiday of all in England – Christmas. People send X-mas cards to their friends and relatives. People buy a Christmas tree and decorate it with toys, coloured balls and ligh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hildren wake up early to find stockings full of small presents on their b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7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new_yaer1"/>
          <p:cNvPicPr/>
          <p:nvPr/>
        </p:nvPicPr>
        <p:blipFill>
          <a:blip r:embed="rId2"/>
          <a:stretch/>
        </p:blipFill>
        <p:spPr>
          <a:xfrm>
            <a:off x="611280" y="1112760"/>
            <a:ext cx="3809880" cy="31431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4859280" y="205920"/>
            <a:ext cx="38894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New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New Year’s Eve all British celebrate on the 31st of December. Most people see with friends and relati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At midnight they  sings New Year songs and wishes a happy New Year.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valentine1"/>
          <p:cNvPicPr/>
          <p:nvPr/>
        </p:nvPicPr>
        <p:blipFill>
          <a:blip r:embed="rId2"/>
          <a:stretch/>
        </p:blipFill>
        <p:spPr>
          <a:xfrm>
            <a:off x="3276720" y="0"/>
            <a:ext cx="2881080" cy="1901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900000" y="3030480"/>
            <a:ext cx="640872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St. Valentine’s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On the 14th of February there is St. Valentine’s Day. People send Valentine’s cards to someone they love. Usually they don’t sing them – you must guess who sent cards to you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prod_713_332221"/>
          <p:cNvPicPr/>
          <p:nvPr/>
        </p:nvPicPr>
        <p:blipFill>
          <a:blip r:embed="rId3"/>
          <a:stretch/>
        </p:blipFill>
        <p:spPr>
          <a:xfrm>
            <a:off x="324000" y="1276200"/>
            <a:ext cx="26859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4427640" y="219240"/>
            <a:ext cx="43923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Mother’s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In March there is a holiday for English women – Mother’s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People in the family try to help 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On that day they visit their mothers and give them presents and “A Mother’s Day Ca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rabbit"/>
          <p:cNvPicPr/>
          <p:nvPr/>
        </p:nvPicPr>
        <p:blipFill>
          <a:blip r:embed="rId2"/>
          <a:stretch/>
        </p:blipFill>
        <p:spPr>
          <a:xfrm>
            <a:off x="684360" y="303120"/>
            <a:ext cx="224784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mother's day roses clipart"/>
          <p:cNvPicPr/>
          <p:nvPr/>
        </p:nvPicPr>
        <p:blipFill>
          <a:blip r:embed="rId3"/>
          <a:stretch/>
        </p:blipFill>
        <p:spPr>
          <a:xfrm>
            <a:off x="1763640" y="2625840"/>
            <a:ext cx="29512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1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4932360" y="-78480"/>
            <a:ext cx="3603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17th of March is a national holiday in Ireland – St. Patrick’s day. On that day people wear a shamrock. A shamrock is a plant with three leaves. It is the national symbol of Ire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. Patrick was a man who had wonderful power. He cleared Ireland of snak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3917438"/>
          <p:cNvPicPr/>
          <p:nvPr/>
        </p:nvPicPr>
        <p:blipFill>
          <a:blip r:embed="rId2"/>
          <a:stretch/>
        </p:blipFill>
        <p:spPr>
          <a:xfrm>
            <a:off x="1403280" y="2247840"/>
            <a:ext cx="3529080" cy="233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19e479640"/>
          <p:cNvPicPr/>
          <p:nvPr/>
        </p:nvPicPr>
        <p:blipFill>
          <a:blip r:embed="rId3"/>
          <a:stretch/>
        </p:blipFill>
        <p:spPr>
          <a:xfrm>
            <a:off x="250920" y="141120"/>
            <a:ext cx="30002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5219640" y="180000"/>
            <a:ext cx="36734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Comic Sans MS"/>
              </a:rPr>
              <a:t>E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In April or at the end of March English people celebrate Easter 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On Easter Sunday children get chocolate eggs and rabbits.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easter_egg"/>
          <p:cNvPicPr/>
          <p:nvPr/>
        </p:nvPicPr>
        <p:blipFill>
          <a:blip r:embed="rId2"/>
          <a:stretch/>
        </p:blipFill>
        <p:spPr>
          <a:xfrm>
            <a:off x="539640" y="250920"/>
            <a:ext cx="1640160" cy="21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chick-hatching"/>
          <p:cNvPicPr/>
          <p:nvPr/>
        </p:nvPicPr>
        <p:blipFill>
          <a:blip r:embed="rId3"/>
          <a:stretch/>
        </p:blipFill>
        <p:spPr>
          <a:xfrm>
            <a:off x="2771640" y="415800"/>
            <a:ext cx="2305080" cy="1268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Animation6_512x400"/>
          <p:cNvPicPr/>
          <p:nvPr/>
        </p:nvPicPr>
        <p:blipFill>
          <a:blip r:embed="rId4"/>
          <a:stretch/>
        </p:blipFill>
        <p:spPr>
          <a:xfrm>
            <a:off x="468360" y="1868400"/>
            <a:ext cx="48769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3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3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3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5003640" y="68400"/>
            <a:ext cx="341028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Comic Sans MS"/>
              </a:rPr>
              <a:t>April Fool’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April Fool’s Day is on the 1st of April. English children like this day very much. They play jokes and tricks on other people, even on teachers.</a:t>
            </a: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April%20Fools%20giflatest"/>
          <p:cNvPicPr/>
          <p:nvPr/>
        </p:nvPicPr>
        <p:blipFill>
          <a:blip r:embed="rId2"/>
          <a:stretch/>
        </p:blipFill>
        <p:spPr>
          <a:xfrm>
            <a:off x="250920" y="0"/>
            <a:ext cx="3457440" cy="2593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8829-015-03-1042b"/>
          <p:cNvPicPr/>
          <p:nvPr/>
        </p:nvPicPr>
        <p:blipFill>
          <a:blip r:embed="rId3"/>
          <a:stretch/>
        </p:blipFill>
        <p:spPr>
          <a:xfrm>
            <a:off x="468360" y="2517840"/>
            <a:ext cx="42670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dads1"/>
          <p:cNvPicPr/>
          <p:nvPr/>
        </p:nvPicPr>
        <p:blipFill>
          <a:blip r:embed="rId2"/>
          <a:stretch/>
        </p:blipFill>
        <p:spPr>
          <a:xfrm>
            <a:off x="684360" y="1168560"/>
            <a:ext cx="3809880" cy="3057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5003640" y="-286200"/>
            <a:ext cx="367200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Comic Sans MS"/>
              </a:rPr>
              <a:t>Father’s day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 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n June the English people celebrate Father’s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On that day children send cards and give presents to their father’s.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2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2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2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34:18Z</dcterms:created>
  <dc:creator>Казанка</dc:creator>
  <dc:description/>
  <dc:language>en-US</dc:language>
  <cp:lastModifiedBy>Преподаватель</cp:lastModifiedBy>
  <dcterms:modified xsi:type="dcterms:W3CDTF">2018-02-04T14:10:49Z</dcterms:modified>
  <cp:revision>17</cp:revision>
  <dc:subject/>
  <dc:title>Слайд 1</dc:title>
</cp:coreProperties>
</file>