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7A8-2124-477D-B214-E3DF6BDD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28C-0429-4B41-9416-85F9CF56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46F-0E91-4620-A1B5-7ECC409C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702-F856-46E2-85D6-C58110C2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B901-F1C9-423B-B21D-00A64678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A2BE-703B-4634-8931-C07602F1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DFC1-D04F-4C81-B6BE-E79428D7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778A-769F-49A2-990E-8804FDD5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6DE0-B80A-4E0B-A2C8-732F0436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2254-0099-4E02-8BE3-2321BD02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BFA4-F660-4560-9C0E-203C4328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B97-AF74-4469-8D02-AF653A74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DA88-B91B-4455-A8A8-3302D88D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C44C-A94D-4F31-A877-3919D60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57D8-004E-4200-BC03-9CAB7C61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3DD7-9CE4-4C2D-9BDB-7C621B9E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BF6B-6C0B-4E7D-86A4-A46D5FA3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22A-34AB-468F-A058-A2175239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A51-0D32-44FE-B411-8B50D08F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942-96E0-49B3-AA3D-632F5B8D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D4C-EECC-400E-BC9A-CC0E6A59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87D-6DD9-41A9-9400-DE3F16F7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688-9875-4A69-8759-27408531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F85-3F5E-492D-8CBA-F85239C0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AE8D-BFAC-4B8B-8D5D-8E23BF5CC6C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880C-F3B5-4C96-8ED0-6FB08799D0E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kspu.ptz.ru/projects/lead/pub/krit_mm.doc" TargetMode="External"/><Relationship Id="rId3" Type="http://schemas.openxmlformats.org/officeDocument/2006/relationships/hyperlink" Target="http://kspu.ptz.ru/projects/lead/pub/krit_mm.doc" TargetMode="External"/><Relationship Id="rId4" Type="http://schemas.openxmlformats.org/officeDocument/2006/relationships/hyperlink" Target="http://kspu.ptz.ru/projects/lead/pub/krit_mm.doc" TargetMode="External"/><Relationship Id="rId5" Type="http://schemas.openxmlformats.org/officeDocument/2006/relationships/hyperlink" Target="http://kspu.ptz.ru/projects/lead/pub/krit_mm.doc" TargetMode="External"/><Relationship Id="rId6" Type="http://schemas.openxmlformats.org/officeDocument/2006/relationships/hyperlink" Target="http://kspu.ptz.ru/projects/lead/pub/krit_mm.doc" TargetMode="External"/><Relationship Id="rId7" Type="http://schemas.openxmlformats.org/officeDocument/2006/relationships/hyperlink" Target="http://kspu.ptz.ru/projects/lead/pub/krit_mm.doc" TargetMode="External"/><Relationship Id="rId8" Type="http://schemas.openxmlformats.org/officeDocument/2006/relationships/hyperlink" Target="http://kspu.ptz.ru/projects/lead/pub/krit_mm.doc" TargetMode="External"/><Relationship Id="rId9" Type="http://schemas.openxmlformats.org/officeDocument/2006/relationships/hyperlink" Target="http://kspu.ptz.ru/projects/lead/pub/krit_mm.doc" TargetMode="External"/><Relationship Id="rId10" Type="http://schemas.openxmlformats.org/officeDocument/2006/relationships/hyperlink" Target="http://kspu.ptz.ru/projects/lead/pub/krit_mm.doc" TargetMode="External"/><Relationship Id="rId11" Type="http://schemas.openxmlformats.org/officeDocument/2006/relationships/hyperlink" Target="http://kspu.ptz.ru/projects/lead/pub/krit_mm.doc" TargetMode="External"/><Relationship Id="rId12" Type="http://schemas.openxmlformats.org/officeDocument/2006/relationships/hyperlink" Target="http://kspu.ptz.ru/projects/lead/pub/krit_mm.doc" TargetMode="External"/><Relationship Id="rId13" Type="http://schemas.openxmlformats.org/officeDocument/2006/relationships/hyperlink" Target="http://kspu.ptz.ru/projects/lead/pub/krit_mm.doc" TargetMode="External"/><Relationship Id="rId14" Type="http://schemas.openxmlformats.org/officeDocument/2006/relationships/hyperlink" Target="http://kspu.ptz.ru/projects/lead/pub/krit_mm.doc" TargetMode="External"/><Relationship Id="rId15" Type="http://schemas.openxmlformats.org/officeDocument/2006/relationships/hyperlink" Target="http://kspu.ptz.ru/projects/lead/pub/krit_mm.doc" TargetMode="External"/><Relationship Id="rId16" Type="http://schemas.openxmlformats.org/officeDocument/2006/relationships/hyperlink" Target="http://kspu.ptz.ru/projects/lead/pub/krit_mm.doc" TargetMode="External"/><Relationship Id="rId17" Type="http://schemas.openxmlformats.org/officeDocument/2006/relationships/hyperlink" Target="http://kspu.ptz.ru/projects/lead/pub/krit_mm.doc" TargetMode="External"/><Relationship Id="rId18" Type="http://schemas.openxmlformats.org/officeDocument/2006/relationships/hyperlink" Target="http://kspu.ptz.ru/projects/lead/pub/krit_mm.doc" TargetMode="External"/><Relationship Id="rId19" Type="http://schemas.openxmlformats.org/officeDocument/2006/relationships/hyperlink" Target="http://kspu.ptz.ru/projects/lead/pub/krit_mm.doc" TargetMode="External"/><Relationship Id="rId20" Type="http://schemas.openxmlformats.org/officeDocument/2006/relationships/hyperlink" Target="http://kspu.ptz.ru/projects/lead/pub/krit_mm.doc" TargetMode="External"/><Relationship Id="rId21" Type="http://schemas.openxmlformats.org/officeDocument/2006/relationships/hyperlink" Target="http://www.iteach.ru/projects/devyatova1/project_support/evaluation_tools/kriterii.doc" TargetMode="External"/><Relationship Id="rId22" Type="http://schemas.openxmlformats.org/officeDocument/2006/relationships/hyperlink" Target="http://pgpu.penza.com.ru/_sites/intel/Bolotskaya_Vatueva_Trofimov/project_support/evaluation_tools/%EA%F0%E8%F2%E5%F0%E8%E8_%EF%F0%E5%E7%E5%ED2.xls" TargetMode="External"/><Relationship Id="rId23" Type="http://schemas.openxmlformats.org/officeDocument/2006/relationships/hyperlink" Target="http://festival.1september.ru/2004_2005/index.php?numb_artic=211828" TargetMode="External"/><Relationship Id="rId24" Type="http://schemas.openxmlformats.org/officeDocument/2006/relationships/hyperlink" Target="http://som.fsio.ru/items.asp?id=10001244&amp;archive" TargetMode="External"/><Relationship Id="rId25" Type="http://schemas.openxmlformats.org/officeDocument/2006/relationships/hyperlink" Target="http://www.queenethelburgas.edu/googleadwords.htm?private_schools" TargetMode="External"/><Relationship Id="rId26" Type="http://schemas.openxmlformats.org/officeDocument/2006/relationships/hyperlink" Target="http://myhero.com/newsletters/september2002/index.asp" TargetMode="External"/><Relationship Id="rId27" Type="http://schemas.openxmlformats.org/officeDocument/2006/relationships/hyperlink" Target="http://som.fsio.ru/getblob.asp?id=10003346" TargetMode="External"/><Relationship Id="rId28" Type="http://schemas.openxmlformats.org/officeDocument/2006/relationships/hyperlink" Target="http://som.fio.ru/RESOURCES/FILIPPOVMA/2004/01/topics/theatre.htm" TargetMode="External"/><Relationship Id="rId29" Type="http://schemas.openxmlformats.org/officeDocument/2006/relationships/hyperlink" Target="http://www.ymk.ru/2005/index.html" TargetMode="External"/><Relationship Id="rId30" Type="http://schemas.openxmlformats.org/officeDocument/2006/relationships/hyperlink" Target="http://sesc.nsu.ru/zfmsh" TargetMode="External"/><Relationship Id="rId31" Type="http://schemas.openxmlformats.org/officeDocument/2006/relationships/hyperlink" Target="http://cdp.tsure.ru/" TargetMode="External"/><Relationship Id="rId32" Type="http://schemas.openxmlformats.org/officeDocument/2006/relationships/hyperlink" Target="http://oldnews.1september.ru/interview/article.php?id=815" TargetMode="External"/><Relationship Id="rId33" Type="http://schemas.openxmlformats.org/officeDocument/2006/relationships/hyperlink" Target="http://www.studyinfrance.ru/114.shtml" TargetMode="External"/><Relationship Id="rId34" Type="http://schemas.openxmlformats.org/officeDocument/2006/relationships/hyperlink" Target="http://www.uchebnik.com/showNews2175.html" TargetMode="External"/><Relationship Id="rId35" Type="http://schemas.openxmlformats.org/officeDocument/2006/relationships/hyperlink" Target="http://informkiosk.com/content/section/12/79/" TargetMode="External"/><Relationship Id="rId3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kokch.kts.ru/cdo/index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047600"/>
            <a:ext cx="8570880" cy="2360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дготовила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чительница английского языка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ОУ СОШ №16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ела Александровского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.И. Каплюченко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-208080"/>
            <a:ext cx="8242560" cy="2573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eb8803"/>
                </a:solidFill>
                <a:uFillTx/>
                <a:latin typeface="Book Antiqua"/>
                <a:hlinkClick r:id="rId2"/>
              </a:rPr>
              <a:t>http</a:t>
            </a: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en-US" sz="1500" spc="-1" strike="noStrike" u="sng">
                <a:solidFill>
                  <a:srgbClr val="eb8803"/>
                </a:solidFill>
                <a:uFillTx/>
                <a:latin typeface="Times New Roman"/>
                <a:hlinkClick r:id="rId4"/>
              </a:rPr>
              <a:t>kspu</a:t>
            </a: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1500" spc="-1" strike="noStrike" u="sng">
                <a:solidFill>
                  <a:srgbClr val="eb8803"/>
                </a:solidFill>
                <a:uFillTx/>
                <a:latin typeface="Times New Roman"/>
                <a:hlinkClick r:id="rId6"/>
              </a:rPr>
              <a:t>ptz</a:t>
            </a: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1500" spc="-1" strike="noStrike" u="sng">
                <a:solidFill>
                  <a:srgbClr val="eb8803"/>
                </a:solidFill>
                <a:uFillTx/>
                <a:latin typeface="Times New Roman"/>
                <a:hlinkClick r:id="rId8"/>
              </a:rPr>
              <a:t>ru</a:t>
            </a: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en-US" sz="1500" spc="-1" strike="noStrike" u="sng">
                <a:solidFill>
                  <a:srgbClr val="eb8803"/>
                </a:solidFill>
                <a:uFillTx/>
                <a:latin typeface="Times New Roman"/>
                <a:hlinkClick r:id="rId10"/>
              </a:rPr>
              <a:t>projects</a:t>
            </a: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1500" spc="-1" strike="noStrike" u="sng">
                <a:solidFill>
                  <a:srgbClr val="eb8803"/>
                </a:solidFill>
                <a:uFillTx/>
                <a:latin typeface="Times New Roman"/>
                <a:hlinkClick r:id="rId12"/>
              </a:rPr>
              <a:t>lead</a:t>
            </a: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en-US" sz="1500" spc="-1" strike="noStrike" u="sng">
                <a:solidFill>
                  <a:srgbClr val="eb8803"/>
                </a:solidFill>
                <a:uFillTx/>
                <a:latin typeface="Times New Roman"/>
                <a:hlinkClick r:id="rId14"/>
              </a:rPr>
              <a:t>pub</a:t>
            </a: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15"/>
              </a:rPr>
              <a:t>/</a:t>
            </a:r>
            <a:r>
              <a:rPr b="0" lang="en-US" sz="1500" spc="-1" strike="noStrike" u="sng">
                <a:solidFill>
                  <a:srgbClr val="eb8803"/>
                </a:solidFill>
                <a:uFillTx/>
                <a:latin typeface="Times New Roman"/>
                <a:hlinkClick r:id="rId16"/>
              </a:rPr>
              <a:t>krit</a:t>
            </a: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17"/>
              </a:rPr>
              <a:t>_</a:t>
            </a:r>
            <a:r>
              <a:rPr b="0" lang="en-US" sz="1500" spc="-1" strike="noStrike" u="sng">
                <a:solidFill>
                  <a:srgbClr val="eb8803"/>
                </a:solidFill>
                <a:uFillTx/>
                <a:latin typeface="Times New Roman"/>
                <a:hlinkClick r:id="rId18"/>
              </a:rPr>
              <a:t>mm</a:t>
            </a: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en-US" sz="1500" spc="-1" strike="noStrike" u="sng">
                <a:solidFill>
                  <a:srgbClr val="eb8803"/>
                </a:solidFill>
                <a:uFillTx/>
                <a:latin typeface="Times New Roman"/>
                <a:hlinkClick r:id="rId20"/>
              </a:rPr>
              <a:t>doc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21"/>
              </a:rPr>
              <a:t>http://www.iteach.ru/projects/devyatova1/project_support/evaluation_tools/kriterii.doc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22"/>
              </a:rPr>
              <a:t>http://pgpu.penza.com.ru/_sites/intel/Bolotskaya_Vatueva_Trofimov/project_support/evaluation_tools/%EA%F0%E8%F2%E5%F0%E8%E8_%EF%F0%E5%E7%E5%ED2.xls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23"/>
              </a:rPr>
              <a:t>http://festival.1september.ru/2004_2005/index.php?numb_artic=211828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24"/>
              </a:rPr>
              <a:t>http://som.fsio.ru/items.asp?id=10001244&amp;archive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25"/>
              </a:rPr>
              <a:t>http://www.queenethelburgas.edu/googleadwords.htm?private_schools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26"/>
              </a:rPr>
              <a:t>http://myhero.com/newsletters/september2002/index.asp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27"/>
              </a:rPr>
              <a:t>http://som.fsio.ru/getblob.asp?id=10003346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28"/>
              </a:rPr>
              <a:t>http://som.fio.ru/RESOURCES/FILIPPOVMA/2004/01/topics/theatre.htm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29"/>
              </a:rPr>
              <a:t>http://www.ymk.ru/2005/index.html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30"/>
              </a:rPr>
              <a:t>http://sesc.nsu.ru/zfmsh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31"/>
              </a:rPr>
              <a:t>http://cdp.tsure.ru/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32"/>
              </a:rPr>
              <a:t>http://oldnews.1september.ru/interview/article.php?id=815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33"/>
              </a:rPr>
              <a:t>http://www.studyinfrance.ru/114.shtml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34"/>
              </a:rPr>
              <a:t>http://www.uchebnik.com/showNews2175.html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eb8803"/>
                </a:solidFill>
                <a:uFillTx/>
                <a:latin typeface="Times New Roman"/>
                <a:hlinkClick r:id="rId35"/>
              </a:rPr>
              <a:t>http://informkiosk.com/content/section/12/79/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edu.ru/index.php?page_id=50&amp;op=word&amp;wid=509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2011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http://som.fsio.ru/items.asp?id=10001244&amp;archive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=, 10-я Всероссийская научная конференция «Телематика,2003»С-Петербург-  полезно для обмена опытом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queenethelburgas.edu/googleadwords.htm?private_schools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, о разных типах школ за рубежом- конкретная информация по теме проекта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http://myhero.com/newsletters/september2002/index.asp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, помощь в составлении проекта учебного по теме «Мой герой»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http://som.fsio.ru/getblob.asp?id=10003346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, интегрированный спецкурс по английскому языку и информатике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http://som.fio.ru/RESOURCES/FILIPPOVMA/2004/01/topics/theatre.htm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емы по страноведению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http://som.fsio.ru/item.asp?id=10005179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образовательный минимум, образовательные программы, аудиоматериалы, темы для говорения, учебные пособия, книжные новинки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14360" y="225360"/>
            <a:ext cx="84009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Библиотека ориентирована на преподавателей и учащихся  общеобразовательных учебных заведений. Библиотека способствует эффективному усвоению учебного материала, помогает сделать процесс обучения разнообразным и увлекательным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Библиотека принципиально расширяет возможности для реализации средств и методов обучения, предоставляет ученику широкие возможности для реализации творческих способностей и эффективного усвоения изучаемого материала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9320" y="268200"/>
            <a:ext cx="93758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-133200"/>
            <a:ext cx="8242560" cy="2577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438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инистерство образования и науки Российской Федерации 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Федеральное агентство по образованию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ФГУ «Государственный научно-исследовательский институт информационных технологий и телекоммуникаций»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ФГНУ «Государственный научно-исследовательский институт информационных образовательных технологий»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осква 2006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 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Иностранные язык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fe44"/>
                </a:solidFill>
                <a:latin typeface="Times New Roman"/>
              </a:rPr>
              <a:t>Английский язык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ABC-online. Английский язык для всех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ttp://www.abc-english-grammar.co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Lang.Ru: интернет-справочник «Английский язык»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ttp://www.lang.r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luent English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— образовательный проек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ttp://www.fluent-english.r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ative English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учение английского язы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ttp://www.native-english.r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School English: газета для изучающих английский язык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ttp://www.schoolenglish.r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глийский для детей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ttp://www.englishforkids.r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глийский клуб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ttp://www.englishclub.narod.r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868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Английский язык.ru — все для изучающих английский язык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www.english.language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Английский язык в библиотеке Максима Мошкова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lib.ru/ENGLISH/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Английский язык в школе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englishaz.narod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Английский язык в Открытом колледже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www.english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Английский язык детям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www.bilingual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Английский для дошкольника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kinder-english.narod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Английский язык: как его выучить?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http://denistutor.narod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Английский</a:t>
            </a: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язык</a:t>
            </a: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на</a:t>
            </a: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 HomeEnglish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www.homeenglish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Английский язык: проект Новосибирской открытой образовательной сети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www.websib.ru/noos/english/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Английский язык: сайт Алексея Ермакова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www.alex-ermakov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Выучи английский язык самостоятельно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www.learn-english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Грамматика английского языка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www.mystudy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Курсы английского языка для самостоятельного изучения: компьютерные программы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www.english4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 Antiqua"/>
              </a:rPr>
              <a:t>Уроки он-лайн по английскому языку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http://lessons.study.r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26960" y="96840"/>
            <a:ext cx="8534520" cy="14461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0" y="36450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8803"/>
                </a:solidFill>
                <a:uFillTx/>
                <a:latin typeface="Times New Roman"/>
                <a:hlinkClick r:id="rId2"/>
              </a:rPr>
              <a:t>http://www.kokch.kts.ru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910" t="0" r="9930" b="37978"/>
          <a:stretch/>
        </p:blipFill>
        <p:spPr>
          <a:xfrm>
            <a:off x="-289080" y="0"/>
            <a:ext cx="943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9-02-13T17:23:58Z</dcterms:modified>
  <cp:revision>16</cp:revision>
  <dc:subject/>
  <dc:title>Слайд 1</dc:title>
</cp:coreProperties>
</file>