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B0C-7684-4BD3-A8E7-D41E7D46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8D3-0DC5-4BFD-B191-B66E37DC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1F2-B292-4452-AFAD-60598B70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D0B-2C1E-44E0-8D7C-DB5418CC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B7B1-4412-40FC-8F10-D75E5C62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6DB-DEC3-4C5B-B162-1B37D178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E1B4-C10F-4FCD-AA47-315EB612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6747-EF32-426D-9380-5F9ACCE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22D1-7CAC-4E2E-BB8E-7CAE8EF8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079E-D456-4709-9537-14157709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58F2-AF03-4DE1-AB01-5D18C12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C29-B9DE-4BA6-B7DB-2FE8F100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90C4-C3CB-4F83-8E8A-D6E484F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167B-61D0-49B9-A1AE-D68B3AD7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3212-C608-4E1E-81EB-278C08A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0F89-4791-42E8-B5E6-481159FE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6463-7F15-419C-9C96-59192461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C03B-06CC-49AC-845D-04AD9ECF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EE30-2404-49A3-967A-8B4A694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1387-CF0C-4167-AA2B-D3FAE960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0AF5-78CC-49FB-8382-C7AF058D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AFAB-E86F-42C1-9309-B6FB4B3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F13-7786-41F6-AED7-4FC93A27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D8EA-01E5-4960-BEBF-7E526347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A63F-8F9C-43BC-AB63-872C1F98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4F05-8CC2-476E-BFDF-63891100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B1F6-8628-4E78-A77D-7652B0D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F056-B120-441F-81A4-A082413E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7CAE-B41F-4BD2-89FE-6A7747F5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077B-4DAE-479C-8311-A1823F23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1BB3B-BB9C-4C5C-83E3-0259F93A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C2A8-C431-415B-A70D-360A820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9334-155A-4151-8E97-69AB8085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225-13F2-40DD-96CD-2CC5FC13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8BE2-F79A-4FFA-9011-2B7FD73E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DE65-5974-4CCB-8D71-6F63E78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0177-4349-4E1D-8653-6124491D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4A85-D0D2-4A71-A2C5-8AFAFCE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C37B-6A04-419E-9E6C-1686EFB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BC88-7231-4B70-BCED-F7202B4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E93F-FF09-4F8F-A155-DD038524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DB9C-C0D6-42A3-B7EB-2F1BA0E2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9431-F79B-4CA6-86B8-0F7F5919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975-9CDD-4CCF-A7D7-D91DA68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03C-8BDC-4C82-AD38-58EB168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670-5C6F-4C1C-AA8C-378BD2B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B48-67BC-4F7D-83FF-E6376E7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C67-E653-490B-B510-FB8A9129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E9DD-E51A-461C-8C3D-1DACD5E543F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A500-13E2-4832-A4B6-FCA3D485B21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F8F-0D3F-457C-BCFC-1F4ED304323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9DF8-94BC-4CA6-B474-46FDC67734C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ижи чурттуг, куш уялыг».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легер домак</a:t>
            </a:r>
            <a:r>
              <a:rPr b="1" lang="ru-RU" sz="2000" spc="-1" strike="noStrike">
                <a:solidFill>
                  <a:srgbClr val="008cca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тырыглар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) Улегер домактын утказын тайылбырлана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) Бисти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ртувустун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адын  чуу дээр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) Чуге бистин чуртувусту хой националдыг деп адаарыл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)Ол чоннар бот-боттарындан чузу-биле ылгалып турарларыл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bestgif"/>
          <p:cNvPicPr/>
          <p:nvPr/>
        </p:nvPicPr>
        <p:blipFill>
          <a:blip r:embed="rId1"/>
          <a:stretch/>
        </p:blipFill>
        <p:spPr>
          <a:xfrm>
            <a:off x="0" y="0"/>
            <a:ext cx="1285920" cy="1419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ва чоннун опей ырыз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6" descr="C:\Users\МАК\Desktop\i (4).jpg"/>
          <p:cNvPicPr/>
          <p:nvPr/>
        </p:nvPicPr>
        <p:blipFill>
          <a:blip r:embed="rId2"/>
          <a:stretch/>
        </p:blipFill>
        <p:spPr>
          <a:xfrm>
            <a:off x="571680" y="1571760"/>
            <a:ext cx="364320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, опей о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сарыым ээй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 корем оой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н чырыын ээй, Оон артык о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ннун чырыы ээй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ум сенээ о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тен келир ээ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4311720" y="3137040"/>
            <a:ext cx="18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стун опей ырылары</a:t>
            </a: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орээн дылынга ынак болдурар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Аас-кежиктиг келир уе дугайынд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ээр, ай, хун, октаргай дугайынд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Сагыш човаашкын, эргеледиг, ынакшыл дугайынд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луг(авторлуг) опей ыр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600200"/>
            <a:ext cx="4038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ят усталые игрушки, книжки спя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яла и подушки ждут ребя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сказка спать ложи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очью нам присни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ей пожелай: Баю-бай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ночь"/>
          <p:cNvPicPr/>
          <p:nvPr/>
        </p:nvPicPr>
        <p:blipFill>
          <a:blip r:embed="rId1"/>
          <a:srcRect l="0" t="29432" r="0" b="9811"/>
          <a:stretch/>
        </p:blipFill>
        <p:spPr>
          <a:xfrm>
            <a:off x="357120" y="1643040"/>
            <a:ext cx="4143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луг (авторлуг) опей ыры</a:t>
            </a: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олгандыр делегейни билиндирер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Кижизидилгелиг салдарны чедирип турар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Чылыг-чырык долгандыр хурээл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йында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нын  ужур-дузалары</a:t>
            </a:r>
            <a:r>
              <a:rPr b="1" i="1" lang="ru-RU" sz="4000" spc="-1" strike="noStrike">
                <a:solidFill>
                  <a:srgbClr val="008cc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Users\МАК\Desktop\i (2).jpg"/>
          <p:cNvPicPr/>
          <p:nvPr/>
        </p:nvPicPr>
        <p:blipFill>
          <a:blip r:embed="rId1"/>
          <a:stretch/>
        </p:blipFill>
        <p:spPr>
          <a:xfrm>
            <a:off x="500040" y="1571760"/>
            <a:ext cx="378612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дуда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эргим состер, чайгаашкын, оожум аял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жизид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луг, эки, куштуг боор сен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мгал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дын ойзу адаар азы бичеледир адаа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ларында кирип турар дириг амытаннар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78596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й чоннун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н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с чоннун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диис, койгун,бор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ча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оннун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ви, сыын, буу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 чоннун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агаа огл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ва чоннун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ызаа, ана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5" descr="bestgif"/>
          <p:cNvPicPr/>
          <p:nvPr/>
        </p:nvPicPr>
        <p:blipFill>
          <a:blip r:embed="rId1"/>
          <a:stretch/>
        </p:blipFill>
        <p:spPr>
          <a:xfrm>
            <a:off x="571680" y="1643040"/>
            <a:ext cx="3929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ыжыглаашкын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1. Улустун опей ы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ей, опей оой, орей сарыым ээ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ору корем оой, айнын чырыын ээ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он артык оой, хуннун чырыы ээ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глум сенээ оой, эртен келир о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чан туткан оой, чараш тудуун ээ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гыдар сен оой, хогжудер сен ээ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аннын мээн оой, опей ырым ээ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мыр дыштын оой, ыры болзун ээй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Литературлуг опей ыры. «Опей ыры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у И. Медээчинии     аялгазы А. Чыргал-оолду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й дужуп дээрде сылдыс четчи бер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наар кызын удуп чыды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н чадаганнап ойнап берей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чей-кежиин дыннап ала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уг чараш чимистерлиг садывы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ваганнар удаан болга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 дег аккыр чоорган-биле шуглап каайы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айынга дыштан уруу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дудар опей ыр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35684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ят усталые игрушки, книжки спя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яла и подушки ждут ребя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сказка спать ложится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очью нам присни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ей пожелай: «Баю-бай!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е можно покататься на лу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радуге промчаться на кон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лоненком подружить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ймать перо Жар-птиц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закрывай! Баю-бай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мгалал опей ыр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, опей, опей сарыы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уй берем окпежив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, опей опей сарыы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к далдаар окпежиим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гламагай ыжык кара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ыг баштыг ытчыгажы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зарлыг-ла сарыгбайы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пыгыр-ла кызыл-угум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ээргенчиг хемекей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ылыр ижим доозуп алый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, опей опей сарыы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уй берем, уйнун сарыым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cca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рыга сеткил таалаар, ышка карак ажыыр».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егер домак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аазында айтырыгга харыылап корунерем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ырык чер кырынга торуттунуп келген чаш кижинин бир дугаар дыннаар ырызын чуу деп адаарыл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ижизидилгелиг опей ыр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жээкиний оой, кызыл хуну ээ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бис баштап оой, ажа берди ээ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им иштин оой, дыргын ойнаан ээ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зек оолдар оой, тарай берди ээ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уп келгеш оой, баар оруун ээ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рушкулуг оой, чырык -чаагай ээ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 чуртка оой, дуза кадар ээ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ы уулен оой, удам неме ээ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тарнын санап турары-биле</a:t>
            </a: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Опей ыры дыннап оскен уруг дыннангыр боо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гаанныг боо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олгандыр улуска ынак боо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Бодунун арга-шинээн эки билир боо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Хогжумге ынак,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. Сактып алыры сайзырангай болгаш эки бо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н куштуг эм боо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н эки психиктиг эмнээшкин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Опей ыр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арыгнын аарыырын ийи катап бичеледипте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F:\Пушкин\1367888290_kavay.jpg"/>
          <p:cNvPicPr/>
          <p:nvPr/>
        </p:nvPicPr>
        <p:blipFill>
          <a:blip r:embed="rId1"/>
          <a:stretch/>
        </p:blipFill>
        <p:spPr>
          <a:xfrm>
            <a:off x="281160" y="633240"/>
            <a:ext cx="3436920" cy="5615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нел со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28520"/>
            <a:ext cx="375768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ырык чер кырында бугу чоннарда бар. Чоннарнын  опей ырыларынын дылдары ангы  даа болза, утка талазы-биле домей: чаш толге ынакшыл, эргеледиг, сагыш-човаашкын, камгалал, кижизидилге темаларын дамчыдып турар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ижилерни каттыштырып турар</a:t>
            </a:r>
            <a:r>
              <a:rPr b="0" lang="ru-RU" sz="1900" spc="-1" strike="noStrike">
                <a:solidFill>
                  <a:srgbClr val="008cca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лу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ва кавай, опей ыры, тыва ав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(Деспил-оол Санчы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ва чернин пожумейд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арыштыр эптеп, чаза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ва кавай сээн-бил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ным, ханым менээ туду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жээлерде ыглаган ча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нзиг оглун ава чайга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н ырлап бээрг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емчей шуут шыпшын апаа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, тыва кава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уруп каан тыва а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 бо чукче дензи чайба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уктун уш даваны де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жынга онаалг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ннун опей ырыларын аваларындан, кырган-аваларындан айтырып бижип экээ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шагы: «Опей ыры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МАК\Desktop\i (3).jpg"/>
          <p:cNvPicPr/>
          <p:nvPr/>
        </p:nvPicPr>
        <p:blipFill>
          <a:blip r:embed="rId2"/>
          <a:stretch/>
        </p:blipFill>
        <p:spPr>
          <a:xfrm>
            <a:off x="1857240" y="1500120"/>
            <a:ext cx="6000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F:\Пушкин\1306055600_img_3082.jpg"/>
          <p:cNvPicPr/>
          <p:nvPr/>
        </p:nvPicPr>
        <p:blipFill>
          <a:blip r:embed="rId1"/>
          <a:stretch/>
        </p:blipFill>
        <p:spPr>
          <a:xfrm>
            <a:off x="428760" y="1071720"/>
            <a:ext cx="4103640" cy="531000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4456080" y="1066680"/>
            <a:ext cx="44067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зывыс шагынын сорулгазы</a:t>
            </a:r>
            <a:r>
              <a:rPr b="1" i="1" lang="ru-RU" sz="3600" spc="-1" strike="noStrike">
                <a:solidFill>
                  <a:srgbClr val="008cca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568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 деп чул дээрзин таныштырып билиндирер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угларнын аянныг номчуурун болгаш ырлап билирин сайзырадыр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чулгага, ырлаарынга, культурага сонуургалын кижизиде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ер-биле</a:t>
            </a:r>
            <a:r>
              <a:rPr b="1" i="1" lang="ru-RU" sz="5000" spc="-1" strike="noStrike">
                <a:solidFill>
                  <a:srgbClr val="008cca"/>
                </a:solidFill>
                <a:latin typeface="Times New Roman"/>
                <a:ea typeface="Times New Roman"/>
              </a:rPr>
              <a:t> </a:t>
            </a: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жы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»  азы «кавай ыры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 состу орус дылче очулдурарга – «колыбельная песня» дээ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ээрге дунмам азы опеяа дээн уткалы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ва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«колыбель» - чаш уругнун удуур орун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ейлээ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кавайны чайгавышаан, опей ырыны ырлап бээр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:\Пушкин\mongun.05.0343.720x720.jpg"/>
          <p:cNvPicPr/>
          <p:nvPr/>
        </p:nvPicPr>
        <p:blipFill>
          <a:blip r:embed="rId1"/>
          <a:stretch/>
        </p:blipFill>
        <p:spPr>
          <a:xfrm>
            <a:off x="714240" y="1357200"/>
            <a:ext cx="7858440" cy="521496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1" descr=""/>
          <p:cNvPicPr/>
          <p:nvPr/>
        </p:nvPicPr>
        <p:blipFill>
          <a:blip r:embed="rId2"/>
          <a:stretch/>
        </p:blipFill>
        <p:spPr>
          <a:xfrm>
            <a:off x="262080" y="208080"/>
            <a:ext cx="84913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 деп чул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Опей ырын ырлаар деп чаагай чанчыл шаг-шаандан бээр тывылган.Ону ава кижи чаш уруун чайгап олургаш,ырлап бээр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Опей ыры – улугларнын делегейин бичии уруглар делегейи - биле база эрте-бурунгу  уени  амгы уе - биле харылзаштырып турар ковуруг (кежиг) дир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й ырыларынын хевирлер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МАК\Desktop\i (1).jpg"/>
          <p:cNvPicPr/>
          <p:nvPr/>
        </p:nvPicPr>
        <p:blipFill>
          <a:blip r:embed="rId1"/>
          <a:stretch/>
        </p:blipFill>
        <p:spPr>
          <a:xfrm>
            <a:off x="500040" y="1928880"/>
            <a:ext cx="3857760" cy="4197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лустун аас-чогаалынын опей ырылары (фолькл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озу, аялгазы бодуун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озун болгаш аялгазын чогаатка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луг  опей ырыла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0:29:25Z</dcterms:created>
  <dc:creator>Татьяна</dc:creator>
  <dc:description/>
  <dc:language>en-US</dc:language>
  <cp:lastModifiedBy>МАК</cp:lastModifiedBy>
  <dcterms:modified xsi:type="dcterms:W3CDTF">2017-04-17T14:40:39Z</dcterms:modified>
  <cp:revision>121</cp:revision>
  <dc:subject/>
  <dc:title>ПРОЕКТ  КОЛЫБЕЛЬНЫЕ  ПЕСНИ</dc:title>
</cp:coreProperties>
</file>