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37.png" ContentType="image/png"/>
  <Override PartName="/ppt/media/image43.jpeg" ContentType="image/jpeg"/>
  <Override PartName="/ppt/media/image35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74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7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83.jpeg" ContentType="image/jpeg"/>
  <Override PartName="/ppt/media/image72.jpeg" ContentType="image/jpeg"/>
  <Override PartName="/ppt/media/image67.jpeg" ContentType="image/jpeg"/>
  <Override PartName="/ppt/media/image76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38.png" ContentType="image/png"/>
  <Override PartName="/ppt/media/image39.jpeg" ContentType="image/jpeg"/>
  <Override PartName="/ppt/media/image69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64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22.jpeg" ContentType="image/jpeg"/>
  <Override PartName="/ppt/media/image9.png" ContentType="image/png"/>
  <Override PartName="/ppt/media/image86.png" ContentType="image/png"/>
  <Override PartName="/ppt/media/image1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11.jpeg" ContentType="image/jpeg"/>
  <Override PartName="/ppt/media/image8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9A21-91C7-4974-950B-B5CF29641FA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6D8A-AC97-433B-B80D-D529ED5D15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86C-598D-4B14-A975-A422C8D6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C6C-4456-4348-9AE7-925A6AE7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5FE-8F8A-4A30-AA5D-1178C707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282-5C86-4535-B273-CB381E74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7D2A-9B20-458F-A48F-D7BCCF28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B57B-CF55-4E4E-9F3F-C09CC920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3C5E-4B15-456F-9580-410E5407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3827-6094-4B9E-B41A-5E92DD34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6BFA-6A7F-471B-8B0B-A8CE31E9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7CE3-8616-4AE3-8C68-4A95142E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2AB9-4731-4AA6-A287-F67B2006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47F-5C7F-4922-96AF-47857E14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E5E7-6921-4452-B8FC-AAFB601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998C-9B1A-475C-8316-23B6A378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D463-2A7C-46ED-A724-3FAE3620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AC56-359B-4F5C-B004-7298977A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FC34-0EC3-4BAF-B0A8-D4A35BDD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99DC-87FD-42C8-955B-DD85C79A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3DBB-EB14-4500-B8F6-D2BADFC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1270-0BAE-48BC-A761-AC9AA224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6932-C382-4740-ABB6-C36B9C48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FE20E-4DFD-477B-9F54-D298D792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F3E-ECE1-4A56-9ABE-2812B3A6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A9FE-5481-4A53-BC06-B938B660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7C62-3A9F-4854-B248-5046C28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8E24-2EDE-47C5-8C7D-8A1CEB51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70A6E-46F7-404C-A0B8-30B2898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4770-34CB-4D12-8E67-FD566A40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4A2D-B48B-45B3-AFDD-0838F7B1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0C5B-9E0A-4780-94E0-A9E40921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1075-76FA-4918-9DA7-BD34BDDF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FEA2D-2A49-4942-A3E7-60BCE973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1BC0B-CBE0-4F90-96FA-45E8A38E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5FC-1903-4F80-B0A1-B94E699D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D4494-B2F5-4125-9AF4-5BA55A88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3E6BC-A0E3-40AC-9B4C-87547B3D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76E8-8636-4BCA-9583-84278253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6473-3AA7-4036-AE2A-B8B28713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7D7B-D6AD-4FF0-B564-A62F7E97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936D5-46AF-4AA2-9D17-F3E91E2A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D3C9-0E2D-4AEE-9D39-91D06142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911B7-6899-49DF-83EB-BA4CDC0D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DAA8-9356-40E3-9C12-D1A33DAA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A9C-8851-4418-AE8A-26CA4129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1C8-3A39-422A-972E-6C3E8002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75D-F2A1-4A82-9FA5-24B15E58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BC4-53C8-4E7D-A932-AFE3F654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46C-CD81-44C5-9B02-0EB66A61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355B-7E26-4DEF-879C-165FD26BB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BBA7-A7E0-45CD-8A87-B7377033D4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9206-8011-4E82-A8B9-43FDB214E7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28A-6C07-41CF-9258-FA3B235489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9.jpeg"/><Relationship Id="rId10" Type="http://schemas.openxmlformats.org/officeDocument/2006/relationships/image" Target="../media/image31.jpeg"/><Relationship Id="rId11" Type="http://schemas.openxmlformats.org/officeDocument/2006/relationships/image" Target="../media/image70.jpeg"/><Relationship Id="rId12" Type="http://schemas.openxmlformats.org/officeDocument/2006/relationships/image" Target="../media/image71.jpe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pn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https://encrypted-tbn0.gstatic.com/images?q=tbn:ANd9GcTeKNu6e4OSgg0f0oSGyEdPrrJUcBczd5jfthgzK8ujKd_eiq2-N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738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Добрый </a:t>
            </a: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день!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Александр\Pictures\1239748313_raz_33.jpg"/>
          <p:cNvPicPr/>
          <p:nvPr/>
        </p:nvPicPr>
        <p:blipFill>
          <a:blip r:embed="rId1"/>
          <a:stretch/>
        </p:blipFill>
        <p:spPr>
          <a:xfrm>
            <a:off x="0" y="0"/>
            <a:ext cx="4788000" cy="3213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Александр\Pictures\gel1_1.jpg"/>
          <p:cNvPicPr/>
          <p:nvPr/>
        </p:nvPicPr>
        <p:blipFill>
          <a:blip r:embed="rId2"/>
          <a:stretch/>
        </p:blipFill>
        <p:spPr>
          <a:xfrm>
            <a:off x="5003640" y="765000"/>
            <a:ext cx="3600720" cy="3095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Александр\Pictures\655119.jpg"/>
          <p:cNvPicPr/>
          <p:nvPr/>
        </p:nvPicPr>
        <p:blipFill>
          <a:blip r:embed="rId3"/>
          <a:stretch/>
        </p:blipFill>
        <p:spPr>
          <a:xfrm>
            <a:off x="900000" y="3068640"/>
            <a:ext cx="4248360" cy="3186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6" descr="CAGLUFWH"/>
          <p:cNvPicPr/>
          <p:nvPr/>
        </p:nvPicPr>
        <p:blipFill>
          <a:blip r:embed="rId4"/>
          <a:stretch/>
        </p:blipFill>
        <p:spPr>
          <a:xfrm>
            <a:off x="6075360" y="3716280"/>
            <a:ext cx="3068640" cy="31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1"/>
          <p:cNvPicPr/>
          <p:nvPr/>
        </p:nvPicPr>
        <p:blipFill>
          <a:blip r:embed="rId1"/>
          <a:stretch/>
        </p:blipFill>
        <p:spPr>
          <a:xfrm>
            <a:off x="0" y="3141720"/>
            <a:ext cx="2039760" cy="1727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AGHA3O3"/>
          <p:cNvPicPr/>
          <p:nvPr/>
        </p:nvPicPr>
        <p:blipFill>
          <a:blip r:embed="rId2"/>
          <a:stretch/>
        </p:blipFill>
        <p:spPr>
          <a:xfrm>
            <a:off x="0" y="0"/>
            <a:ext cx="313200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Picture 13" descr="медь 4"/>
          <p:cNvPicPr/>
          <p:nvPr/>
        </p:nvPicPr>
        <p:blipFill>
          <a:blip r:embed="rId3"/>
          <a:stretch/>
        </p:blipFill>
        <p:spPr>
          <a:xfrm>
            <a:off x="1258920" y="4653000"/>
            <a:ext cx="24289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18" descr="444"/>
          <p:cNvPicPr/>
          <p:nvPr/>
        </p:nvPicPr>
        <p:blipFill>
          <a:blip r:embed="rId4"/>
          <a:stretch/>
        </p:blipFill>
        <p:spPr>
          <a:xfrm>
            <a:off x="3851280" y="333360"/>
            <a:ext cx="1871640" cy="127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AutoShape 1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C:\Users\пользователь\Downloads\Новая папка\загружено (6).jpg"/>
          <p:cNvPicPr/>
          <p:nvPr/>
        </p:nvPicPr>
        <p:blipFill>
          <a:blip r:embed="rId5"/>
          <a:stretch/>
        </p:blipFill>
        <p:spPr>
          <a:xfrm>
            <a:off x="3132000" y="1916280"/>
            <a:ext cx="3556080" cy="2665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C:\Users\пользователь\Downloads\Новая папка\загружено (4).jpg"/>
          <p:cNvPicPr/>
          <p:nvPr/>
        </p:nvPicPr>
        <p:blipFill>
          <a:blip r:embed="rId6"/>
          <a:stretch/>
        </p:blipFill>
        <p:spPr>
          <a:xfrm>
            <a:off x="6840360" y="0"/>
            <a:ext cx="2303640" cy="344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:\Users\пользователь\Downloads\Новая папка\загружено (5).jpg"/>
          <p:cNvPicPr/>
          <p:nvPr/>
        </p:nvPicPr>
        <p:blipFill>
          <a:blip r:embed="rId7"/>
          <a:stretch/>
        </p:blipFill>
        <p:spPr>
          <a:xfrm>
            <a:off x="5033880" y="4437000"/>
            <a:ext cx="41101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Коррозия</a:t>
            </a: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 – это процесс самопроизвольного разрушения материалов и изделий из них под химическим воздействием окружающей сред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3" name="Picture 2" descr="C:\Users\Александр\Pictures\0_235f3_697a7da_XL.jpeg"/>
          <p:cNvPicPr/>
          <p:nvPr/>
        </p:nvPicPr>
        <p:blipFill>
          <a:blip r:embed="rId1"/>
          <a:stretch/>
        </p:blipFill>
        <p:spPr>
          <a:xfrm>
            <a:off x="395280" y="3213000"/>
            <a:ext cx="464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6.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58"/>
                            </p:stCondLst>
                            <p:childTnLst>
                              <p:par>
                                <p:cTn id="1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5"/>
          <p:cNvSpPr txBox="1"/>
          <p:nvPr/>
        </p:nvSpPr>
        <p:spPr>
          <a:xfrm>
            <a:off x="2987640" y="333360"/>
            <a:ext cx="345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орро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826920" y="1844640"/>
            <a:ext cx="2376720" cy="1008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вид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розионной средКоррозия металлов. Способы защиты металлов от коррозии.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3564000" y="1844640"/>
            <a:ext cx="2376360" cy="1008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характер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руш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6300720" y="1844640"/>
            <a:ext cx="2376720" cy="1008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процесс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10954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900000" y="3284640"/>
            <a:ext cx="1244880" cy="3664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аз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30"/>
          <p:cNvSpPr/>
          <p:nvPr/>
        </p:nvSpPr>
        <p:spPr>
          <a:xfrm>
            <a:off x="900000" y="3789360"/>
            <a:ext cx="1735200" cy="3668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идкост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900000" y="4292640"/>
            <a:ext cx="1892520" cy="3668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тмосфер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32"/>
          <p:cNvSpPr/>
          <p:nvPr/>
        </p:nvSpPr>
        <p:spPr>
          <a:xfrm>
            <a:off x="900000" y="4797360"/>
            <a:ext cx="1584360" cy="3668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чв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3995640" y="3213000"/>
            <a:ext cx="1532160" cy="3668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лош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41"/>
          <p:cNvSpPr/>
          <p:nvPr/>
        </p:nvSpPr>
        <p:spPr>
          <a:xfrm>
            <a:off x="3995640" y="3860640"/>
            <a:ext cx="1316160" cy="3668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42"/>
          <p:cNvSpPr/>
          <p:nvPr/>
        </p:nvSpPr>
        <p:spPr>
          <a:xfrm>
            <a:off x="6516720" y="3213000"/>
            <a:ext cx="1655640" cy="3668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имиче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43"/>
          <p:cNvSpPr/>
          <p:nvPr/>
        </p:nvSpPr>
        <p:spPr>
          <a:xfrm>
            <a:off x="6300720" y="3789360"/>
            <a:ext cx="2627280" cy="4316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ектрохимиче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7" name="Group 53"/>
          <p:cNvGrpSpPr/>
          <p:nvPr/>
        </p:nvGrpSpPr>
        <p:grpSpPr>
          <a:xfrm>
            <a:off x="6156360" y="2349360"/>
            <a:ext cx="216000" cy="1656000"/>
            <a:chOff x="6156360" y="2349360"/>
            <a:chExt cx="216000" cy="1656000"/>
          </a:xfrm>
        </p:grpSpPr>
        <p:sp>
          <p:nvSpPr>
            <p:cNvPr id="228" name="Line 49"/>
            <p:cNvSpPr/>
            <p:nvPr/>
          </p:nvSpPr>
          <p:spPr>
            <a:xfrm>
              <a:off x="6156360" y="2349360"/>
              <a:ext cx="0" cy="165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50"/>
            <p:cNvSpPr/>
            <p:nvPr/>
          </p:nvSpPr>
          <p:spPr>
            <a:xfrm>
              <a:off x="6156360" y="234936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51"/>
            <p:cNvSpPr/>
            <p:nvPr/>
          </p:nvSpPr>
          <p:spPr>
            <a:xfrm>
              <a:off x="6156360" y="34290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52"/>
            <p:cNvSpPr/>
            <p:nvPr/>
          </p:nvSpPr>
          <p:spPr>
            <a:xfrm>
              <a:off x="6156360" y="400536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2" name="Text Box 54"/>
          <p:cNvSpPr/>
          <p:nvPr/>
        </p:nvSpPr>
        <p:spPr>
          <a:xfrm>
            <a:off x="3708360" y="4508640"/>
            <a:ext cx="2664000" cy="3664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жкристаллит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3" name="Group 56"/>
          <p:cNvGrpSpPr/>
          <p:nvPr/>
        </p:nvGrpSpPr>
        <p:grpSpPr>
          <a:xfrm>
            <a:off x="3419640" y="2349360"/>
            <a:ext cx="431640" cy="2303640"/>
            <a:chOff x="3419640" y="2349360"/>
            <a:chExt cx="431640" cy="2303640"/>
          </a:xfrm>
        </p:grpSpPr>
        <p:sp>
          <p:nvSpPr>
            <p:cNvPr id="234" name="Line 44"/>
            <p:cNvSpPr/>
            <p:nvPr/>
          </p:nvSpPr>
          <p:spPr>
            <a:xfrm>
              <a:off x="3419640" y="2349360"/>
              <a:ext cx="0" cy="230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3419640" y="40053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>
              <a:off x="3419640" y="33577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>
              <a:off x="3419640" y="234936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Line 55"/>
            <p:cNvSpPr/>
            <p:nvPr/>
          </p:nvSpPr>
          <p:spPr>
            <a:xfrm>
              <a:off x="3419640" y="465300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9" name="Line 57"/>
          <p:cNvSpPr/>
          <p:nvPr/>
        </p:nvSpPr>
        <p:spPr>
          <a:xfrm flipH="1">
            <a:off x="2555640" y="1052640"/>
            <a:ext cx="863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58"/>
          <p:cNvSpPr/>
          <p:nvPr/>
        </p:nvSpPr>
        <p:spPr>
          <a:xfrm>
            <a:off x="6084720" y="981000"/>
            <a:ext cx="1008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59"/>
          <p:cNvSpPr/>
          <p:nvPr/>
        </p:nvSpPr>
        <p:spPr>
          <a:xfrm>
            <a:off x="4716360" y="1052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2" name="Group 62"/>
          <p:cNvGrpSpPr/>
          <p:nvPr/>
        </p:nvGrpSpPr>
        <p:grpSpPr>
          <a:xfrm>
            <a:off x="395280" y="2349360"/>
            <a:ext cx="431640" cy="3240360"/>
            <a:chOff x="395280" y="2349360"/>
            <a:chExt cx="431640" cy="3240360"/>
          </a:xfrm>
        </p:grpSpPr>
        <p:grpSp>
          <p:nvGrpSpPr>
            <p:cNvPr id="243" name="Group 39"/>
            <p:cNvGrpSpPr/>
            <p:nvPr/>
          </p:nvGrpSpPr>
          <p:grpSpPr>
            <a:xfrm>
              <a:off x="395280" y="2349360"/>
              <a:ext cx="431640" cy="2735280"/>
              <a:chOff x="395280" y="2349360"/>
              <a:chExt cx="431640" cy="2735280"/>
            </a:xfrm>
          </p:grpSpPr>
          <p:sp>
            <p:nvSpPr>
              <p:cNvPr id="244" name="Line 33"/>
              <p:cNvSpPr/>
              <p:nvPr/>
            </p:nvSpPr>
            <p:spPr>
              <a:xfrm>
                <a:off x="395280" y="2349360"/>
                <a:ext cx="0" cy="27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Line 34"/>
              <p:cNvSpPr/>
              <p:nvPr/>
            </p:nvSpPr>
            <p:spPr>
              <a:xfrm>
                <a:off x="395280" y="2349360"/>
                <a:ext cx="43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Line 35"/>
              <p:cNvSpPr/>
              <p:nvPr/>
            </p:nvSpPr>
            <p:spPr>
              <a:xfrm>
                <a:off x="395280" y="342900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Line 36"/>
              <p:cNvSpPr/>
              <p:nvPr/>
            </p:nvSpPr>
            <p:spPr>
              <a:xfrm>
                <a:off x="395280" y="400536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Line 37"/>
              <p:cNvSpPr/>
              <p:nvPr/>
            </p:nvSpPr>
            <p:spPr>
              <a:xfrm>
                <a:off x="395280" y="450864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Line 38"/>
              <p:cNvSpPr/>
              <p:nvPr/>
            </p:nvSpPr>
            <p:spPr>
              <a:xfrm>
                <a:off x="395280" y="5084640"/>
                <a:ext cx="3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50" name="Line 60"/>
            <p:cNvSpPr/>
            <p:nvPr/>
          </p:nvSpPr>
          <p:spPr>
            <a:xfrm>
              <a:off x="395280" y="558972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Line 61"/>
            <p:cNvSpPr/>
            <p:nvPr/>
          </p:nvSpPr>
          <p:spPr>
            <a:xfrm>
              <a:off x="395280" y="5013360"/>
              <a:ext cx="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2" name="Text Box 63"/>
          <p:cNvSpPr/>
          <p:nvPr/>
        </p:nvSpPr>
        <p:spPr>
          <a:xfrm>
            <a:off x="826920" y="5373720"/>
            <a:ext cx="2159280" cy="64764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луждающими тока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611280" y="2708280"/>
            <a:ext cx="82296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По виду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коррозионной сред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Picture 14" descr="CA6ZW9YZ"/>
          <p:cNvPicPr/>
          <p:nvPr/>
        </p:nvPicPr>
        <p:blipFill>
          <a:blip r:embed="rId1"/>
          <a:stretch/>
        </p:blipFill>
        <p:spPr>
          <a:xfrm>
            <a:off x="900000" y="476280"/>
            <a:ext cx="1511280" cy="1511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55" name="Picture 29" descr="CATJ3HWK"/>
          <p:cNvPicPr/>
          <p:nvPr/>
        </p:nvPicPr>
        <p:blipFill>
          <a:blip r:embed="rId2"/>
          <a:stretch/>
        </p:blipFill>
        <p:spPr>
          <a:xfrm>
            <a:off x="2124000" y="333360"/>
            <a:ext cx="1656000" cy="1440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56" name="Picture 5" descr="CAGG3NAI"/>
          <p:cNvPicPr/>
          <p:nvPr/>
        </p:nvPicPr>
        <p:blipFill>
          <a:blip r:embed="rId3"/>
          <a:stretch/>
        </p:blipFill>
        <p:spPr>
          <a:xfrm>
            <a:off x="395280" y="1484280"/>
            <a:ext cx="1058760" cy="1368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атмосферная"/>
          <p:cNvPicPr/>
          <p:nvPr/>
        </p:nvPicPr>
        <p:blipFill>
          <a:blip r:embed="rId4"/>
          <a:stretch/>
        </p:blipFill>
        <p:spPr>
          <a:xfrm>
            <a:off x="5219640" y="549360"/>
            <a:ext cx="1900440" cy="1206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" descr="3333"/>
          <p:cNvPicPr/>
          <p:nvPr/>
        </p:nvPicPr>
        <p:blipFill>
          <a:blip r:embed="rId5"/>
          <a:stretch/>
        </p:blipFill>
        <p:spPr>
          <a:xfrm>
            <a:off x="6877080" y="1125360"/>
            <a:ext cx="1981080" cy="1482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CAIPQBK7"/>
          <p:cNvPicPr/>
          <p:nvPr/>
        </p:nvPicPr>
        <p:blipFill>
          <a:blip r:embed="rId6">
            <a:lum bright="-10000"/>
          </a:blip>
          <a:stretch/>
        </p:blipFill>
        <p:spPr>
          <a:xfrm>
            <a:off x="684360" y="4365720"/>
            <a:ext cx="1277640" cy="2016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60" name="Picture 13" descr="CAOXHIN6"/>
          <p:cNvPicPr/>
          <p:nvPr/>
        </p:nvPicPr>
        <p:blipFill>
          <a:blip r:embed="rId7">
            <a:lum bright="-20000"/>
          </a:blip>
          <a:stretch/>
        </p:blipFill>
        <p:spPr>
          <a:xfrm>
            <a:off x="1835280" y="4221000"/>
            <a:ext cx="1400040" cy="1584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61" name="Picture 15" descr="CAP7BR8L"/>
          <p:cNvPicPr/>
          <p:nvPr/>
        </p:nvPicPr>
        <p:blipFill>
          <a:blip r:embed="rId8">
            <a:lum bright="-10000"/>
          </a:blip>
          <a:stretch/>
        </p:blipFill>
        <p:spPr>
          <a:xfrm>
            <a:off x="4284720" y="4437000"/>
            <a:ext cx="133668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262" name="Picture 25" descr="CAUV9DPG"/>
          <p:cNvPicPr/>
          <p:nvPr/>
        </p:nvPicPr>
        <p:blipFill>
          <a:blip r:embed="rId9"/>
          <a:stretch/>
        </p:blipFill>
        <p:spPr>
          <a:xfrm>
            <a:off x="6804000" y="4437000"/>
            <a:ext cx="1687680" cy="18003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Газовая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Атмосферная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36480" y="3933720"/>
            <a:ext cx="8507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Жидкос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очвен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Блуждающие то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По характеру разрушений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ahoma"/>
              </a:rPr>
              <a:t>Сплошная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993300"/>
                </a:solidFill>
                <a:latin typeface="Tahoma"/>
              </a:rPr>
              <a:t>корроз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"/>
          <p:cNvSpPr/>
          <p:nvPr/>
        </p:nvSpPr>
        <p:spPr>
          <a:xfrm>
            <a:off x="1042920" y="1268280"/>
            <a:ext cx="3024360" cy="18003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1042920" y="1268280"/>
            <a:ext cx="3024360" cy="36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1397160" y="299736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Равномерная</a:t>
            </a:r>
            <a:r>
              <a:rPr b="1" lang="en-US" sz="36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1042920" y="4221000"/>
            <a:ext cx="3024360" cy="180036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lin ang="5400000"/>
          </a:gra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Freeform 42"/>
          <p:cNvSpPr/>
          <p:nvPr/>
        </p:nvSpPr>
        <p:spPr>
          <a:xfrm>
            <a:off x="1042920" y="4221000"/>
            <a:ext cx="3030480" cy="505080"/>
          </a:xfrm>
          <a:custGeom>
            <a:avLst/>
            <a:gdLst>
              <a:gd name="textAreaLeft" fmla="*/ 0 w 3030480"/>
              <a:gd name="textAreaRight" fmla="*/ 3030840 w 30304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1909" h="236">
                <a:moveTo>
                  <a:pt x="3" y="0"/>
                </a:moveTo>
                <a:cubicBezTo>
                  <a:pt x="4" y="57"/>
                  <a:pt x="0" y="114"/>
                  <a:pt x="5" y="170"/>
                </a:cubicBezTo>
                <a:cubicBezTo>
                  <a:pt x="5" y="174"/>
                  <a:pt x="17" y="174"/>
                  <a:pt x="17" y="174"/>
                </a:cubicBezTo>
                <a:cubicBezTo>
                  <a:pt x="110" y="172"/>
                  <a:pt x="99" y="179"/>
                  <a:pt x="155" y="142"/>
                </a:cubicBezTo>
                <a:cubicBezTo>
                  <a:pt x="172" y="143"/>
                  <a:pt x="194" y="142"/>
                  <a:pt x="211" y="148"/>
                </a:cubicBezTo>
                <a:cubicBezTo>
                  <a:pt x="219" y="154"/>
                  <a:pt x="229" y="161"/>
                  <a:pt x="239" y="164"/>
                </a:cubicBezTo>
                <a:cubicBezTo>
                  <a:pt x="247" y="176"/>
                  <a:pt x="264" y="176"/>
                  <a:pt x="277" y="178"/>
                </a:cubicBezTo>
                <a:cubicBezTo>
                  <a:pt x="337" y="175"/>
                  <a:pt x="311" y="173"/>
                  <a:pt x="349" y="164"/>
                </a:cubicBezTo>
                <a:cubicBezTo>
                  <a:pt x="362" y="155"/>
                  <a:pt x="378" y="150"/>
                  <a:pt x="391" y="142"/>
                </a:cubicBezTo>
                <a:cubicBezTo>
                  <a:pt x="395" y="139"/>
                  <a:pt x="403" y="134"/>
                  <a:pt x="403" y="134"/>
                </a:cubicBezTo>
                <a:cubicBezTo>
                  <a:pt x="447" y="136"/>
                  <a:pt x="457" y="140"/>
                  <a:pt x="493" y="152"/>
                </a:cubicBezTo>
                <a:cubicBezTo>
                  <a:pt x="503" y="162"/>
                  <a:pt x="506" y="167"/>
                  <a:pt x="521" y="172"/>
                </a:cubicBezTo>
                <a:cubicBezTo>
                  <a:pt x="533" y="184"/>
                  <a:pt x="544" y="184"/>
                  <a:pt x="561" y="186"/>
                </a:cubicBezTo>
                <a:cubicBezTo>
                  <a:pt x="572" y="190"/>
                  <a:pt x="580" y="194"/>
                  <a:pt x="591" y="196"/>
                </a:cubicBezTo>
                <a:cubicBezTo>
                  <a:pt x="642" y="195"/>
                  <a:pt x="692" y="195"/>
                  <a:pt x="743" y="194"/>
                </a:cubicBezTo>
                <a:cubicBezTo>
                  <a:pt x="767" y="193"/>
                  <a:pt x="787" y="166"/>
                  <a:pt x="811" y="164"/>
                </a:cubicBezTo>
                <a:cubicBezTo>
                  <a:pt x="834" y="162"/>
                  <a:pt x="856" y="163"/>
                  <a:pt x="879" y="162"/>
                </a:cubicBezTo>
                <a:cubicBezTo>
                  <a:pt x="931" y="163"/>
                  <a:pt x="962" y="164"/>
                  <a:pt x="1007" y="170"/>
                </a:cubicBezTo>
                <a:cubicBezTo>
                  <a:pt x="1017" y="177"/>
                  <a:pt x="1027" y="186"/>
                  <a:pt x="1039" y="190"/>
                </a:cubicBezTo>
                <a:cubicBezTo>
                  <a:pt x="1045" y="198"/>
                  <a:pt x="1082" y="218"/>
                  <a:pt x="1093" y="222"/>
                </a:cubicBezTo>
                <a:cubicBezTo>
                  <a:pt x="1193" y="220"/>
                  <a:pt x="1208" y="232"/>
                  <a:pt x="1271" y="190"/>
                </a:cubicBezTo>
                <a:cubicBezTo>
                  <a:pt x="1279" y="179"/>
                  <a:pt x="1302" y="170"/>
                  <a:pt x="1315" y="166"/>
                </a:cubicBezTo>
                <a:cubicBezTo>
                  <a:pt x="1336" y="160"/>
                  <a:pt x="1306" y="170"/>
                  <a:pt x="1335" y="160"/>
                </a:cubicBezTo>
                <a:cubicBezTo>
                  <a:pt x="1337" y="159"/>
                  <a:pt x="1341" y="158"/>
                  <a:pt x="1341" y="158"/>
                </a:cubicBezTo>
                <a:cubicBezTo>
                  <a:pt x="1360" y="159"/>
                  <a:pt x="1378" y="159"/>
                  <a:pt x="1397" y="160"/>
                </a:cubicBezTo>
                <a:cubicBezTo>
                  <a:pt x="1408" y="161"/>
                  <a:pt x="1419" y="173"/>
                  <a:pt x="1429" y="178"/>
                </a:cubicBezTo>
                <a:cubicBezTo>
                  <a:pt x="1454" y="191"/>
                  <a:pt x="1479" y="197"/>
                  <a:pt x="1507" y="200"/>
                </a:cubicBezTo>
                <a:cubicBezTo>
                  <a:pt x="1562" y="211"/>
                  <a:pt x="1568" y="196"/>
                  <a:pt x="1607" y="186"/>
                </a:cubicBezTo>
                <a:cubicBezTo>
                  <a:pt x="1639" y="188"/>
                  <a:pt x="1655" y="191"/>
                  <a:pt x="1683" y="200"/>
                </a:cubicBezTo>
                <a:cubicBezTo>
                  <a:pt x="1690" y="202"/>
                  <a:pt x="1696" y="204"/>
                  <a:pt x="1703" y="206"/>
                </a:cubicBezTo>
                <a:cubicBezTo>
                  <a:pt x="1707" y="207"/>
                  <a:pt x="1715" y="210"/>
                  <a:pt x="1715" y="210"/>
                </a:cubicBezTo>
                <a:cubicBezTo>
                  <a:pt x="1732" y="209"/>
                  <a:pt x="1748" y="210"/>
                  <a:pt x="1765" y="208"/>
                </a:cubicBezTo>
                <a:cubicBezTo>
                  <a:pt x="1777" y="207"/>
                  <a:pt x="1791" y="196"/>
                  <a:pt x="1807" y="194"/>
                </a:cubicBezTo>
                <a:cubicBezTo>
                  <a:pt x="1846" y="197"/>
                  <a:pt x="1829" y="194"/>
                  <a:pt x="1849" y="208"/>
                </a:cubicBezTo>
                <a:cubicBezTo>
                  <a:pt x="1868" y="236"/>
                  <a:pt x="1870" y="230"/>
                  <a:pt x="1909" y="230"/>
                </a:cubicBezTo>
                <a:lnTo>
                  <a:pt x="1909" y="2"/>
                </a:lnTo>
                <a:lnTo>
                  <a:pt x="3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1173240" y="609300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Неравномерная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4" descr="неравномерная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5076720" y="4221000"/>
            <a:ext cx="259236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7" name="Picture 47" descr="равномерная"/>
          <p:cNvPicPr/>
          <p:nvPr/>
        </p:nvPicPr>
        <p:blipFill>
          <a:blip r:embed="rId6"/>
          <a:stretch/>
        </p:blipFill>
        <p:spPr>
          <a:xfrm>
            <a:off x="5003640" y="1268280"/>
            <a:ext cx="2664000" cy="19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4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4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4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4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ahoma"/>
              </a:rPr>
              <a:t>Местная корроз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84360" y="1092240"/>
            <a:ext cx="2519280" cy="17604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lin ang="5400000"/>
          </a:gra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3492360" y="1092240"/>
            <a:ext cx="2519640" cy="17604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lin ang="5400000"/>
          </a:gra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Freeform 22"/>
          <p:cNvSpPr/>
          <p:nvPr/>
        </p:nvSpPr>
        <p:spPr>
          <a:xfrm>
            <a:off x="3990960" y="1081080"/>
            <a:ext cx="149400" cy="1112760"/>
          </a:xfrm>
          <a:custGeom>
            <a:avLst/>
            <a:gdLst>
              <a:gd name="textAreaLeft" fmla="*/ 0 w 149400"/>
              <a:gd name="textAreaRight" fmla="*/ 149760 w 149400"/>
              <a:gd name="textAreaTop" fmla="*/ 0 h 1112760"/>
              <a:gd name="textAreaBottom" fmla="*/ 1113120 h 1112760"/>
            </a:gdLst>
            <a:ahLst/>
            <a:rect l="textAreaLeft" t="textAreaTop" r="textAreaRight" b="textAreaBottom"/>
            <a:pathLst>
              <a:path w="78" h="701">
                <a:moveTo>
                  <a:pt x="0" y="3"/>
                </a:moveTo>
                <a:cubicBezTo>
                  <a:pt x="12" y="38"/>
                  <a:pt x="0" y="76"/>
                  <a:pt x="12" y="111"/>
                </a:cubicBezTo>
                <a:cubicBezTo>
                  <a:pt x="14" y="139"/>
                  <a:pt x="16" y="167"/>
                  <a:pt x="18" y="195"/>
                </a:cubicBezTo>
                <a:cubicBezTo>
                  <a:pt x="19" y="204"/>
                  <a:pt x="27" y="222"/>
                  <a:pt x="27" y="222"/>
                </a:cubicBezTo>
                <a:cubicBezTo>
                  <a:pt x="28" y="240"/>
                  <a:pt x="28" y="258"/>
                  <a:pt x="30" y="276"/>
                </a:cubicBezTo>
                <a:cubicBezTo>
                  <a:pt x="31" y="282"/>
                  <a:pt x="36" y="294"/>
                  <a:pt x="36" y="294"/>
                </a:cubicBezTo>
                <a:cubicBezTo>
                  <a:pt x="38" y="319"/>
                  <a:pt x="43" y="334"/>
                  <a:pt x="30" y="354"/>
                </a:cubicBezTo>
                <a:cubicBezTo>
                  <a:pt x="35" y="424"/>
                  <a:pt x="32" y="375"/>
                  <a:pt x="45" y="414"/>
                </a:cubicBezTo>
                <a:cubicBezTo>
                  <a:pt x="31" y="435"/>
                  <a:pt x="35" y="425"/>
                  <a:pt x="30" y="441"/>
                </a:cubicBezTo>
                <a:cubicBezTo>
                  <a:pt x="30" y="451"/>
                  <a:pt x="22" y="534"/>
                  <a:pt x="48" y="552"/>
                </a:cubicBezTo>
                <a:cubicBezTo>
                  <a:pt x="73" y="589"/>
                  <a:pt x="19" y="701"/>
                  <a:pt x="66" y="669"/>
                </a:cubicBezTo>
                <a:cubicBezTo>
                  <a:pt x="71" y="653"/>
                  <a:pt x="71" y="658"/>
                  <a:pt x="66" y="633"/>
                </a:cubicBezTo>
                <a:cubicBezTo>
                  <a:pt x="65" y="627"/>
                  <a:pt x="60" y="615"/>
                  <a:pt x="60" y="615"/>
                </a:cubicBezTo>
                <a:cubicBezTo>
                  <a:pt x="64" y="609"/>
                  <a:pt x="73" y="607"/>
                  <a:pt x="75" y="600"/>
                </a:cubicBezTo>
                <a:cubicBezTo>
                  <a:pt x="78" y="592"/>
                  <a:pt x="65" y="577"/>
                  <a:pt x="63" y="570"/>
                </a:cubicBezTo>
                <a:cubicBezTo>
                  <a:pt x="60" y="523"/>
                  <a:pt x="59" y="528"/>
                  <a:pt x="48" y="495"/>
                </a:cubicBezTo>
                <a:cubicBezTo>
                  <a:pt x="49" y="475"/>
                  <a:pt x="49" y="455"/>
                  <a:pt x="51" y="435"/>
                </a:cubicBezTo>
                <a:cubicBezTo>
                  <a:pt x="52" y="429"/>
                  <a:pt x="57" y="417"/>
                  <a:pt x="57" y="417"/>
                </a:cubicBezTo>
                <a:cubicBezTo>
                  <a:pt x="55" y="391"/>
                  <a:pt x="55" y="376"/>
                  <a:pt x="48" y="354"/>
                </a:cubicBezTo>
                <a:cubicBezTo>
                  <a:pt x="47" y="325"/>
                  <a:pt x="62" y="277"/>
                  <a:pt x="33" y="258"/>
                </a:cubicBezTo>
                <a:cubicBezTo>
                  <a:pt x="16" y="233"/>
                  <a:pt x="34" y="193"/>
                  <a:pt x="24" y="162"/>
                </a:cubicBezTo>
                <a:cubicBezTo>
                  <a:pt x="23" y="111"/>
                  <a:pt x="38" y="67"/>
                  <a:pt x="12" y="27"/>
                </a:cubicBezTo>
                <a:cubicBezTo>
                  <a:pt x="9" y="0"/>
                  <a:pt x="17" y="3"/>
                  <a:pt x="0" y="3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Freeform 23"/>
          <p:cNvSpPr/>
          <p:nvPr/>
        </p:nvSpPr>
        <p:spPr>
          <a:xfrm>
            <a:off x="4529160" y="1082520"/>
            <a:ext cx="187200" cy="1603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603440"/>
              <a:gd name="textAreaBottom" fmla="*/ 1603800 h 1603440"/>
            </a:gdLst>
            <a:ahLst/>
            <a:rect l="textAreaLeft" t="textAreaTop" r="textAreaRight" b="textAreaBottom"/>
            <a:pathLst>
              <a:path w="84" h="1010">
                <a:moveTo>
                  <a:pt x="18" y="5"/>
                </a:moveTo>
                <a:cubicBezTo>
                  <a:pt x="29" y="39"/>
                  <a:pt x="33" y="176"/>
                  <a:pt x="18" y="221"/>
                </a:cubicBezTo>
                <a:cubicBezTo>
                  <a:pt x="21" y="232"/>
                  <a:pt x="26" y="240"/>
                  <a:pt x="30" y="251"/>
                </a:cubicBezTo>
                <a:cubicBezTo>
                  <a:pt x="32" y="275"/>
                  <a:pt x="49" y="338"/>
                  <a:pt x="21" y="347"/>
                </a:cubicBezTo>
                <a:cubicBezTo>
                  <a:pt x="0" y="411"/>
                  <a:pt x="20" y="438"/>
                  <a:pt x="66" y="461"/>
                </a:cubicBezTo>
                <a:cubicBezTo>
                  <a:pt x="64" y="467"/>
                  <a:pt x="64" y="474"/>
                  <a:pt x="60" y="479"/>
                </a:cubicBezTo>
                <a:cubicBezTo>
                  <a:pt x="56" y="485"/>
                  <a:pt x="48" y="497"/>
                  <a:pt x="48" y="497"/>
                </a:cubicBezTo>
                <a:cubicBezTo>
                  <a:pt x="53" y="521"/>
                  <a:pt x="57" y="537"/>
                  <a:pt x="48" y="566"/>
                </a:cubicBezTo>
                <a:cubicBezTo>
                  <a:pt x="46" y="573"/>
                  <a:pt x="30" y="578"/>
                  <a:pt x="30" y="578"/>
                </a:cubicBezTo>
                <a:cubicBezTo>
                  <a:pt x="26" y="590"/>
                  <a:pt x="33" y="617"/>
                  <a:pt x="33" y="617"/>
                </a:cubicBezTo>
                <a:cubicBezTo>
                  <a:pt x="34" y="644"/>
                  <a:pt x="45" y="716"/>
                  <a:pt x="33" y="752"/>
                </a:cubicBezTo>
                <a:cubicBezTo>
                  <a:pt x="34" y="760"/>
                  <a:pt x="33" y="769"/>
                  <a:pt x="36" y="776"/>
                </a:cubicBezTo>
                <a:cubicBezTo>
                  <a:pt x="37" y="779"/>
                  <a:pt x="45" y="776"/>
                  <a:pt x="45" y="779"/>
                </a:cubicBezTo>
                <a:cubicBezTo>
                  <a:pt x="59" y="993"/>
                  <a:pt x="66" y="1010"/>
                  <a:pt x="45" y="947"/>
                </a:cubicBezTo>
                <a:cubicBezTo>
                  <a:pt x="47" y="919"/>
                  <a:pt x="48" y="881"/>
                  <a:pt x="57" y="854"/>
                </a:cubicBezTo>
                <a:cubicBezTo>
                  <a:pt x="56" y="805"/>
                  <a:pt x="68" y="772"/>
                  <a:pt x="45" y="737"/>
                </a:cubicBezTo>
                <a:cubicBezTo>
                  <a:pt x="46" y="684"/>
                  <a:pt x="46" y="631"/>
                  <a:pt x="48" y="578"/>
                </a:cubicBezTo>
                <a:cubicBezTo>
                  <a:pt x="48" y="565"/>
                  <a:pt x="63" y="542"/>
                  <a:pt x="63" y="542"/>
                </a:cubicBezTo>
                <a:cubicBezTo>
                  <a:pt x="65" y="495"/>
                  <a:pt x="51" y="487"/>
                  <a:pt x="84" y="476"/>
                </a:cubicBezTo>
                <a:cubicBezTo>
                  <a:pt x="79" y="437"/>
                  <a:pt x="77" y="457"/>
                  <a:pt x="51" y="440"/>
                </a:cubicBezTo>
                <a:cubicBezTo>
                  <a:pt x="37" y="419"/>
                  <a:pt x="48" y="393"/>
                  <a:pt x="33" y="371"/>
                </a:cubicBezTo>
                <a:cubicBezTo>
                  <a:pt x="36" y="356"/>
                  <a:pt x="36" y="345"/>
                  <a:pt x="45" y="332"/>
                </a:cubicBezTo>
                <a:cubicBezTo>
                  <a:pt x="43" y="244"/>
                  <a:pt x="40" y="210"/>
                  <a:pt x="36" y="134"/>
                </a:cubicBezTo>
                <a:cubicBezTo>
                  <a:pt x="33" y="0"/>
                  <a:pt x="76" y="5"/>
                  <a:pt x="18" y="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Freeform 24"/>
          <p:cNvSpPr/>
          <p:nvPr/>
        </p:nvSpPr>
        <p:spPr>
          <a:xfrm>
            <a:off x="5076720" y="1085760"/>
            <a:ext cx="114480" cy="574920"/>
          </a:xfrm>
          <a:custGeom>
            <a:avLst/>
            <a:gdLst>
              <a:gd name="textAreaLeft" fmla="*/ 0 w 114480"/>
              <a:gd name="textAreaRight" fmla="*/ 114840 w 1144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39" h="362">
                <a:moveTo>
                  <a:pt x="0" y="3"/>
                </a:moveTo>
                <a:cubicBezTo>
                  <a:pt x="3" y="21"/>
                  <a:pt x="7" y="33"/>
                  <a:pt x="3" y="51"/>
                </a:cubicBezTo>
                <a:cubicBezTo>
                  <a:pt x="12" y="79"/>
                  <a:pt x="8" y="63"/>
                  <a:pt x="12" y="102"/>
                </a:cubicBezTo>
                <a:cubicBezTo>
                  <a:pt x="10" y="124"/>
                  <a:pt x="8" y="143"/>
                  <a:pt x="15" y="165"/>
                </a:cubicBezTo>
                <a:cubicBezTo>
                  <a:pt x="5" y="194"/>
                  <a:pt x="9" y="181"/>
                  <a:pt x="15" y="240"/>
                </a:cubicBezTo>
                <a:cubicBezTo>
                  <a:pt x="16" y="246"/>
                  <a:pt x="21" y="258"/>
                  <a:pt x="21" y="258"/>
                </a:cubicBezTo>
                <a:cubicBezTo>
                  <a:pt x="12" y="272"/>
                  <a:pt x="19" y="286"/>
                  <a:pt x="21" y="303"/>
                </a:cubicBezTo>
                <a:cubicBezTo>
                  <a:pt x="22" y="320"/>
                  <a:pt x="20" y="337"/>
                  <a:pt x="24" y="354"/>
                </a:cubicBezTo>
                <a:cubicBezTo>
                  <a:pt x="26" y="362"/>
                  <a:pt x="26" y="338"/>
                  <a:pt x="27" y="330"/>
                </a:cubicBezTo>
                <a:cubicBezTo>
                  <a:pt x="28" y="308"/>
                  <a:pt x="26" y="286"/>
                  <a:pt x="30" y="264"/>
                </a:cubicBezTo>
                <a:cubicBezTo>
                  <a:pt x="31" y="260"/>
                  <a:pt x="36" y="260"/>
                  <a:pt x="39" y="258"/>
                </a:cubicBezTo>
                <a:cubicBezTo>
                  <a:pt x="38" y="255"/>
                  <a:pt x="38" y="251"/>
                  <a:pt x="36" y="249"/>
                </a:cubicBezTo>
                <a:cubicBezTo>
                  <a:pt x="34" y="247"/>
                  <a:pt x="27" y="249"/>
                  <a:pt x="27" y="246"/>
                </a:cubicBezTo>
                <a:cubicBezTo>
                  <a:pt x="25" y="220"/>
                  <a:pt x="29" y="194"/>
                  <a:pt x="30" y="168"/>
                </a:cubicBezTo>
                <a:cubicBezTo>
                  <a:pt x="28" y="154"/>
                  <a:pt x="23" y="145"/>
                  <a:pt x="27" y="132"/>
                </a:cubicBezTo>
                <a:cubicBezTo>
                  <a:pt x="24" y="98"/>
                  <a:pt x="21" y="86"/>
                  <a:pt x="24" y="54"/>
                </a:cubicBezTo>
                <a:cubicBezTo>
                  <a:pt x="22" y="40"/>
                  <a:pt x="17" y="31"/>
                  <a:pt x="21" y="18"/>
                </a:cubicBezTo>
                <a:cubicBezTo>
                  <a:pt x="17" y="0"/>
                  <a:pt x="22" y="7"/>
                  <a:pt x="0" y="3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Freeform 25"/>
          <p:cNvSpPr/>
          <p:nvPr/>
        </p:nvSpPr>
        <p:spPr>
          <a:xfrm>
            <a:off x="5437080" y="1085760"/>
            <a:ext cx="142920" cy="1262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69" h="795">
                <a:moveTo>
                  <a:pt x="22" y="3"/>
                </a:moveTo>
                <a:cubicBezTo>
                  <a:pt x="26" y="16"/>
                  <a:pt x="18" y="17"/>
                  <a:pt x="22" y="30"/>
                </a:cubicBezTo>
                <a:cubicBezTo>
                  <a:pt x="25" y="70"/>
                  <a:pt x="27" y="107"/>
                  <a:pt x="31" y="147"/>
                </a:cubicBezTo>
                <a:cubicBezTo>
                  <a:pt x="26" y="162"/>
                  <a:pt x="27" y="177"/>
                  <a:pt x="22" y="192"/>
                </a:cubicBezTo>
                <a:cubicBezTo>
                  <a:pt x="25" y="212"/>
                  <a:pt x="30" y="263"/>
                  <a:pt x="10" y="270"/>
                </a:cubicBezTo>
                <a:cubicBezTo>
                  <a:pt x="14" y="304"/>
                  <a:pt x="23" y="310"/>
                  <a:pt x="40" y="336"/>
                </a:cubicBezTo>
                <a:cubicBezTo>
                  <a:pt x="28" y="340"/>
                  <a:pt x="23" y="345"/>
                  <a:pt x="19" y="357"/>
                </a:cubicBezTo>
                <a:cubicBezTo>
                  <a:pt x="24" y="380"/>
                  <a:pt x="14" y="404"/>
                  <a:pt x="28" y="426"/>
                </a:cubicBezTo>
                <a:cubicBezTo>
                  <a:pt x="32" y="465"/>
                  <a:pt x="33" y="463"/>
                  <a:pt x="10" y="486"/>
                </a:cubicBezTo>
                <a:cubicBezTo>
                  <a:pt x="14" y="504"/>
                  <a:pt x="12" y="506"/>
                  <a:pt x="4" y="522"/>
                </a:cubicBezTo>
                <a:cubicBezTo>
                  <a:pt x="7" y="537"/>
                  <a:pt x="11" y="547"/>
                  <a:pt x="16" y="561"/>
                </a:cubicBezTo>
                <a:cubicBezTo>
                  <a:pt x="14" y="588"/>
                  <a:pt x="0" y="643"/>
                  <a:pt x="25" y="660"/>
                </a:cubicBezTo>
                <a:cubicBezTo>
                  <a:pt x="34" y="688"/>
                  <a:pt x="18" y="778"/>
                  <a:pt x="43" y="795"/>
                </a:cubicBezTo>
                <a:cubicBezTo>
                  <a:pt x="39" y="782"/>
                  <a:pt x="32" y="787"/>
                  <a:pt x="28" y="774"/>
                </a:cubicBezTo>
                <a:cubicBezTo>
                  <a:pt x="30" y="762"/>
                  <a:pt x="31" y="755"/>
                  <a:pt x="34" y="744"/>
                </a:cubicBezTo>
                <a:cubicBezTo>
                  <a:pt x="36" y="738"/>
                  <a:pt x="40" y="726"/>
                  <a:pt x="40" y="726"/>
                </a:cubicBezTo>
                <a:cubicBezTo>
                  <a:pt x="39" y="712"/>
                  <a:pt x="32" y="692"/>
                  <a:pt x="37" y="678"/>
                </a:cubicBezTo>
                <a:cubicBezTo>
                  <a:pt x="36" y="672"/>
                  <a:pt x="36" y="666"/>
                  <a:pt x="34" y="660"/>
                </a:cubicBezTo>
                <a:cubicBezTo>
                  <a:pt x="31" y="653"/>
                  <a:pt x="22" y="642"/>
                  <a:pt x="22" y="642"/>
                </a:cubicBezTo>
                <a:cubicBezTo>
                  <a:pt x="28" y="585"/>
                  <a:pt x="22" y="605"/>
                  <a:pt x="31" y="579"/>
                </a:cubicBezTo>
                <a:cubicBezTo>
                  <a:pt x="32" y="549"/>
                  <a:pt x="29" y="519"/>
                  <a:pt x="34" y="489"/>
                </a:cubicBezTo>
                <a:cubicBezTo>
                  <a:pt x="35" y="485"/>
                  <a:pt x="43" y="488"/>
                  <a:pt x="46" y="486"/>
                </a:cubicBezTo>
                <a:cubicBezTo>
                  <a:pt x="49" y="484"/>
                  <a:pt x="50" y="480"/>
                  <a:pt x="52" y="477"/>
                </a:cubicBezTo>
                <a:cubicBezTo>
                  <a:pt x="48" y="452"/>
                  <a:pt x="45" y="426"/>
                  <a:pt x="37" y="402"/>
                </a:cubicBezTo>
                <a:cubicBezTo>
                  <a:pt x="40" y="358"/>
                  <a:pt x="31" y="356"/>
                  <a:pt x="64" y="345"/>
                </a:cubicBezTo>
                <a:cubicBezTo>
                  <a:pt x="58" y="309"/>
                  <a:pt x="69" y="339"/>
                  <a:pt x="46" y="324"/>
                </a:cubicBezTo>
                <a:cubicBezTo>
                  <a:pt x="42" y="321"/>
                  <a:pt x="36" y="302"/>
                  <a:pt x="34" y="297"/>
                </a:cubicBezTo>
                <a:cubicBezTo>
                  <a:pt x="44" y="268"/>
                  <a:pt x="36" y="229"/>
                  <a:pt x="52" y="204"/>
                </a:cubicBezTo>
                <a:cubicBezTo>
                  <a:pt x="50" y="175"/>
                  <a:pt x="52" y="155"/>
                  <a:pt x="37" y="132"/>
                </a:cubicBezTo>
                <a:cubicBezTo>
                  <a:pt x="38" y="103"/>
                  <a:pt x="38" y="74"/>
                  <a:pt x="40" y="45"/>
                </a:cubicBezTo>
                <a:cubicBezTo>
                  <a:pt x="41" y="29"/>
                  <a:pt x="57" y="36"/>
                  <a:pt x="40" y="9"/>
                </a:cubicBezTo>
                <a:cubicBezTo>
                  <a:pt x="37" y="4"/>
                  <a:pt x="28" y="5"/>
                  <a:pt x="22" y="3"/>
                </a:cubicBezTo>
                <a:cubicBezTo>
                  <a:pt x="18" y="2"/>
                  <a:pt x="6" y="0"/>
                  <a:pt x="10" y="0"/>
                </a:cubicBezTo>
                <a:cubicBezTo>
                  <a:pt x="18" y="0"/>
                  <a:pt x="26" y="1"/>
                  <a:pt x="34" y="3"/>
                </a:cubicBezTo>
                <a:cubicBezTo>
                  <a:pt x="38" y="4"/>
                  <a:pt x="26" y="3"/>
                  <a:pt x="22" y="3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1266480" y="313524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Язвен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4213080" y="30639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Точеч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6229440" y="1087560"/>
            <a:ext cx="2519280" cy="17604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lin ang="5400000"/>
          </a:gra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40"/>
          <p:cNvSpPr/>
          <p:nvPr/>
        </p:nvSpPr>
        <p:spPr>
          <a:xfrm>
            <a:off x="6644520" y="306864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Пятнам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9" name="Group 49"/>
          <p:cNvGrpSpPr/>
          <p:nvPr/>
        </p:nvGrpSpPr>
        <p:grpSpPr>
          <a:xfrm>
            <a:off x="6224760" y="1052640"/>
            <a:ext cx="2527200" cy="320400"/>
            <a:chOff x="6224760" y="1052640"/>
            <a:chExt cx="2527200" cy="320400"/>
          </a:xfrm>
        </p:grpSpPr>
        <p:sp>
          <p:nvSpPr>
            <p:cNvPr id="290" name="Freeform 47"/>
            <p:cNvSpPr/>
            <p:nvPr/>
          </p:nvSpPr>
          <p:spPr>
            <a:xfrm>
              <a:off x="6224760" y="1052640"/>
              <a:ext cx="2527200" cy="320400"/>
            </a:xfrm>
            <a:custGeom>
              <a:avLst/>
              <a:gdLst>
                <a:gd name="textAreaLeft" fmla="*/ 0 w 2527200"/>
                <a:gd name="textAreaRight" fmla="*/ 2527560 w 25272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592" h="202">
                  <a:moveTo>
                    <a:pt x="0" y="23"/>
                  </a:moveTo>
                  <a:cubicBezTo>
                    <a:pt x="18" y="78"/>
                    <a:pt x="2" y="142"/>
                    <a:pt x="6" y="201"/>
                  </a:cubicBezTo>
                  <a:cubicBezTo>
                    <a:pt x="23" y="200"/>
                    <a:pt x="41" y="202"/>
                    <a:pt x="58" y="199"/>
                  </a:cubicBezTo>
                  <a:cubicBezTo>
                    <a:pt x="60" y="199"/>
                    <a:pt x="59" y="195"/>
                    <a:pt x="60" y="193"/>
                  </a:cubicBezTo>
                  <a:cubicBezTo>
                    <a:pt x="64" y="184"/>
                    <a:pt x="68" y="177"/>
                    <a:pt x="76" y="171"/>
                  </a:cubicBezTo>
                  <a:cubicBezTo>
                    <a:pt x="104" y="129"/>
                    <a:pt x="219" y="149"/>
                    <a:pt x="236" y="149"/>
                  </a:cubicBezTo>
                  <a:cubicBezTo>
                    <a:pt x="257" y="144"/>
                    <a:pt x="247" y="146"/>
                    <a:pt x="268" y="143"/>
                  </a:cubicBezTo>
                  <a:cubicBezTo>
                    <a:pt x="285" y="137"/>
                    <a:pt x="276" y="140"/>
                    <a:pt x="296" y="137"/>
                  </a:cubicBezTo>
                  <a:cubicBezTo>
                    <a:pt x="305" y="134"/>
                    <a:pt x="312" y="128"/>
                    <a:pt x="320" y="123"/>
                  </a:cubicBezTo>
                  <a:cubicBezTo>
                    <a:pt x="324" y="120"/>
                    <a:pt x="332" y="115"/>
                    <a:pt x="332" y="115"/>
                  </a:cubicBezTo>
                  <a:cubicBezTo>
                    <a:pt x="337" y="107"/>
                    <a:pt x="352" y="95"/>
                    <a:pt x="360" y="89"/>
                  </a:cubicBezTo>
                  <a:cubicBezTo>
                    <a:pt x="368" y="77"/>
                    <a:pt x="374" y="64"/>
                    <a:pt x="388" y="59"/>
                  </a:cubicBezTo>
                  <a:cubicBezTo>
                    <a:pt x="414" y="39"/>
                    <a:pt x="432" y="41"/>
                    <a:pt x="466" y="39"/>
                  </a:cubicBezTo>
                  <a:cubicBezTo>
                    <a:pt x="473" y="37"/>
                    <a:pt x="477" y="31"/>
                    <a:pt x="484" y="29"/>
                  </a:cubicBezTo>
                  <a:cubicBezTo>
                    <a:pt x="488" y="28"/>
                    <a:pt x="496" y="25"/>
                    <a:pt x="496" y="25"/>
                  </a:cubicBezTo>
                  <a:cubicBezTo>
                    <a:pt x="555" y="26"/>
                    <a:pt x="623" y="0"/>
                    <a:pt x="672" y="33"/>
                  </a:cubicBezTo>
                  <a:cubicBezTo>
                    <a:pt x="679" y="44"/>
                    <a:pt x="688" y="47"/>
                    <a:pt x="700" y="51"/>
                  </a:cubicBezTo>
                  <a:cubicBezTo>
                    <a:pt x="733" y="62"/>
                    <a:pt x="765" y="76"/>
                    <a:pt x="800" y="79"/>
                  </a:cubicBezTo>
                  <a:cubicBezTo>
                    <a:pt x="853" y="78"/>
                    <a:pt x="907" y="79"/>
                    <a:pt x="960" y="77"/>
                  </a:cubicBezTo>
                  <a:cubicBezTo>
                    <a:pt x="969" y="77"/>
                    <a:pt x="984" y="67"/>
                    <a:pt x="984" y="67"/>
                  </a:cubicBezTo>
                  <a:cubicBezTo>
                    <a:pt x="991" y="57"/>
                    <a:pt x="1004" y="50"/>
                    <a:pt x="1014" y="43"/>
                  </a:cubicBezTo>
                  <a:cubicBezTo>
                    <a:pt x="1028" y="21"/>
                    <a:pt x="1059" y="24"/>
                    <a:pt x="1082" y="21"/>
                  </a:cubicBezTo>
                  <a:cubicBezTo>
                    <a:pt x="1200" y="23"/>
                    <a:pt x="1189" y="15"/>
                    <a:pt x="1254" y="31"/>
                  </a:cubicBezTo>
                  <a:cubicBezTo>
                    <a:pt x="1258" y="37"/>
                    <a:pt x="1298" y="60"/>
                    <a:pt x="1308" y="63"/>
                  </a:cubicBezTo>
                  <a:cubicBezTo>
                    <a:pt x="1310" y="64"/>
                    <a:pt x="1337" y="67"/>
                    <a:pt x="1338" y="67"/>
                  </a:cubicBezTo>
                  <a:cubicBezTo>
                    <a:pt x="1380" y="66"/>
                    <a:pt x="1422" y="67"/>
                    <a:pt x="1464" y="65"/>
                  </a:cubicBezTo>
                  <a:cubicBezTo>
                    <a:pt x="1470" y="65"/>
                    <a:pt x="1477" y="50"/>
                    <a:pt x="1478" y="49"/>
                  </a:cubicBezTo>
                  <a:cubicBezTo>
                    <a:pt x="1489" y="38"/>
                    <a:pt x="1495" y="35"/>
                    <a:pt x="1510" y="33"/>
                  </a:cubicBezTo>
                  <a:cubicBezTo>
                    <a:pt x="1533" y="18"/>
                    <a:pt x="1592" y="21"/>
                    <a:pt x="1592" y="21"/>
                  </a:cubicBez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Line 48"/>
            <p:cNvSpPr/>
            <p:nvPr/>
          </p:nvSpPr>
          <p:spPr>
            <a:xfrm>
              <a:off x="6229440" y="1087560"/>
              <a:ext cx="2519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2" name="Freeform 50"/>
          <p:cNvSpPr/>
          <p:nvPr/>
        </p:nvSpPr>
        <p:spPr>
          <a:xfrm>
            <a:off x="1660680" y="1092240"/>
            <a:ext cx="487080" cy="604800"/>
          </a:xfrm>
          <a:custGeom>
            <a:avLst/>
            <a:gdLst>
              <a:gd name="textAreaLeft" fmla="*/ 0 w 487080"/>
              <a:gd name="textAreaRight" fmla="*/ 487440 w 487080"/>
              <a:gd name="textAreaTop" fmla="*/ 0 h 604800"/>
              <a:gd name="textAreaBottom" fmla="*/ 604800 h 604800"/>
            </a:gdLst>
            <a:ahLst/>
            <a:rect l="textAreaLeft" t="textAreaTop" r="textAreaRight" b="textAreaBottom"/>
            <a:pathLst>
              <a:path w="307" h="381">
                <a:moveTo>
                  <a:pt x="21" y="0"/>
                </a:moveTo>
                <a:cubicBezTo>
                  <a:pt x="112" y="1"/>
                  <a:pt x="202" y="1"/>
                  <a:pt x="293" y="2"/>
                </a:cubicBezTo>
                <a:cubicBezTo>
                  <a:pt x="306" y="2"/>
                  <a:pt x="304" y="1"/>
                  <a:pt x="307" y="10"/>
                </a:cubicBezTo>
                <a:cubicBezTo>
                  <a:pt x="305" y="24"/>
                  <a:pt x="298" y="28"/>
                  <a:pt x="295" y="42"/>
                </a:cubicBezTo>
                <a:cubicBezTo>
                  <a:pt x="293" y="78"/>
                  <a:pt x="298" y="72"/>
                  <a:pt x="277" y="86"/>
                </a:cubicBezTo>
                <a:cubicBezTo>
                  <a:pt x="276" y="90"/>
                  <a:pt x="273" y="94"/>
                  <a:pt x="273" y="98"/>
                </a:cubicBezTo>
                <a:cubicBezTo>
                  <a:pt x="272" y="109"/>
                  <a:pt x="273" y="121"/>
                  <a:pt x="271" y="132"/>
                </a:cubicBezTo>
                <a:cubicBezTo>
                  <a:pt x="270" y="135"/>
                  <a:pt x="258" y="146"/>
                  <a:pt x="255" y="150"/>
                </a:cubicBezTo>
                <a:cubicBezTo>
                  <a:pt x="254" y="189"/>
                  <a:pt x="256" y="229"/>
                  <a:pt x="251" y="268"/>
                </a:cubicBezTo>
                <a:cubicBezTo>
                  <a:pt x="250" y="273"/>
                  <a:pt x="239" y="276"/>
                  <a:pt x="239" y="276"/>
                </a:cubicBezTo>
                <a:cubicBezTo>
                  <a:pt x="229" y="306"/>
                  <a:pt x="246" y="364"/>
                  <a:pt x="205" y="378"/>
                </a:cubicBezTo>
                <a:cubicBezTo>
                  <a:pt x="194" y="377"/>
                  <a:pt x="181" y="381"/>
                  <a:pt x="173" y="374"/>
                </a:cubicBezTo>
                <a:cubicBezTo>
                  <a:pt x="167" y="369"/>
                  <a:pt x="163" y="362"/>
                  <a:pt x="157" y="356"/>
                </a:cubicBezTo>
                <a:cubicBezTo>
                  <a:pt x="155" y="354"/>
                  <a:pt x="151" y="350"/>
                  <a:pt x="151" y="350"/>
                </a:cubicBezTo>
                <a:cubicBezTo>
                  <a:pt x="132" y="354"/>
                  <a:pt x="130" y="370"/>
                  <a:pt x="115" y="380"/>
                </a:cubicBezTo>
                <a:cubicBezTo>
                  <a:pt x="95" y="377"/>
                  <a:pt x="92" y="372"/>
                  <a:pt x="81" y="356"/>
                </a:cubicBezTo>
                <a:cubicBezTo>
                  <a:pt x="84" y="329"/>
                  <a:pt x="95" y="289"/>
                  <a:pt x="69" y="272"/>
                </a:cubicBezTo>
                <a:cubicBezTo>
                  <a:pt x="62" y="262"/>
                  <a:pt x="67" y="267"/>
                  <a:pt x="53" y="258"/>
                </a:cubicBezTo>
                <a:cubicBezTo>
                  <a:pt x="51" y="257"/>
                  <a:pt x="47" y="254"/>
                  <a:pt x="47" y="254"/>
                </a:cubicBezTo>
                <a:cubicBezTo>
                  <a:pt x="42" y="240"/>
                  <a:pt x="47" y="225"/>
                  <a:pt x="51" y="212"/>
                </a:cubicBezTo>
                <a:cubicBezTo>
                  <a:pt x="50" y="194"/>
                  <a:pt x="55" y="180"/>
                  <a:pt x="41" y="170"/>
                </a:cubicBezTo>
                <a:cubicBezTo>
                  <a:pt x="33" y="159"/>
                  <a:pt x="23" y="147"/>
                  <a:pt x="19" y="134"/>
                </a:cubicBezTo>
                <a:cubicBezTo>
                  <a:pt x="26" y="106"/>
                  <a:pt x="23" y="80"/>
                  <a:pt x="7" y="56"/>
                </a:cubicBezTo>
                <a:cubicBezTo>
                  <a:pt x="3" y="40"/>
                  <a:pt x="0" y="44"/>
                  <a:pt x="3" y="24"/>
                </a:cubicBezTo>
                <a:cubicBezTo>
                  <a:pt x="4" y="17"/>
                  <a:pt x="17" y="10"/>
                  <a:pt x="17" y="10"/>
                </a:cubicBezTo>
                <a:cubicBezTo>
                  <a:pt x="22" y="3"/>
                  <a:pt x="31" y="3"/>
                  <a:pt x="21" y="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Freeform 52"/>
          <p:cNvSpPr/>
          <p:nvPr/>
        </p:nvSpPr>
        <p:spPr>
          <a:xfrm>
            <a:off x="2287440" y="1085760"/>
            <a:ext cx="625680" cy="812880"/>
          </a:xfrm>
          <a:custGeom>
            <a:avLst/>
            <a:gdLst>
              <a:gd name="textAreaLeft" fmla="*/ 0 w 625680"/>
              <a:gd name="textAreaRight" fmla="*/ 625680 w 62568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394" h="512">
                <a:moveTo>
                  <a:pt x="40" y="2"/>
                </a:moveTo>
                <a:cubicBezTo>
                  <a:pt x="143" y="3"/>
                  <a:pt x="245" y="0"/>
                  <a:pt x="348" y="4"/>
                </a:cubicBezTo>
                <a:cubicBezTo>
                  <a:pt x="356" y="4"/>
                  <a:pt x="342" y="26"/>
                  <a:pt x="342" y="26"/>
                </a:cubicBezTo>
                <a:cubicBezTo>
                  <a:pt x="343" y="41"/>
                  <a:pt x="350" y="95"/>
                  <a:pt x="360" y="110"/>
                </a:cubicBezTo>
                <a:cubicBezTo>
                  <a:pt x="365" y="118"/>
                  <a:pt x="386" y="122"/>
                  <a:pt x="386" y="122"/>
                </a:cubicBezTo>
                <a:cubicBezTo>
                  <a:pt x="394" y="147"/>
                  <a:pt x="384" y="158"/>
                  <a:pt x="372" y="176"/>
                </a:cubicBezTo>
                <a:cubicBezTo>
                  <a:pt x="370" y="183"/>
                  <a:pt x="362" y="196"/>
                  <a:pt x="362" y="196"/>
                </a:cubicBezTo>
                <a:cubicBezTo>
                  <a:pt x="363" y="210"/>
                  <a:pt x="363" y="224"/>
                  <a:pt x="364" y="238"/>
                </a:cubicBezTo>
                <a:cubicBezTo>
                  <a:pt x="365" y="247"/>
                  <a:pt x="371" y="243"/>
                  <a:pt x="364" y="256"/>
                </a:cubicBezTo>
                <a:cubicBezTo>
                  <a:pt x="360" y="263"/>
                  <a:pt x="331" y="263"/>
                  <a:pt x="324" y="264"/>
                </a:cubicBezTo>
                <a:cubicBezTo>
                  <a:pt x="314" y="271"/>
                  <a:pt x="314" y="277"/>
                  <a:pt x="310" y="288"/>
                </a:cubicBezTo>
                <a:cubicBezTo>
                  <a:pt x="314" y="299"/>
                  <a:pt x="312" y="289"/>
                  <a:pt x="306" y="300"/>
                </a:cubicBezTo>
                <a:cubicBezTo>
                  <a:pt x="304" y="304"/>
                  <a:pt x="302" y="312"/>
                  <a:pt x="302" y="312"/>
                </a:cubicBezTo>
                <a:cubicBezTo>
                  <a:pt x="301" y="322"/>
                  <a:pt x="302" y="332"/>
                  <a:pt x="300" y="342"/>
                </a:cubicBezTo>
                <a:cubicBezTo>
                  <a:pt x="299" y="348"/>
                  <a:pt x="292" y="360"/>
                  <a:pt x="292" y="360"/>
                </a:cubicBezTo>
                <a:cubicBezTo>
                  <a:pt x="294" y="387"/>
                  <a:pt x="305" y="412"/>
                  <a:pt x="280" y="428"/>
                </a:cubicBezTo>
                <a:cubicBezTo>
                  <a:pt x="272" y="453"/>
                  <a:pt x="279" y="461"/>
                  <a:pt x="254" y="474"/>
                </a:cubicBezTo>
                <a:cubicBezTo>
                  <a:pt x="232" y="470"/>
                  <a:pt x="233" y="471"/>
                  <a:pt x="218" y="464"/>
                </a:cubicBezTo>
                <a:cubicBezTo>
                  <a:pt x="212" y="461"/>
                  <a:pt x="200" y="458"/>
                  <a:pt x="200" y="458"/>
                </a:cubicBezTo>
                <a:cubicBezTo>
                  <a:pt x="183" y="461"/>
                  <a:pt x="182" y="473"/>
                  <a:pt x="174" y="486"/>
                </a:cubicBezTo>
                <a:cubicBezTo>
                  <a:pt x="171" y="512"/>
                  <a:pt x="171" y="506"/>
                  <a:pt x="144" y="504"/>
                </a:cubicBezTo>
                <a:cubicBezTo>
                  <a:pt x="141" y="492"/>
                  <a:pt x="131" y="477"/>
                  <a:pt x="124" y="466"/>
                </a:cubicBezTo>
                <a:cubicBezTo>
                  <a:pt x="121" y="432"/>
                  <a:pt x="124" y="440"/>
                  <a:pt x="102" y="426"/>
                </a:cubicBezTo>
                <a:cubicBezTo>
                  <a:pt x="93" y="379"/>
                  <a:pt x="107" y="364"/>
                  <a:pt x="60" y="348"/>
                </a:cubicBezTo>
                <a:cubicBezTo>
                  <a:pt x="61" y="330"/>
                  <a:pt x="60" y="325"/>
                  <a:pt x="68" y="312"/>
                </a:cubicBezTo>
                <a:cubicBezTo>
                  <a:pt x="65" y="301"/>
                  <a:pt x="52" y="290"/>
                  <a:pt x="44" y="282"/>
                </a:cubicBezTo>
                <a:cubicBezTo>
                  <a:pt x="39" y="266"/>
                  <a:pt x="38" y="270"/>
                  <a:pt x="42" y="250"/>
                </a:cubicBezTo>
                <a:cubicBezTo>
                  <a:pt x="43" y="246"/>
                  <a:pt x="46" y="238"/>
                  <a:pt x="46" y="238"/>
                </a:cubicBezTo>
                <a:cubicBezTo>
                  <a:pt x="44" y="217"/>
                  <a:pt x="46" y="217"/>
                  <a:pt x="30" y="208"/>
                </a:cubicBezTo>
                <a:cubicBezTo>
                  <a:pt x="24" y="204"/>
                  <a:pt x="18" y="200"/>
                  <a:pt x="12" y="196"/>
                </a:cubicBezTo>
                <a:cubicBezTo>
                  <a:pt x="10" y="195"/>
                  <a:pt x="6" y="192"/>
                  <a:pt x="6" y="192"/>
                </a:cubicBezTo>
                <a:cubicBezTo>
                  <a:pt x="0" y="175"/>
                  <a:pt x="2" y="177"/>
                  <a:pt x="16" y="168"/>
                </a:cubicBezTo>
                <a:cubicBezTo>
                  <a:pt x="34" y="141"/>
                  <a:pt x="52" y="140"/>
                  <a:pt x="84" y="138"/>
                </a:cubicBezTo>
                <a:cubicBezTo>
                  <a:pt x="89" y="124"/>
                  <a:pt x="86" y="130"/>
                  <a:pt x="92" y="120"/>
                </a:cubicBezTo>
                <a:cubicBezTo>
                  <a:pt x="88" y="90"/>
                  <a:pt x="69" y="94"/>
                  <a:pt x="42" y="92"/>
                </a:cubicBezTo>
                <a:cubicBezTo>
                  <a:pt x="36" y="88"/>
                  <a:pt x="33" y="83"/>
                  <a:pt x="30" y="76"/>
                </a:cubicBezTo>
                <a:cubicBezTo>
                  <a:pt x="28" y="72"/>
                  <a:pt x="26" y="64"/>
                  <a:pt x="26" y="64"/>
                </a:cubicBezTo>
                <a:cubicBezTo>
                  <a:pt x="28" y="50"/>
                  <a:pt x="36" y="41"/>
                  <a:pt x="40" y="28"/>
                </a:cubicBezTo>
                <a:cubicBezTo>
                  <a:pt x="41" y="21"/>
                  <a:pt x="42" y="15"/>
                  <a:pt x="42" y="8"/>
                </a:cubicBezTo>
                <a:cubicBezTo>
                  <a:pt x="42" y="6"/>
                  <a:pt x="40" y="2"/>
                  <a:pt x="40" y="2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Freeform 55"/>
          <p:cNvSpPr/>
          <p:nvPr/>
        </p:nvSpPr>
        <p:spPr>
          <a:xfrm>
            <a:off x="804960" y="1089000"/>
            <a:ext cx="476280" cy="501840"/>
          </a:xfrm>
          <a:custGeom>
            <a:avLst/>
            <a:gdLst>
              <a:gd name="textAreaLeft" fmla="*/ 0 w 476280"/>
              <a:gd name="textAreaRight" fmla="*/ 476640 w 476280"/>
              <a:gd name="textAreaTop" fmla="*/ 0 h 501840"/>
              <a:gd name="textAreaBottom" fmla="*/ 502200 h 501840"/>
            </a:gdLst>
            <a:ahLst/>
            <a:rect l="textAreaLeft" t="textAreaTop" r="textAreaRight" b="textAreaBottom"/>
            <a:pathLst>
              <a:path w="300" h="316">
                <a:moveTo>
                  <a:pt x="74" y="2"/>
                </a:moveTo>
                <a:cubicBezTo>
                  <a:pt x="135" y="5"/>
                  <a:pt x="196" y="0"/>
                  <a:pt x="256" y="6"/>
                </a:cubicBezTo>
                <a:cubicBezTo>
                  <a:pt x="260" y="6"/>
                  <a:pt x="260" y="18"/>
                  <a:pt x="260" y="18"/>
                </a:cubicBezTo>
                <a:cubicBezTo>
                  <a:pt x="261" y="37"/>
                  <a:pt x="257" y="75"/>
                  <a:pt x="266" y="94"/>
                </a:cubicBezTo>
                <a:cubicBezTo>
                  <a:pt x="272" y="106"/>
                  <a:pt x="275" y="107"/>
                  <a:pt x="278" y="120"/>
                </a:cubicBezTo>
                <a:cubicBezTo>
                  <a:pt x="279" y="149"/>
                  <a:pt x="274" y="186"/>
                  <a:pt x="292" y="212"/>
                </a:cubicBezTo>
                <a:cubicBezTo>
                  <a:pt x="297" y="231"/>
                  <a:pt x="300" y="235"/>
                  <a:pt x="294" y="260"/>
                </a:cubicBezTo>
                <a:cubicBezTo>
                  <a:pt x="294" y="262"/>
                  <a:pt x="290" y="261"/>
                  <a:pt x="288" y="262"/>
                </a:cubicBezTo>
                <a:cubicBezTo>
                  <a:pt x="284" y="264"/>
                  <a:pt x="280" y="267"/>
                  <a:pt x="276" y="270"/>
                </a:cubicBezTo>
                <a:cubicBezTo>
                  <a:pt x="259" y="283"/>
                  <a:pt x="248" y="291"/>
                  <a:pt x="228" y="298"/>
                </a:cubicBezTo>
                <a:cubicBezTo>
                  <a:pt x="224" y="304"/>
                  <a:pt x="222" y="310"/>
                  <a:pt x="218" y="316"/>
                </a:cubicBezTo>
                <a:cubicBezTo>
                  <a:pt x="194" y="308"/>
                  <a:pt x="174" y="288"/>
                  <a:pt x="154" y="274"/>
                </a:cubicBezTo>
                <a:cubicBezTo>
                  <a:pt x="138" y="264"/>
                  <a:pt x="117" y="269"/>
                  <a:pt x="98" y="268"/>
                </a:cubicBezTo>
                <a:cubicBezTo>
                  <a:pt x="90" y="265"/>
                  <a:pt x="84" y="261"/>
                  <a:pt x="76" y="258"/>
                </a:cubicBezTo>
                <a:cubicBezTo>
                  <a:pt x="72" y="257"/>
                  <a:pt x="64" y="254"/>
                  <a:pt x="64" y="254"/>
                </a:cubicBezTo>
                <a:cubicBezTo>
                  <a:pt x="57" y="244"/>
                  <a:pt x="43" y="225"/>
                  <a:pt x="32" y="218"/>
                </a:cubicBezTo>
                <a:cubicBezTo>
                  <a:pt x="38" y="180"/>
                  <a:pt x="29" y="163"/>
                  <a:pt x="10" y="134"/>
                </a:cubicBezTo>
                <a:cubicBezTo>
                  <a:pt x="5" y="127"/>
                  <a:pt x="5" y="117"/>
                  <a:pt x="0" y="110"/>
                </a:cubicBezTo>
                <a:cubicBezTo>
                  <a:pt x="3" y="95"/>
                  <a:pt x="11" y="97"/>
                  <a:pt x="22" y="90"/>
                </a:cubicBezTo>
                <a:cubicBezTo>
                  <a:pt x="25" y="82"/>
                  <a:pt x="33" y="75"/>
                  <a:pt x="42" y="72"/>
                </a:cubicBezTo>
                <a:cubicBezTo>
                  <a:pt x="46" y="61"/>
                  <a:pt x="48" y="51"/>
                  <a:pt x="54" y="42"/>
                </a:cubicBezTo>
                <a:cubicBezTo>
                  <a:pt x="55" y="31"/>
                  <a:pt x="50" y="13"/>
                  <a:pt x="60" y="8"/>
                </a:cubicBezTo>
                <a:cubicBezTo>
                  <a:pt x="76" y="0"/>
                  <a:pt x="69" y="12"/>
                  <a:pt x="74" y="2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70" descr="язвенная 2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1476360" y="5229360"/>
            <a:ext cx="1800360" cy="1350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4" descr="CAGH0R07"/>
          <p:cNvPicPr/>
          <p:nvPr/>
        </p:nvPicPr>
        <p:blipFill>
          <a:blip r:embed="rId10">
            <a:lum bright="4000"/>
          </a:blip>
          <a:stretch/>
        </p:blipFill>
        <p:spPr>
          <a:xfrm>
            <a:off x="4356000" y="5084640"/>
            <a:ext cx="1654200" cy="1241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6" descr="CAMTUTOH"/>
          <p:cNvPicPr/>
          <p:nvPr/>
        </p:nvPicPr>
        <p:blipFill>
          <a:blip r:embed="rId11">
            <a:lum bright="-12000"/>
          </a:blip>
          <a:stretch/>
        </p:blipFill>
        <p:spPr>
          <a:xfrm>
            <a:off x="6084720" y="3789360"/>
            <a:ext cx="2448000" cy="1627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8" descr="CAH5UW35"/>
          <p:cNvPicPr/>
          <p:nvPr/>
        </p:nvPicPr>
        <p:blipFill>
          <a:blip r:embed="rId12">
            <a:lum bright="16000"/>
          </a:blip>
          <a:stretch/>
        </p:blipFill>
        <p:spPr>
          <a:xfrm>
            <a:off x="3708360" y="3933720"/>
            <a:ext cx="1770120" cy="1327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9" descr="язвенная"/>
          <p:cNvPicPr/>
          <p:nvPr/>
        </p:nvPicPr>
        <p:blipFill>
          <a:blip r:embed="rId13">
            <a:lum bright="2000"/>
          </a:blip>
          <a:stretch/>
        </p:blipFill>
        <p:spPr>
          <a:xfrm>
            <a:off x="611280" y="378936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0" descr="CAMVCDIX"/>
          <p:cNvPicPr/>
          <p:nvPr/>
        </p:nvPicPr>
        <p:blipFill>
          <a:blip r:embed="rId14"/>
          <a:stretch/>
        </p:blipFill>
        <p:spPr>
          <a:xfrm>
            <a:off x="7524720" y="4797360"/>
            <a:ext cx="1222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4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4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4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4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4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4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4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463" nodeType="after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4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ahoma"/>
              </a:rPr>
              <a:t>Химическая корроз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49720" y="907920"/>
            <a:ext cx="793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Химическая коррозия</a:t>
            </a:r>
            <a:r>
              <a:rPr b="0" lang="ru-RU" sz="1800" spc="-1" strike="noStrike">
                <a:solidFill>
                  <a:srgbClr val="993300"/>
                </a:solidFill>
                <a:latin typeface="Tahoma"/>
              </a:rPr>
              <a:t> – самопроизвольное разрушение металл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ahoma"/>
              </a:rPr>
              <a:t>в среде окислительного газа (кислорода, галогенов и т.д.)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ahoma"/>
              </a:rPr>
              <a:t>повышенных температурах или в жидких неэлектролит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468360" y="2826360"/>
            <a:ext cx="34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2Fe + 3Cl</a:t>
            </a:r>
            <a:r>
              <a:rPr b="1" lang="ru-RU" sz="2400" spc="-1" strike="noStrike" baseline="-25000">
                <a:solidFill>
                  <a:srgbClr val="9933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= 2FeCl</a:t>
            </a:r>
            <a:r>
              <a:rPr b="1" lang="ru-RU" sz="2400" spc="-1" strike="noStrike" baseline="-25000">
                <a:solidFill>
                  <a:srgbClr val="9933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68360" y="3474000"/>
            <a:ext cx="34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4Fe + 3О</a:t>
            </a:r>
            <a:r>
              <a:rPr b="1" lang="ru-RU" sz="2400" spc="-1" strike="noStrike" baseline="-25000">
                <a:solidFill>
                  <a:srgbClr val="9933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= 2Fe</a:t>
            </a:r>
            <a:r>
              <a:rPr b="1" lang="ru-RU" sz="2400" spc="-1" strike="noStrike" baseline="-25000">
                <a:solidFill>
                  <a:srgbClr val="9933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О</a:t>
            </a:r>
            <a:r>
              <a:rPr b="1" lang="ru-RU" sz="2400" spc="-1" strike="noStrike" baseline="-25000">
                <a:solidFill>
                  <a:srgbClr val="9933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Picture 8" descr="metal2"/>
          <p:cNvPicPr/>
          <p:nvPr/>
        </p:nvPicPr>
        <p:blipFill>
          <a:blip r:embed="rId1"/>
          <a:stretch/>
        </p:blipFill>
        <p:spPr>
          <a:xfrm>
            <a:off x="395280" y="4076640"/>
            <a:ext cx="3673440" cy="17384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9"/>
          <p:cNvSpPr/>
          <p:nvPr/>
        </p:nvSpPr>
        <p:spPr>
          <a:xfrm>
            <a:off x="1187280" y="2060640"/>
            <a:ext cx="158436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азовая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5549400" y="2060640"/>
            <a:ext cx="2859840" cy="825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жид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электролитах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365080" y="2924280"/>
            <a:ext cx="36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В неф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В сер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В органических вещества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5724360" y="3959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Cu + S = 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5878800" y="4410720"/>
            <a:ext cx="24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2 Ag + S = Ag</a:t>
            </a:r>
            <a:r>
              <a:rPr b="1" lang="ru-RU" sz="2400" spc="-1" strike="noStrike" baseline="-25000">
                <a:solidFill>
                  <a:srgbClr val="9933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4690440" y="4987080"/>
            <a:ext cx="412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2Al + 6ССl</a:t>
            </a:r>
            <a:r>
              <a:rPr b="1" lang="ru-RU" sz="2400" spc="-1" strike="noStrike" baseline="-25000">
                <a:solidFill>
                  <a:srgbClr val="99330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= 3C</a:t>
            </a:r>
            <a:r>
              <a:rPr b="1" lang="ru-RU" sz="2400" spc="-1" strike="noStrike" baseline="-25000">
                <a:solidFill>
                  <a:srgbClr val="99330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Cl</a:t>
            </a:r>
            <a:r>
              <a:rPr b="1" lang="ru-RU" sz="2400" spc="-1" strike="noStrike" baseline="-25000">
                <a:solidFill>
                  <a:srgbClr val="99330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+ 3AlCl</a:t>
            </a:r>
            <a:r>
              <a:rPr b="1" lang="ru-RU" sz="2400" spc="-1" strike="noStrike" baseline="-25000">
                <a:solidFill>
                  <a:srgbClr val="9933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11.1842098236084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2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2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2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6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6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6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6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ahoma"/>
              </a:rPr>
              <a:t>Электрохимическая корроз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324000" y="1242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Электрохимическая коррозия </a:t>
            </a: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– самопроизв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процесс разрушения металлов в среде электролитов или при контакте с менее активным металл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51120" y="4971960"/>
            <a:ext cx="470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Fe + 3O</a:t>
            </a:r>
            <a:r>
              <a:rPr b="1" lang="ru-RU" sz="2800" spc="-1" strike="noStrike" baseline="-25000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+ 6H</a:t>
            </a:r>
            <a:r>
              <a:rPr b="1" lang="ru-RU" sz="2800" spc="-1" strike="noStrike" baseline="-25000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O = 4Fe(OH)</a:t>
            </a:r>
            <a:r>
              <a:rPr b="1" lang="ru-RU" sz="2800" spc="-1" strike="noStrike" baseline="-25000">
                <a:solidFill>
                  <a:srgbClr val="99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952560" y="2499480"/>
            <a:ext cx="25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Me – ne = Me </a:t>
            </a:r>
            <a:r>
              <a:rPr b="1" lang="ru-RU" sz="2800" spc="-1" strike="noStrike" baseline="30000">
                <a:solidFill>
                  <a:srgbClr val="993300"/>
                </a:solidFill>
                <a:latin typeface="Times New Roman"/>
              </a:rPr>
              <a:t>+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6" name="Group 24"/>
          <p:cNvGrpSpPr/>
          <p:nvPr/>
        </p:nvGrpSpPr>
        <p:grpSpPr>
          <a:xfrm>
            <a:off x="7164360" y="4221000"/>
            <a:ext cx="1005840" cy="1510920"/>
            <a:chOff x="7164360" y="4221000"/>
            <a:chExt cx="1005840" cy="1510920"/>
          </a:xfrm>
        </p:grpSpPr>
        <p:grpSp>
          <p:nvGrpSpPr>
            <p:cNvPr id="317" name="Group 21"/>
            <p:cNvGrpSpPr/>
            <p:nvPr/>
          </p:nvGrpSpPr>
          <p:grpSpPr>
            <a:xfrm>
              <a:off x="7164360" y="4221000"/>
              <a:ext cx="1005840" cy="1510920"/>
              <a:chOff x="7164360" y="4221000"/>
              <a:chExt cx="1005840" cy="1510920"/>
            </a:xfrm>
          </p:grpSpPr>
          <p:sp>
            <p:nvSpPr>
              <p:cNvPr id="318" name="AutoShape 15"/>
              <p:cNvSpPr/>
              <p:nvPr/>
            </p:nvSpPr>
            <p:spPr>
              <a:xfrm rot="10800000">
                <a:off x="7164360" y="4221000"/>
                <a:ext cx="1005840" cy="1447920"/>
              </a:xfrm>
              <a:custGeom>
                <a:avLst/>
                <a:gdLst>
                  <a:gd name="textAreaLeft" fmla="*/ 234360 w 1005840"/>
                  <a:gd name="textAreaRight" fmla="*/ 771480 w 1005840"/>
                  <a:gd name="textAreaTop" fmla="*/ 152640 h 1447920"/>
                  <a:gd name="textAreaBottom" fmla="*/ 916200 h 14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99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Oval 16"/>
              <p:cNvSpPr/>
              <p:nvPr/>
            </p:nvSpPr>
            <p:spPr>
              <a:xfrm>
                <a:off x="7261200" y="5291640"/>
                <a:ext cx="805680" cy="44028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0" name="AutoShape 22"/>
            <p:cNvSpPr/>
            <p:nvPr/>
          </p:nvSpPr>
          <p:spPr>
            <a:xfrm>
              <a:off x="7806600" y="5096520"/>
              <a:ext cx="91080" cy="400320"/>
            </a:xfrm>
            <a:prstGeom prst="flowChartConnector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1" name="Group 26"/>
          <p:cNvGrpSpPr/>
          <p:nvPr/>
        </p:nvGrpSpPr>
        <p:grpSpPr>
          <a:xfrm>
            <a:off x="6732720" y="5157720"/>
            <a:ext cx="1657080" cy="934920"/>
            <a:chOff x="6732720" y="5157720"/>
            <a:chExt cx="1657080" cy="934920"/>
          </a:xfrm>
        </p:grpSpPr>
        <p:sp>
          <p:nvSpPr>
            <p:cNvPr id="322" name="Oval 20"/>
            <p:cNvSpPr/>
            <p:nvPr/>
          </p:nvSpPr>
          <p:spPr>
            <a:xfrm>
              <a:off x="6732720" y="5157720"/>
              <a:ext cx="1657080" cy="934920"/>
            </a:xfrm>
            <a:prstGeom prst="ellipse">
              <a:avLst/>
            </a:prstGeom>
            <a:solidFill>
              <a:srgbClr val="0099ff">
                <a:alpha val="74000"/>
              </a:srgbClr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Oval 23"/>
            <p:cNvSpPr/>
            <p:nvPr/>
          </p:nvSpPr>
          <p:spPr>
            <a:xfrm>
              <a:off x="7812000" y="5470560"/>
              <a:ext cx="142920" cy="7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4" name="Rectangle 8"/>
          <p:cNvSpPr/>
          <p:nvPr/>
        </p:nvSpPr>
        <p:spPr>
          <a:xfrm>
            <a:off x="4356000" y="5734080"/>
            <a:ext cx="4394160" cy="863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5364000" y="587700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Fe - 3е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6384960" y="414972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О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5880240" y="443700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О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Rectangle 40"/>
          <p:cNvSpPr/>
          <p:nvPr/>
        </p:nvSpPr>
        <p:spPr>
          <a:xfrm>
            <a:off x="550440" y="3041640"/>
            <a:ext cx="653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2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u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+ O</a:t>
            </a:r>
            <a:r>
              <a:rPr b="1" lang="ru-RU" sz="2800" spc="-1" strike="noStrike" baseline="-25000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+ 2H</a:t>
            </a:r>
            <a:r>
              <a:rPr b="1" lang="ru-RU" sz="2800" spc="-1" strike="noStrike" baseline="-25000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+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uCO</a:t>
            </a:r>
            <a:r>
              <a:rPr b="1" lang="en-US" sz="2800" spc="-1" strike="noStrike" baseline="-25000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Arial"/>
              </a:rPr>
              <a:t>∙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u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(OH)</a:t>
            </a:r>
            <a:r>
              <a:rPr b="1" lang="ru-RU" sz="2800" spc="-1" strike="noStrike" baseline="-25000">
                <a:solidFill>
                  <a:srgbClr val="99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Picture 41" descr="медь"/>
          <p:cNvPicPr/>
          <p:nvPr/>
        </p:nvPicPr>
        <p:blipFill>
          <a:blip r:embed="rId1"/>
          <a:stretch/>
        </p:blipFill>
        <p:spPr>
          <a:xfrm>
            <a:off x="2143080" y="3786120"/>
            <a:ext cx="1003320" cy="98604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42"/>
          <p:cNvSpPr/>
          <p:nvPr/>
        </p:nvSpPr>
        <p:spPr>
          <a:xfrm flipV="1" rot="19930200">
            <a:off x="7206840" y="5664240"/>
            <a:ext cx="801720" cy="538200"/>
          </a:xfrm>
          <a:custGeom>
            <a:avLst/>
            <a:gdLst>
              <a:gd name="textAreaLeft" fmla="*/ 117360 w 801720"/>
              <a:gd name="textAreaRight" fmla="*/ 684360 w 801720"/>
              <a:gd name="textAreaTop" fmla="*/ 78840 h 538200"/>
              <a:gd name="textAreaBottom" fmla="*/ 459360 h 538200"/>
            </a:gdLst>
            <a:ahLst/>
            <a:rect l="textAreaLeft" t="textAreaTop" r="textAreaRight" b="textAreaBottom"/>
            <a:pathLst>
              <a:path w="21600" h="21600">
                <a:moveTo>
                  <a:pt x="19198" y="17589"/>
                </a:moveTo>
                <a:cubicBezTo>
                  <a:pt x="20752" y="15668"/>
                  <a:pt x="21600" y="13271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6708" y="-1"/>
                  <a:pt x="2968" y="2311"/>
                  <a:pt x="1139" y="5971"/>
                </a:cubicBezTo>
                <a:cubicBezTo>
                  <a:pt x="2968" y="2311"/>
                  <a:pt x="670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3271"/>
                  <a:pt x="20752" y="15668"/>
                  <a:pt x="19198" y="17589"/>
                </a:cubicBezTo>
                <a:lnTo>
                  <a:pt x="21298" y="19287"/>
                </a:lnTo>
                <a:lnTo>
                  <a:pt x="17501" y="19689"/>
                </a:lnTo>
                <a:lnTo>
                  <a:pt x="17098" y="15892"/>
                </a:lnTo>
                <a:lnTo>
                  <a:pt x="19198" y="1758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Freeform 31"/>
          <p:cNvSpPr/>
          <p:nvPr/>
        </p:nvSpPr>
        <p:spPr>
          <a:xfrm>
            <a:off x="5148360" y="5589720"/>
            <a:ext cx="1650960" cy="36036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841" h="418">
                <a:moveTo>
                  <a:pt x="841" y="153"/>
                </a:moveTo>
                <a:cubicBezTo>
                  <a:pt x="825" y="142"/>
                  <a:pt x="809" y="132"/>
                  <a:pt x="793" y="121"/>
                </a:cubicBezTo>
                <a:cubicBezTo>
                  <a:pt x="785" y="116"/>
                  <a:pt x="769" y="105"/>
                  <a:pt x="769" y="105"/>
                </a:cubicBezTo>
                <a:cubicBezTo>
                  <a:pt x="621" y="121"/>
                  <a:pt x="345" y="0"/>
                  <a:pt x="297" y="145"/>
                </a:cubicBezTo>
                <a:cubicBezTo>
                  <a:pt x="281" y="140"/>
                  <a:pt x="265" y="134"/>
                  <a:pt x="249" y="129"/>
                </a:cubicBezTo>
                <a:cubicBezTo>
                  <a:pt x="241" y="126"/>
                  <a:pt x="225" y="121"/>
                  <a:pt x="225" y="121"/>
                </a:cubicBezTo>
                <a:cubicBezTo>
                  <a:pt x="177" y="127"/>
                  <a:pt x="136" y="137"/>
                  <a:pt x="89" y="145"/>
                </a:cubicBezTo>
                <a:cubicBezTo>
                  <a:pt x="0" y="412"/>
                  <a:pt x="841" y="418"/>
                  <a:pt x="841" y="153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9360">
            <a:solidFill>
              <a:srgbClr val="9933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5448600" y="436572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О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900"/>
                                  </p:stCondLst>
                                  <p:iterate type="lt">
                                    <p:tmAbs val="29.0322570800781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1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1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813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613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6413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9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9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77" nodeType="after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3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581" nodeType="after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585" nodeType="after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3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05504 0.14699 E">
                                      <p:cBhvr>
                                        <p:cTn id="590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02205 0.16921 E">
                                      <p:cBhvr>
                                        <p:cTn id="593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259E-006 L 0.08021 0.1662 E">
                                      <p:cBhvr>
                                        <p:cTn id="608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1" dur="24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7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smotriinfo.net/wp-content/uploads/2010/12/2010-12-23_134836.jpg"/>
          <p:cNvPicPr/>
          <p:nvPr/>
        </p:nvPicPr>
        <p:blipFill>
          <a:blip r:embed="rId1"/>
          <a:stretch/>
        </p:blipFill>
        <p:spPr>
          <a:xfrm>
            <a:off x="179280" y="1268280"/>
            <a:ext cx="8825040" cy="5300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85ff"/>
                </a:solidFill>
                <a:latin typeface="Constantia"/>
              </a:rPr>
              <a:t>Яхта «Зов мор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CABRSQ41"/>
          <p:cNvPicPr/>
          <p:nvPr/>
        </p:nvPicPr>
        <p:blipFill>
          <a:blip r:embed="rId1"/>
          <a:stretch/>
        </p:blipFill>
        <p:spPr>
          <a:xfrm>
            <a:off x="1835280" y="2746440"/>
            <a:ext cx="1944720" cy="147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4" name="Picture 6" descr="CAGLUFWH"/>
          <p:cNvPicPr/>
          <p:nvPr/>
        </p:nvPicPr>
        <p:blipFill>
          <a:blip r:embed="rId2"/>
          <a:stretch/>
        </p:blipFill>
        <p:spPr>
          <a:xfrm>
            <a:off x="6877080" y="1700280"/>
            <a:ext cx="182880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5" name="Picture 9" descr="1"/>
          <p:cNvPicPr/>
          <p:nvPr/>
        </p:nvPicPr>
        <p:blipFill>
          <a:blip r:embed="rId3"/>
          <a:stretch/>
        </p:blipFill>
        <p:spPr>
          <a:xfrm>
            <a:off x="468360" y="4437000"/>
            <a:ext cx="1716120" cy="1454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CAGHA3O3"/>
          <p:cNvPicPr/>
          <p:nvPr/>
        </p:nvPicPr>
        <p:blipFill>
          <a:blip r:embed="rId4"/>
          <a:stretch/>
        </p:blipFill>
        <p:spPr>
          <a:xfrm>
            <a:off x="6659640" y="4292640"/>
            <a:ext cx="1942920" cy="147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7" name="Picture 4" descr="CA2787NS"/>
          <p:cNvPicPr/>
          <p:nvPr/>
        </p:nvPicPr>
        <p:blipFill>
          <a:blip r:embed="rId5"/>
          <a:stretch/>
        </p:blipFill>
        <p:spPr>
          <a:xfrm>
            <a:off x="611280" y="1916280"/>
            <a:ext cx="1585800" cy="15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8" name="Text Box 11"/>
          <p:cNvSpPr/>
          <p:nvPr/>
        </p:nvSpPr>
        <p:spPr>
          <a:xfrm>
            <a:off x="1332000" y="189000"/>
            <a:ext cx="661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ahoma"/>
              </a:rPr>
              <a:t>Ущерб, наносимый корроз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93520" y="76500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ировая потеря 20 млн. тонн металла в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Picture 13" descr="медь 4"/>
          <p:cNvPicPr/>
          <p:nvPr/>
        </p:nvPicPr>
        <p:blipFill>
          <a:blip r:embed="rId6"/>
          <a:stretch/>
        </p:blipFill>
        <p:spPr>
          <a:xfrm>
            <a:off x="2195640" y="4925880"/>
            <a:ext cx="1944720" cy="153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1" name="Picture 18" descr="444"/>
          <p:cNvPicPr/>
          <p:nvPr/>
        </p:nvPicPr>
        <p:blipFill>
          <a:blip r:embed="rId7"/>
          <a:stretch/>
        </p:blipFill>
        <p:spPr>
          <a:xfrm>
            <a:off x="5508720" y="5108400"/>
            <a:ext cx="1871640" cy="127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Picture 19" descr="44"/>
          <p:cNvPicPr/>
          <p:nvPr/>
        </p:nvPicPr>
        <p:blipFill>
          <a:blip r:embed="rId8"/>
          <a:stretch/>
        </p:blipFill>
        <p:spPr>
          <a:xfrm>
            <a:off x="5219640" y="2421000"/>
            <a:ext cx="1809720" cy="151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3" name="Text Box 20"/>
          <p:cNvSpPr/>
          <p:nvPr/>
        </p:nvSpPr>
        <p:spPr>
          <a:xfrm>
            <a:off x="1942560" y="124308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Еще более значимы косвенные поте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6" name="Picture 6" descr="http://podrobnosti.ua/upload/news/2007/11/13/473166_3.jpg"/>
          <p:cNvPicPr/>
          <p:nvPr/>
        </p:nvPicPr>
        <p:blipFill>
          <a:blip r:embed="rId1"/>
          <a:stretch/>
        </p:blipFill>
        <p:spPr>
          <a:xfrm>
            <a:off x="0" y="0"/>
            <a:ext cx="4133880" cy="2808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http://neftegaz.ru/images/news/neft%20pyatno.jpg"/>
          <p:cNvPicPr/>
          <p:nvPr/>
        </p:nvPicPr>
        <p:blipFill>
          <a:blip r:embed="rId2"/>
          <a:stretch/>
        </p:blipFill>
        <p:spPr>
          <a:xfrm>
            <a:off x="179280" y="3284640"/>
            <a:ext cx="4619880" cy="3047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http://www.ogoniok.com/common/5025/20.jpg"/>
          <p:cNvPicPr/>
          <p:nvPr/>
        </p:nvPicPr>
        <p:blipFill>
          <a:blip r:embed="rId3"/>
          <a:stretch/>
        </p:blipFill>
        <p:spPr>
          <a:xfrm>
            <a:off x="5003640" y="3860640"/>
            <a:ext cx="3705480" cy="2781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http://0t4.ru/img/0-1000/301-340/330_7.jpg"/>
          <p:cNvPicPr/>
          <p:nvPr/>
        </p:nvPicPr>
        <p:blipFill>
          <a:blip r:embed="rId4"/>
          <a:stretch/>
        </p:blipFill>
        <p:spPr>
          <a:xfrm>
            <a:off x="4067280" y="476280"/>
            <a:ext cx="4384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4"/>
          <p:cNvSpPr/>
          <p:nvPr/>
        </p:nvSpPr>
        <p:spPr>
          <a:xfrm>
            <a:off x="609480" y="2895480"/>
            <a:ext cx="8210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4d73"/>
                </a:solidFill>
                <a:latin typeface="Tahoma"/>
              </a:rPr>
              <a:t>1 стакан: </a:t>
            </a: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Fe + H</a:t>
            </a:r>
            <a:r>
              <a:rPr b="1" lang="ru-RU" sz="2400" spc="-1" strike="noStrike">
                <a:solidFill>
                  <a:srgbClr val="264d73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2 </a:t>
            </a:r>
            <a:r>
              <a:rPr b="1" lang="ru-RU" sz="3600" spc="-1" strike="noStrike">
                <a:solidFill>
                  <a:srgbClr val="264d73"/>
                </a:solidFill>
                <a:latin typeface="Tahoma"/>
              </a:rPr>
              <a:t>стакан: </a:t>
            </a: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Fe + </a:t>
            </a:r>
            <a:r>
              <a:rPr b="1" lang="ru-RU" sz="3600" spc="-1" strike="noStrike">
                <a:solidFill>
                  <a:srgbClr val="264d73"/>
                </a:solidFill>
                <a:latin typeface="Tahoma"/>
              </a:rPr>
              <a:t>р-р </a:t>
            </a: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NaC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3 </a:t>
            </a:r>
            <a:r>
              <a:rPr b="1" lang="ru-RU" sz="3600" spc="-1" strike="noStrike">
                <a:solidFill>
                  <a:srgbClr val="264d73"/>
                </a:solidFill>
                <a:latin typeface="Tahoma"/>
              </a:rPr>
              <a:t>стакан: </a:t>
            </a: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Fe, Cu + </a:t>
            </a:r>
            <a:r>
              <a:rPr b="1" lang="ru-RU" sz="3600" spc="-1" strike="noStrike">
                <a:solidFill>
                  <a:srgbClr val="264d73"/>
                </a:solidFill>
                <a:latin typeface="Tahoma"/>
              </a:rPr>
              <a:t>р-р </a:t>
            </a: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NaC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4 </a:t>
            </a:r>
            <a:r>
              <a:rPr b="1" lang="ru-RU" sz="3600" spc="-1" strike="noStrike">
                <a:solidFill>
                  <a:srgbClr val="264d73"/>
                </a:solidFill>
                <a:latin typeface="Tahoma"/>
              </a:rPr>
              <a:t>стакан: </a:t>
            </a: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Fe, Zn + </a:t>
            </a:r>
            <a:r>
              <a:rPr b="1" lang="ru-RU" sz="3600" spc="-1" strike="noStrike">
                <a:solidFill>
                  <a:srgbClr val="264d73"/>
                </a:solidFill>
                <a:latin typeface="Tahoma"/>
              </a:rPr>
              <a:t>р-р </a:t>
            </a: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NaC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4d73"/>
                </a:solidFill>
                <a:latin typeface="Tahoma"/>
              </a:rPr>
              <a:t>5 стакан: </a:t>
            </a: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Fe + </a:t>
            </a:r>
            <a:r>
              <a:rPr b="1" lang="ru-RU" sz="3600" spc="-1" strike="noStrike">
                <a:solidFill>
                  <a:srgbClr val="264d73"/>
                </a:solidFill>
                <a:latin typeface="Tahoma"/>
              </a:rPr>
              <a:t>р-р </a:t>
            </a:r>
            <a:r>
              <a:rPr b="1" lang="en-US" sz="3600" spc="-1" strike="noStrike">
                <a:solidFill>
                  <a:srgbClr val="264d73"/>
                </a:solidFill>
                <a:latin typeface="Tahoma"/>
              </a:rPr>
              <a:t>(NaCl + NaOH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762120" y="76212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85ff"/>
                </a:solidFill>
                <a:latin typeface="Tahoma"/>
              </a:rPr>
              <a:t>Факторы, влияющие на скорость коррози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a85ff"/>
                </a:solidFill>
                <a:latin typeface="Tahoma"/>
              </a:rPr>
              <a:t>( лабораторные исследования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ahoma"/>
              </a:rPr>
              <a:t>Защита металлов от коррози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611280" y="3716280"/>
            <a:ext cx="7635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ahoma"/>
              </a:rPr>
              <a:t>«Просто знать – ещё не всё, знания нужно уметь использовать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Tahoma"/>
              </a:rPr>
              <a:t>Гё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Нанесение защитных покрыт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55" name="Picture 6" descr="CA0ME3OI"/>
          <p:cNvPicPr/>
          <p:nvPr/>
        </p:nvPicPr>
        <p:blipFill>
          <a:blip r:embed="rId1"/>
          <a:stretch/>
        </p:blipFill>
        <p:spPr>
          <a:xfrm>
            <a:off x="6227640" y="1268280"/>
            <a:ext cx="2170080" cy="1967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CA2Z01A3"/>
          <p:cNvPicPr/>
          <p:nvPr/>
        </p:nvPicPr>
        <p:blipFill>
          <a:blip r:embed="rId2"/>
          <a:stretch/>
        </p:blipFill>
        <p:spPr>
          <a:xfrm>
            <a:off x="395280" y="1125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маляр"/>
          <p:cNvPicPr/>
          <p:nvPr/>
        </p:nvPicPr>
        <p:blipFill>
          <a:blip r:embed="rId3"/>
          <a:stretch/>
        </p:blipFill>
        <p:spPr>
          <a:xfrm>
            <a:off x="3924360" y="1268280"/>
            <a:ext cx="2160360" cy="1621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3" descr="55555"/>
          <p:cNvPicPr/>
          <p:nvPr/>
        </p:nvPicPr>
        <p:blipFill>
          <a:blip r:embed="rId4"/>
          <a:stretch/>
        </p:blipFill>
        <p:spPr>
          <a:xfrm>
            <a:off x="468360" y="3068640"/>
            <a:ext cx="1336680" cy="1336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CA01SM1H"/>
          <p:cNvPicPr/>
          <p:nvPr/>
        </p:nvPicPr>
        <p:blipFill>
          <a:blip r:embed="rId5"/>
          <a:stretch/>
        </p:blipFill>
        <p:spPr>
          <a:xfrm>
            <a:off x="1692360" y="3645000"/>
            <a:ext cx="1233360" cy="1233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CAAXENW7"/>
          <p:cNvPicPr/>
          <p:nvPr/>
        </p:nvPicPr>
        <p:blipFill>
          <a:blip r:embed="rId6"/>
          <a:stretch/>
        </p:blipFill>
        <p:spPr>
          <a:xfrm>
            <a:off x="6372360" y="3213000"/>
            <a:ext cx="2160360" cy="1790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6"/>
          <p:cNvSpPr/>
          <p:nvPr/>
        </p:nvSpPr>
        <p:spPr>
          <a:xfrm>
            <a:off x="605520" y="4987800"/>
            <a:ext cx="180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Пластмасс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4642920" y="3043080"/>
            <a:ext cx="166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Крас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Л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Грунто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Смо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Эмаль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3" name="Picture 18" descr="CAAN812B"/>
          <p:cNvPicPr/>
          <p:nvPr/>
        </p:nvPicPr>
        <p:blipFill>
          <a:blip r:embed="rId7"/>
          <a:stretch/>
        </p:blipFill>
        <p:spPr>
          <a:xfrm>
            <a:off x="3419640" y="465300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9"/>
          <p:cNvSpPr/>
          <p:nvPr/>
        </p:nvSpPr>
        <p:spPr>
          <a:xfrm>
            <a:off x="3564360" y="59961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Масло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Picture 20" descr="CAGPY30L"/>
          <p:cNvPicPr/>
          <p:nvPr/>
        </p:nvPicPr>
        <p:blipFill>
          <a:blip r:embed="rId8"/>
          <a:stretch/>
        </p:blipFill>
        <p:spPr>
          <a:xfrm>
            <a:off x="4572000" y="5157720"/>
            <a:ext cx="584280" cy="122400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4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4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ahoma"/>
              </a:rPr>
              <a:t>Покрытие</a:t>
            </a: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993300"/>
                </a:solidFill>
                <a:latin typeface="Tahoma"/>
              </a:rPr>
              <a:t>антикоррозионным</a:t>
            </a: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993300"/>
                </a:solidFill>
                <a:latin typeface="Tahoma"/>
              </a:rPr>
              <a:t>металл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68" name="Picture 6" descr="болт"/>
          <p:cNvPicPr/>
          <p:nvPr/>
        </p:nvPicPr>
        <p:blipFill>
          <a:blip r:embed="rId1"/>
          <a:stretch/>
        </p:blipFill>
        <p:spPr>
          <a:xfrm>
            <a:off x="6156360" y="1413000"/>
            <a:ext cx="1008000" cy="100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69" name="Picture 9" descr="мот"/>
          <p:cNvPicPr/>
          <p:nvPr/>
        </p:nvPicPr>
        <p:blipFill>
          <a:blip r:embed="rId2"/>
          <a:stretch/>
        </p:blipFill>
        <p:spPr>
          <a:xfrm>
            <a:off x="6443640" y="2997360"/>
            <a:ext cx="2378160" cy="1433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70" name="Picture 12" descr="ножницы"/>
          <p:cNvPicPr/>
          <p:nvPr/>
        </p:nvPicPr>
        <p:blipFill>
          <a:blip r:embed="rId3"/>
          <a:stretch/>
        </p:blipFill>
        <p:spPr>
          <a:xfrm>
            <a:off x="2411280" y="2852640"/>
            <a:ext cx="777960" cy="1170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71" name="Picture 15" descr="хрр"/>
          <p:cNvPicPr/>
          <p:nvPr/>
        </p:nvPicPr>
        <p:blipFill>
          <a:blip r:embed="rId4"/>
          <a:stretch/>
        </p:blipFill>
        <p:spPr>
          <a:xfrm>
            <a:off x="5076720" y="2368440"/>
            <a:ext cx="1768680" cy="1214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72" name="Picture 17" descr="хр3"/>
          <p:cNvPicPr/>
          <p:nvPr/>
        </p:nvPicPr>
        <p:blipFill>
          <a:blip r:embed="rId5"/>
          <a:stretch/>
        </p:blipFill>
        <p:spPr>
          <a:xfrm>
            <a:off x="7189920" y="1125360"/>
            <a:ext cx="1614240" cy="1798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73" name="Picture 18" descr="CAM2E8JT"/>
          <p:cNvPicPr/>
          <p:nvPr/>
        </p:nvPicPr>
        <p:blipFill>
          <a:blip r:embed="rId6"/>
          <a:stretch/>
        </p:blipFill>
        <p:spPr>
          <a:xfrm>
            <a:off x="324000" y="2997360"/>
            <a:ext cx="1225440" cy="979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9" descr="руч"/>
          <p:cNvPicPr/>
          <p:nvPr/>
        </p:nvPicPr>
        <p:blipFill>
          <a:blip r:embed="rId7"/>
          <a:stretch/>
        </p:blipFill>
        <p:spPr>
          <a:xfrm>
            <a:off x="1835280" y="2924280"/>
            <a:ext cx="506160" cy="1079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75" name="Text Box 21"/>
          <p:cNvSpPr/>
          <p:nvPr/>
        </p:nvSpPr>
        <p:spPr>
          <a:xfrm>
            <a:off x="6345360" y="443700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ahoma"/>
              </a:rPr>
              <a:t>Хромирова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726840" y="41497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ahoma"/>
              </a:rPr>
              <a:t>Никелирова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Picture 30" descr="CA4D63G5"/>
          <p:cNvPicPr/>
          <p:nvPr/>
        </p:nvPicPr>
        <p:blipFill>
          <a:blip r:embed="rId8"/>
          <a:stretch/>
        </p:blipFill>
        <p:spPr>
          <a:xfrm>
            <a:off x="3132000" y="4653000"/>
            <a:ext cx="1871640" cy="1138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1" descr="CA638BW5"/>
          <p:cNvPicPr/>
          <p:nvPr/>
        </p:nvPicPr>
        <p:blipFill>
          <a:blip r:embed="rId9"/>
          <a:stretch/>
        </p:blipFill>
        <p:spPr>
          <a:xfrm>
            <a:off x="5076720" y="5300640"/>
            <a:ext cx="1440000" cy="1033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79" name="Text Box 32"/>
          <p:cNvSpPr/>
          <p:nvPr/>
        </p:nvSpPr>
        <p:spPr>
          <a:xfrm>
            <a:off x="3403440" y="6021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Оцинков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0" name="Picture 5" descr="CAOXHIN6"/>
          <p:cNvPicPr/>
          <p:nvPr/>
        </p:nvPicPr>
        <p:blipFill>
          <a:blip r:embed="rId10"/>
          <a:stretch/>
        </p:blipFill>
        <p:spPr>
          <a:xfrm>
            <a:off x="611280" y="1700280"/>
            <a:ext cx="955440" cy="1081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81" name="Picture 34" descr="никель"/>
          <p:cNvPicPr/>
          <p:nvPr/>
        </p:nvPicPr>
        <p:blipFill>
          <a:blip r:embed="rId11"/>
          <a:stretch/>
        </p:blipFill>
        <p:spPr>
          <a:xfrm>
            <a:off x="1547640" y="1384200"/>
            <a:ext cx="1656000" cy="133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82" name="Picture 35" descr="CA6NGXMH"/>
          <p:cNvPicPr/>
          <p:nvPr/>
        </p:nvPicPr>
        <p:blipFill>
          <a:blip r:embed="rId12"/>
          <a:stretch/>
        </p:blipFill>
        <p:spPr>
          <a:xfrm>
            <a:off x="2050920" y="5300640"/>
            <a:ext cx="10969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7" descr="mater32"/>
          <p:cNvPicPr/>
          <p:nvPr/>
        </p:nvPicPr>
        <p:blipFill>
          <a:blip r:embed="rId1"/>
          <a:stretch/>
        </p:blipFill>
        <p:spPr>
          <a:xfrm>
            <a:off x="3122640" y="4221000"/>
            <a:ext cx="1434960" cy="1872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CA12FF1A"/>
          <p:cNvPicPr/>
          <p:nvPr/>
        </p:nvPicPr>
        <p:blipFill>
          <a:blip r:embed="rId2"/>
          <a:stretch/>
        </p:blipFill>
        <p:spPr>
          <a:xfrm>
            <a:off x="4643280" y="3716280"/>
            <a:ext cx="1140120" cy="1657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9" descr="CAIFIPA9"/>
          <p:cNvPicPr/>
          <p:nvPr/>
        </p:nvPicPr>
        <p:blipFill>
          <a:blip r:embed="rId3"/>
          <a:stretch/>
        </p:blipFill>
        <p:spPr>
          <a:xfrm>
            <a:off x="5867280" y="5013360"/>
            <a:ext cx="1513080" cy="898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86" name="Text Box 10"/>
          <p:cNvSpPr/>
          <p:nvPr/>
        </p:nvSpPr>
        <p:spPr>
          <a:xfrm>
            <a:off x="4716720" y="595008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золота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Picture 12" descr="CA4TAZ0T"/>
          <p:cNvPicPr/>
          <p:nvPr/>
        </p:nvPicPr>
        <p:blipFill>
          <a:blip r:embed="rId4"/>
          <a:stretch/>
        </p:blipFill>
        <p:spPr>
          <a:xfrm>
            <a:off x="826920" y="1844640"/>
            <a:ext cx="2016360" cy="1495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3" descr="CA53TACN"/>
          <p:cNvPicPr/>
          <p:nvPr/>
        </p:nvPicPr>
        <p:blipFill>
          <a:blip r:embed="rId5"/>
          <a:stretch/>
        </p:blipFill>
        <p:spPr>
          <a:xfrm>
            <a:off x="1979640" y="2924280"/>
            <a:ext cx="1170000" cy="9237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Покрытие антикоррозионным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металл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90" name="Picture 17" descr="алюминий"/>
          <p:cNvPicPr/>
          <p:nvPr/>
        </p:nvPicPr>
        <p:blipFill>
          <a:blip r:embed="rId6"/>
          <a:stretch/>
        </p:blipFill>
        <p:spPr>
          <a:xfrm>
            <a:off x="6804000" y="1341360"/>
            <a:ext cx="1428840" cy="15112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8"/>
          <p:cNvSpPr/>
          <p:nvPr/>
        </p:nvSpPr>
        <p:spPr>
          <a:xfrm>
            <a:off x="758880" y="386064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Луж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6372360" y="2997360"/>
            <a:ext cx="208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Покры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алюми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20" descr="CAJJIXHJ"/>
          <p:cNvPicPr/>
          <p:nvPr/>
        </p:nvPicPr>
        <p:blipFill>
          <a:blip r:embed="rId7"/>
          <a:stretch/>
        </p:blipFill>
        <p:spPr>
          <a:xfrm>
            <a:off x="5435640" y="1844640"/>
            <a:ext cx="1457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8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Нержавеющие стал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6084720" y="5877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30" descr="https://encrypted-tbn1.gstatic.com/images?q=tbn:ANd9GcSNgq2UBSbcJ_AHu5l9XRF5TPC6GLVBU6LbcdFHPpSGf_XQapR1"/>
          <p:cNvPicPr/>
          <p:nvPr/>
        </p:nvPicPr>
        <p:blipFill>
          <a:blip r:embed="rId1"/>
          <a:stretch/>
        </p:blipFill>
        <p:spPr>
          <a:xfrm>
            <a:off x="539640" y="1413000"/>
            <a:ext cx="2314800" cy="1971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20"/>
          <p:cNvSpPr/>
          <p:nvPr/>
        </p:nvSpPr>
        <p:spPr>
          <a:xfrm>
            <a:off x="468360" y="5157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8097480" y="5661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2050920" y="58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32" descr="https://encrypted-tbn0.gstatic.com/images?q=tbn:ANd9GcQNwdR5tWYOh8pAkO0jXh6boBHIhcHGI99RCKrF1nh4v2EPpwTW"/>
          <p:cNvPicPr/>
          <p:nvPr/>
        </p:nvPicPr>
        <p:blipFill>
          <a:blip r:embed="rId2"/>
          <a:stretch/>
        </p:blipFill>
        <p:spPr>
          <a:xfrm>
            <a:off x="3708360" y="119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4" descr="https://encrypted-tbn0.gstatic.com/images?q=tbn:ANd9GcTMRmBIoTs0cXEvdia0ahmSUGZeUs494pbZnLD4WC8PSxu-2EIm"/>
          <p:cNvPicPr/>
          <p:nvPr/>
        </p:nvPicPr>
        <p:blipFill>
          <a:blip r:embed="rId3"/>
          <a:stretch/>
        </p:blipFill>
        <p:spPr>
          <a:xfrm>
            <a:off x="6659640" y="134136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" descr="https://encrypted-tbn0.gstatic.com/images?q=tbn:ANd9GcTqIJV3ADkd6Q444wtDXpUXlh6TebTMAlcoyD7KCNlHPPL3Q0Du"/>
          <p:cNvPicPr/>
          <p:nvPr/>
        </p:nvPicPr>
        <p:blipFill>
          <a:blip r:embed="rId4"/>
          <a:stretch/>
        </p:blipFill>
        <p:spPr>
          <a:xfrm>
            <a:off x="1908000" y="3716280"/>
            <a:ext cx="2662560" cy="1943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8" descr="https://encrypted-tbn0.gstatic.com/images?q=tbn:ANd9GcR7Y4lPCRWBPG4lrNbcs5h2Mtqsz_FvIDRGq0rlJcrOFqN1YLIH"/>
          <p:cNvPicPr/>
          <p:nvPr/>
        </p:nvPicPr>
        <p:blipFill>
          <a:blip r:embed="rId5"/>
          <a:stretch/>
        </p:blipFill>
        <p:spPr>
          <a:xfrm>
            <a:off x="4932360" y="3716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4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4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4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3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4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4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4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4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ahoma"/>
              </a:rPr>
              <a:t>Применение</a:t>
            </a:r>
            <a:r>
              <a:rPr b="1" lang="en-US" sz="4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ahoma"/>
              </a:rPr>
              <a:t>ингибито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-124920" y="1267560"/>
            <a:ext cx="94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Engravers MT"/>
              </a:rPr>
              <a:t>Ингибиторы - это вещества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Engravers MT"/>
              </a:rPr>
              <a:t>способные замедлять протек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Engravers MT"/>
              </a:rPr>
              <a:t>химических процессов ил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Engravers MT"/>
              </a:rPr>
              <a:t>останавливать и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6" descr="CA7TS3XP"/>
          <p:cNvPicPr/>
          <p:nvPr/>
        </p:nvPicPr>
        <p:blipFill>
          <a:blip r:embed="rId1"/>
          <a:stretch/>
        </p:blipFill>
        <p:spPr>
          <a:xfrm>
            <a:off x="1835280" y="4292640"/>
            <a:ext cx="1452600" cy="16556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7"/>
          <p:cNvSpPr/>
          <p:nvPr/>
        </p:nvSpPr>
        <p:spPr>
          <a:xfrm>
            <a:off x="4000320" y="443700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Известно более 5 тыся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0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.4545455932617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ahoma"/>
              </a:rPr>
              <a:t>Протекторная</a:t>
            </a: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ahoma"/>
              </a:rPr>
              <a:t>защита</a:t>
            </a: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611280" y="3573360"/>
            <a:ext cx="2665440" cy="503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2121480" y="3141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1" name="Group 13"/>
          <p:cNvGrpSpPr/>
          <p:nvPr/>
        </p:nvGrpSpPr>
        <p:grpSpPr>
          <a:xfrm>
            <a:off x="3348000" y="2565000"/>
            <a:ext cx="1005840" cy="1510920"/>
            <a:chOff x="3348000" y="2565000"/>
            <a:chExt cx="1005840" cy="1510920"/>
          </a:xfrm>
        </p:grpSpPr>
        <p:grpSp>
          <p:nvGrpSpPr>
            <p:cNvPr id="412" name="Group 14"/>
            <p:cNvGrpSpPr/>
            <p:nvPr/>
          </p:nvGrpSpPr>
          <p:grpSpPr>
            <a:xfrm>
              <a:off x="3348000" y="2565000"/>
              <a:ext cx="1005840" cy="1510920"/>
              <a:chOff x="3348000" y="2565000"/>
              <a:chExt cx="1005840" cy="1510920"/>
            </a:xfrm>
          </p:grpSpPr>
          <p:sp>
            <p:nvSpPr>
              <p:cNvPr id="413" name="AutoShape 15"/>
              <p:cNvSpPr/>
              <p:nvPr/>
            </p:nvSpPr>
            <p:spPr>
              <a:xfrm rot="10800000">
                <a:off x="3348000" y="2565000"/>
                <a:ext cx="1005840" cy="1447560"/>
              </a:xfrm>
              <a:custGeom>
                <a:avLst/>
                <a:gdLst>
                  <a:gd name="textAreaLeft" fmla="*/ 234360 w 1005840"/>
                  <a:gd name="textAreaRight" fmla="*/ 771480 w 1005840"/>
                  <a:gd name="textAreaTop" fmla="*/ 152640 h 1447560"/>
                  <a:gd name="textAreaBottom" fmla="*/ 91584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99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Oval 16"/>
              <p:cNvSpPr/>
              <p:nvPr/>
            </p:nvSpPr>
            <p:spPr>
              <a:xfrm>
                <a:off x="3444840" y="3635640"/>
                <a:ext cx="805680" cy="44028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15" name="AutoShape 17"/>
            <p:cNvSpPr/>
            <p:nvPr/>
          </p:nvSpPr>
          <p:spPr>
            <a:xfrm>
              <a:off x="3990240" y="3440880"/>
              <a:ext cx="91080" cy="400320"/>
            </a:xfrm>
            <a:prstGeom prst="flowChartConnector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16" name="Group 18"/>
          <p:cNvGrpSpPr/>
          <p:nvPr/>
        </p:nvGrpSpPr>
        <p:grpSpPr>
          <a:xfrm>
            <a:off x="3276720" y="3500280"/>
            <a:ext cx="1657080" cy="934920"/>
            <a:chOff x="3276720" y="3500280"/>
            <a:chExt cx="1657080" cy="934920"/>
          </a:xfrm>
        </p:grpSpPr>
        <p:sp>
          <p:nvSpPr>
            <p:cNvPr id="417" name="Oval 19"/>
            <p:cNvSpPr/>
            <p:nvPr/>
          </p:nvSpPr>
          <p:spPr>
            <a:xfrm>
              <a:off x="3276720" y="3500280"/>
              <a:ext cx="1657080" cy="934920"/>
            </a:xfrm>
            <a:prstGeom prst="ellipse">
              <a:avLst/>
            </a:prstGeom>
            <a:solidFill>
              <a:srgbClr val="0099ff">
                <a:alpha val="74000"/>
              </a:srgbClr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Oval 20"/>
            <p:cNvSpPr/>
            <p:nvPr/>
          </p:nvSpPr>
          <p:spPr>
            <a:xfrm>
              <a:off x="4356000" y="3813120"/>
              <a:ext cx="142920" cy="7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9" name="Rectangle 5"/>
          <p:cNvSpPr/>
          <p:nvPr/>
        </p:nvSpPr>
        <p:spPr>
          <a:xfrm>
            <a:off x="611280" y="4076640"/>
            <a:ext cx="4897440" cy="1368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1"/>
          <p:cNvSpPr/>
          <p:nvPr/>
        </p:nvSpPr>
        <p:spPr>
          <a:xfrm>
            <a:off x="3216600" y="263700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О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2"/>
          <p:cNvSpPr/>
          <p:nvPr/>
        </p:nvSpPr>
        <p:spPr>
          <a:xfrm>
            <a:off x="3864240" y="27082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О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611280" y="364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2е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Freeform 32"/>
          <p:cNvSpPr/>
          <p:nvPr/>
        </p:nvSpPr>
        <p:spPr>
          <a:xfrm>
            <a:off x="2700360" y="3429000"/>
            <a:ext cx="738000" cy="720720"/>
          </a:xfrm>
          <a:custGeom>
            <a:avLst/>
            <a:gdLst>
              <a:gd name="textAreaLeft" fmla="*/ 0 w 738000"/>
              <a:gd name="textAreaRight" fmla="*/ 738360 w 738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465" h="485">
                <a:moveTo>
                  <a:pt x="296" y="83"/>
                </a:moveTo>
                <a:cubicBezTo>
                  <a:pt x="312" y="86"/>
                  <a:pt x="332" y="80"/>
                  <a:pt x="344" y="91"/>
                </a:cubicBezTo>
                <a:cubicBezTo>
                  <a:pt x="354" y="100"/>
                  <a:pt x="348" y="118"/>
                  <a:pt x="352" y="131"/>
                </a:cubicBezTo>
                <a:cubicBezTo>
                  <a:pt x="367" y="186"/>
                  <a:pt x="354" y="174"/>
                  <a:pt x="392" y="187"/>
                </a:cubicBezTo>
                <a:cubicBezTo>
                  <a:pt x="398" y="275"/>
                  <a:pt x="415" y="289"/>
                  <a:pt x="376" y="347"/>
                </a:cubicBezTo>
                <a:cubicBezTo>
                  <a:pt x="384" y="352"/>
                  <a:pt x="391" y="360"/>
                  <a:pt x="400" y="363"/>
                </a:cubicBezTo>
                <a:cubicBezTo>
                  <a:pt x="413" y="368"/>
                  <a:pt x="432" y="360"/>
                  <a:pt x="440" y="371"/>
                </a:cubicBezTo>
                <a:cubicBezTo>
                  <a:pt x="465" y="408"/>
                  <a:pt x="424" y="414"/>
                  <a:pt x="408" y="419"/>
                </a:cubicBezTo>
                <a:cubicBezTo>
                  <a:pt x="386" y="485"/>
                  <a:pt x="296" y="446"/>
                  <a:pt x="240" y="443"/>
                </a:cubicBezTo>
                <a:cubicBezTo>
                  <a:pt x="227" y="266"/>
                  <a:pt x="261" y="369"/>
                  <a:pt x="168" y="307"/>
                </a:cubicBezTo>
                <a:cubicBezTo>
                  <a:pt x="165" y="267"/>
                  <a:pt x="181" y="216"/>
                  <a:pt x="152" y="187"/>
                </a:cubicBezTo>
                <a:cubicBezTo>
                  <a:pt x="121" y="156"/>
                  <a:pt x="87" y="143"/>
                  <a:pt x="48" y="131"/>
                </a:cubicBezTo>
                <a:cubicBezTo>
                  <a:pt x="32" y="126"/>
                  <a:pt x="0" y="115"/>
                  <a:pt x="0" y="115"/>
                </a:cubicBezTo>
                <a:cubicBezTo>
                  <a:pt x="38" y="0"/>
                  <a:pt x="0" y="91"/>
                  <a:pt x="296" y="83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35"/>
          <p:cNvSpPr/>
          <p:nvPr/>
        </p:nvSpPr>
        <p:spPr>
          <a:xfrm flipH="1" rot="16326600">
            <a:off x="2984760" y="3575160"/>
            <a:ext cx="360360" cy="1369080"/>
          </a:xfrm>
          <a:custGeom>
            <a:avLst/>
            <a:gdLst>
              <a:gd name="textAreaLeft" fmla="*/ 48240 w 360360"/>
              <a:gd name="textAreaRight" fmla="*/ 312120 w 360360"/>
              <a:gd name="textAreaTop" fmla="*/ 306000 h 1369080"/>
              <a:gd name="textAreaBottom" fmla="*/ 926280 h 13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56" stAng="-5400000" swAng="5400000"/>
                <a:lnTo>
                  <a:pt x="21600" y="9784"/>
                </a:lnTo>
                <a:arcTo wR="21600" hR="9656" stAng="0" swAng="3099610"/>
                <a:lnTo>
                  <a:pt x="7200" y="21048"/>
                </a:lnTo>
                <a:lnTo>
                  <a:pt x="0" y="19376"/>
                </a:lnTo>
                <a:lnTo>
                  <a:pt x="7200" y="16600"/>
                </a:lnTo>
                <a:lnTo>
                  <a:pt x="7200" y="18760"/>
                </a:lnTo>
                <a:arcTo wR="21600" hR="9656" stAng="3099610" swAng="-3089424"/>
                <a:lnTo>
                  <a:pt x="21600" y="9720"/>
                </a:lnTo>
                <a:arcTo wR="21600" hR="9656" stAng="-10186" swAng="-5389814"/>
                <a:close/>
              </a:path>
              <a:path fill="darkenLess" w="21600" h="21600">
                <a:moveTo>
                  <a:pt x="0" y="0"/>
                </a:moveTo>
                <a:arcTo wR="21600" hR="9656" stAng="-5400000" swAng="5400000"/>
                <a:lnTo>
                  <a:pt x="21600" y="9784"/>
                </a:lnTo>
                <a:arcTo wR="21600" hR="9656" stAng="0" swAng="-10186"/>
                <a:lnTo>
                  <a:pt x="21600" y="9720"/>
                </a:lnTo>
                <a:arcTo wR="21600" hR="9656" stAng="-10186" swAng="-5389814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27440" y="494172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39"/>
          <p:cNvSpPr/>
          <p:nvPr/>
        </p:nvSpPr>
        <p:spPr>
          <a:xfrm>
            <a:off x="586080" y="5805360"/>
            <a:ext cx="57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более активный металл, чем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40" descr="image7"/>
          <p:cNvPicPr/>
          <p:nvPr/>
        </p:nvPicPr>
        <p:blipFill>
          <a:blip r:embed="rId2"/>
          <a:stretch/>
        </p:blipFill>
        <p:spPr>
          <a:xfrm>
            <a:off x="5508720" y="1125360"/>
            <a:ext cx="3314520" cy="2735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41"/>
          <p:cNvSpPr/>
          <p:nvPr/>
        </p:nvSpPr>
        <p:spPr>
          <a:xfrm>
            <a:off x="613440" y="3141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24"/>
          <p:cNvSpPr/>
          <p:nvPr/>
        </p:nvSpPr>
        <p:spPr>
          <a:xfrm>
            <a:off x="4368960" y="29242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О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Picture 42" descr="CABZ4JFW"/>
          <p:cNvPicPr/>
          <p:nvPr/>
        </p:nvPicPr>
        <p:blipFill>
          <a:blip r:embed="rId3"/>
          <a:stretch/>
        </p:blipFill>
        <p:spPr>
          <a:xfrm>
            <a:off x="6300720" y="4172040"/>
            <a:ext cx="2303640" cy="1528560"/>
          </a:xfrm>
          <a:prstGeom prst="rect">
            <a:avLst/>
          </a:prstGeom>
          <a:ln w="0">
            <a:noFill/>
          </a:ln>
        </p:spPr>
      </p:pic>
      <p:sp>
        <p:nvSpPr>
          <p:cNvPr id="431" name="Oval 44"/>
          <p:cNvSpPr/>
          <p:nvPr/>
        </p:nvSpPr>
        <p:spPr>
          <a:xfrm>
            <a:off x="7740720" y="5445000"/>
            <a:ext cx="360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Oval 45"/>
          <p:cNvSpPr/>
          <p:nvPr/>
        </p:nvSpPr>
        <p:spPr>
          <a:xfrm>
            <a:off x="6804000" y="5516640"/>
            <a:ext cx="144360" cy="14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0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1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5" nodeType="after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0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185 L -0.00642 0.15394 E">
                                      <p:cBhvr>
                                        <p:cTn id="1030" dur="5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0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040" nodeType="after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044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-7.40741E-007 L -0.06928 0.14537 E">
                                      <p:cBhvr>
                                        <p:cTn id="1045" dur="5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10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9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057" nodeType="after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16667E-006 -2.22222E-006 L -0.12448 0.11389 E">
                                      <p:cBhvr>
                                        <p:cTn id="1058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0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9" dur="8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3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7" dur="8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0" dur="9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85ff"/>
                </a:solidFill>
                <a:latin typeface="Constantia"/>
              </a:rPr>
              <a:t>Колосс Родосс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6" name="Picture 2" descr="http://i041.radikal.ru/1109/cf/56df58b3a5eft.jpg"/>
          <p:cNvPicPr/>
          <p:nvPr/>
        </p:nvPicPr>
        <p:blipFill>
          <a:blip r:embed="rId1"/>
          <a:stretch/>
        </p:blipFill>
        <p:spPr>
          <a:xfrm>
            <a:off x="268200" y="1628640"/>
            <a:ext cx="85759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колонна"/>
          <p:cNvPicPr/>
          <p:nvPr/>
        </p:nvPicPr>
        <p:blipFill>
          <a:blip r:embed="rId1"/>
          <a:stretch/>
        </p:blipFill>
        <p:spPr>
          <a:xfrm>
            <a:off x="4782960" y="549360"/>
            <a:ext cx="3937320" cy="5688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34" name="Rectangle 8"/>
          <p:cNvSpPr/>
          <p:nvPr/>
        </p:nvSpPr>
        <p:spPr>
          <a:xfrm>
            <a:off x="105840" y="857520"/>
            <a:ext cx="427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ahoma"/>
              </a:rPr>
              <a:t>Делийск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ahoma"/>
              </a:rPr>
              <a:t>железная колон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467640" y="4368960"/>
            <a:ext cx="376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Высота 7, 2 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вес около 6,5 тон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625680" y="2782080"/>
            <a:ext cx="34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Возраст 1600 ле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0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9dcf"/>
                </a:solidFill>
                <a:latin typeface="Arial"/>
                <a:ea typeface="Arial"/>
              </a:rPr>
              <a:t>Тренировочный те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287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1. Слово “коррозия” в переводе с латинского означа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а) разруша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d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б) разъеда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в) ржаве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2. Требуется скрепить железные детали. Каким металлом целесообразно воспользовать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а) медь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б) цинк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в) свинц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3. Окисление металла в среде неэлектроли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а) электрохимическая корроз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б) язвенная корроз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264d"/>
                </a:solidFill>
                <a:latin typeface="Tahoma"/>
              </a:rPr>
              <a:t>в) химическая корроз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287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4. Разрушение металла, находящегося в контакте с другим металлом в присутствии водного раствора электроли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а) газовая корроз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б) электрохимическая корроз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в) химическая корроз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5. Эмалирование эт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d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а) защитное неметаллическое покрытие метал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б) электрохимический метод защиты металлов от корроз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в) способ придания красоты металлическому издел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6. Легирование эт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d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а) специальное введение в сплав элементов, замедляющих            процесс корроз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б) покрытие железного листа слоем оло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в) создание контакта с более активным метал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287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7. Вещества, замедляющие процесс коррозии называю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а) протектор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б) электро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в) ингибито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8. Присоединение к защищаемому металлу другого, более активного металла называе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а) металлопокрыт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б) контактная защи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в) протекторная защи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9. Процесс ржавления металла можно наблюдать при корроз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а) желез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б) алюми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в) ци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287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10. По характеру разрушений выделяю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а) повсеместную коррози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б) сплошну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в) разрозненну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11. Некоторые металлы не подвергаются коррозии, т.к. они покры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а) защитным покрытие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б) водонепроницаемым покрытие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в) оксидной плён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12. Для протекания электрохимической коррозии необходимо налич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а) возду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б) раствора электроли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264d"/>
                </a:solidFill>
                <a:latin typeface="Tahoma"/>
              </a:rPr>
              <a:t>в) органического растворит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28400" y="259920"/>
            <a:ext cx="87152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d"/>
                </a:solidFill>
                <a:latin typeface="Tahoma"/>
              </a:rPr>
              <a:t>Ключ к тес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1 – б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2 – б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3 – 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         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4 – б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                  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5 – 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                           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6 – 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                                   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7 – 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                                            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8 – 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                                                    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9 – 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                                                           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10 – б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                                                                   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11 – 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en-US" sz="2200" spc="-1" strike="noStrike">
                <a:solidFill>
                  <a:srgbClr val="00264d"/>
                </a:solidFill>
                <a:latin typeface="Tahoma"/>
              </a:rPr>
              <a:t>12 - б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539640" y="1197000"/>
            <a:ext cx="79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amp; 1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с. 47-51 выучить),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. № 1, 2 с. 86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(выполнить письмен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ополнительное задание № 1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: Склёпаны 2 металла. Укажите, какой из металлов подвергается коррозии а)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Mn – Al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;  б)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Sn – B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ополнительное задание № 2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: Образец латуни (медь + цинк) массой 200 грамм с массовой долей меди 60 % обработали избытком соляной кислоты. Определите объём газа, который выделится (н.у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0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85ff"/>
                </a:solidFill>
                <a:latin typeface="Constantia"/>
              </a:rPr>
              <a:t>Рухнувший мост в Квебек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8" name="Picture 2" descr="https://encrypted-tbn1.gstatic.com/images?q=tbn:ANd9GcQVReyuKgQ9eaNAtxtyKO2LOVtQ3xF-Hi4sP5Aj8Taax9FMqUfC9Q"/>
          <p:cNvPicPr/>
          <p:nvPr/>
        </p:nvPicPr>
        <p:blipFill>
          <a:blip r:embed="rId1"/>
          <a:stretch/>
        </p:blipFill>
        <p:spPr>
          <a:xfrm>
            <a:off x="1116000" y="1773360"/>
            <a:ext cx="6912000" cy="46418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6720" y="1557360"/>
            <a:ext cx="3897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85ff"/>
                </a:solidFill>
                <a:latin typeface="Constantia"/>
              </a:rPr>
              <a:t>Антенная мач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12" descr="https://encrypted-tbn0.gstatic.com/images?q=tbn:ANd9GcSfrYWe48k5pQbz55I2b1Kf9v4uw9nbON7IevMqR-PD0BioG7C40w"/>
          <p:cNvPicPr/>
          <p:nvPr/>
        </p:nvPicPr>
        <p:blipFill>
          <a:blip r:embed="rId1"/>
          <a:stretch/>
        </p:blipFill>
        <p:spPr>
          <a:xfrm>
            <a:off x="395280" y="396720"/>
            <a:ext cx="4537080" cy="60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5480" y="1428840"/>
            <a:ext cx="504036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b5481"/>
                </a:solidFill>
                <a:latin typeface="Tahoma"/>
              </a:rPr>
              <a:t>Коррозия</a:t>
            </a: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2b5481"/>
                </a:solidFill>
                <a:latin typeface="Tahoma"/>
              </a:rPr>
              <a:t>металлов.</a:t>
            </a:r>
            <a:br>
              <a:rPr sz="7200"/>
            </a:br>
            <a:r>
              <a:rPr b="0" lang="en-US" sz="7200" spc="-1" strike="noStrike">
                <a:solidFill>
                  <a:srgbClr val="ccdcee"/>
                </a:solidFill>
                <a:latin typeface="Tahoma"/>
              </a:rPr>
              <a:t>Способы защиты от коррозии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85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7979"/>
                </a:solidFill>
                <a:latin typeface="Arial"/>
                <a:ea typeface="Arial"/>
              </a:rPr>
              <a:t>Сформировать представление о коррозии металлов как самопроизвольном окислительно-восстановительном процессе, ее значении, причинах, механизме и способах защиты металлов от корроз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2" name="Picture 4" descr="C:\Documents and Settings\Администратор\Рабочий стол\фоны для PowerPoint\01069059.gif"/>
          <p:cNvPicPr/>
          <p:nvPr/>
        </p:nvPicPr>
        <p:blipFill>
          <a:blip r:embed="rId1"/>
          <a:stretch/>
        </p:blipFill>
        <p:spPr>
          <a:xfrm>
            <a:off x="0" y="-609480"/>
            <a:ext cx="9220320" cy="781992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4" descr=""/>
          <p:cNvPicPr/>
          <p:nvPr/>
        </p:nvPicPr>
        <p:blipFill>
          <a:blip r:embed="rId2"/>
          <a:stretch/>
        </p:blipFill>
        <p:spPr>
          <a:xfrm>
            <a:off x="1163520" y="201600"/>
            <a:ext cx="7467840" cy="2633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4038480" y="312408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.Н. Несмеян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a85ff"/>
                </a:solidFill>
                <a:latin typeface="Tahoma"/>
              </a:rPr>
              <a:t>Коррозия – </a:t>
            </a:r>
            <a:br>
              <a:rPr sz="4000"/>
            </a:br>
            <a:r>
              <a:rPr b="0" lang="ru-RU" sz="4000" spc="-1" strike="noStrike">
                <a:solidFill>
                  <a:srgbClr val="0a85ff"/>
                </a:solidFill>
                <a:latin typeface="Tahoma"/>
              </a:rPr>
              <a:t>от лат. </a:t>
            </a:r>
            <a:r>
              <a:rPr b="0" lang="en-US" sz="4000" spc="-1" strike="noStrike">
                <a:solidFill>
                  <a:srgbClr val="0a85ff"/>
                </a:solidFill>
                <a:latin typeface="Tahoma"/>
              </a:rPr>
              <a:t>corrodere</a:t>
            </a:r>
            <a:r>
              <a:rPr b="0" lang="ru-RU" sz="4000" spc="-1" strike="noStrike">
                <a:solidFill>
                  <a:srgbClr val="0a85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a85ff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0a85ff"/>
                </a:solidFill>
                <a:latin typeface="Tahoma"/>
              </a:rPr>
              <a:t> разъеда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6" name="Picture 6" descr="017"/>
          <p:cNvPicPr/>
          <p:nvPr/>
        </p:nvPicPr>
        <p:blipFill>
          <a:blip r:embed="rId1"/>
          <a:stretch/>
        </p:blipFill>
        <p:spPr>
          <a:xfrm>
            <a:off x="1403280" y="2205000"/>
            <a:ext cx="2808360" cy="3809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kor08-2"/>
          <p:cNvPicPr/>
          <p:nvPr/>
        </p:nvPicPr>
        <p:blipFill>
          <a:blip r:embed="rId2"/>
          <a:stretch/>
        </p:blipFill>
        <p:spPr>
          <a:xfrm>
            <a:off x="5435640" y="2133720"/>
            <a:ext cx="2881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7:23:51Z</dcterms:created>
  <dc:creator>Юрий Поторочин </dc:creator>
  <dc:description/>
  <dc:language>en-US</dc:language>
  <cp:lastModifiedBy>User</cp:lastModifiedBy>
  <dcterms:modified xsi:type="dcterms:W3CDTF">2018-01-21T13:11:02Z</dcterms:modified>
  <cp:revision>107</cp:revision>
  <dc:subject/>
  <dc:title>Коррозия металлов</dc:title>
</cp:coreProperties>
</file>