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6.png" ContentType="image/pn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358F-EA15-4956-8188-03459D0093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F1C4-AD0E-4F1D-9A2E-6F4C459149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E121-4343-415D-AC81-5FD42EFF1E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42E4-99E1-4E42-8C61-8025C53E1F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0F6A-CD15-45F7-AD7A-78D1E2134C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6641-C5AA-4C6E-80DE-3E1221F8F7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F1D6-5D17-4309-AC79-8EC15BEC41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1532-87D8-47C9-80C0-DCA1C14F13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323F-CF8F-47DD-9811-61A5E8A83F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3B52-EC9C-4CCC-A7E5-D0377971D4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7C6B-9D53-4112-A9BF-9A460D8105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3D7E-824C-4460-89B0-1E917CC7AE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AC04-C15D-4A14-B323-4D9EFA902A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19FE-06E0-48EF-86F5-79199566BB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E4E4-7BE9-4B9E-821D-BD13D0707E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EA86-22AE-41F9-AB02-4F4F0AEB21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1806-A91B-4D60-8173-5C0EC9A7BF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4F5B-02D6-4B9E-BC7E-B80C031558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D9C6-24E7-4A20-A81E-DB5522F731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9C87-631A-40DA-AB9E-FA350F39D9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9CA-D74A-4E20-895C-87714854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A73-4846-4878-B05F-3EBC9DAA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ACE-DACF-4766-ABDD-F42715D9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B06-EAE9-4B38-96B8-1173BF9C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5D43-F62B-47AA-B6DC-09D965FF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CBAE-6943-4301-8AF3-ACDD0762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11A2-65B8-408D-BA0F-0840158C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9AC2-BA65-4547-A70E-592AD844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24C3-4A85-4543-8DD5-307BFF3C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EB76-85CA-4DA8-AE31-8AEBD016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D3D8-C06B-4AFE-9BBB-482B8F4E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02A-BE4B-4BDB-B3DB-CE4BF469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707C-4C94-4A7E-81BF-9F27EB59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EACD-BEDB-46AC-9F17-0D7C793E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9251-432D-4D1A-8867-AC6DC81C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E6E2-123E-4AB8-83EF-D5AEBB88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6360-10B2-4112-82E1-255202E4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7D07-526A-407D-B9FA-6A89E2E4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9C531-FD7F-4CE9-871F-80EE5A5B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9095-1DCD-46DB-9D69-39E74925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3ED8-D73C-49F6-AC5D-B2461FD3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1CC2A-0EE9-4E83-B6B7-9D11AF1E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3E4-49BD-4892-986E-4FEA4F7D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8E1C-D4C4-407B-953C-BF51F1E5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4CE77-F71F-48C4-9535-003BD79F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C0E2C-9EF9-487A-B7C1-1AAB6323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96BF-B965-4828-9C38-5F1CEA54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C7C1-C390-4967-A799-9344890F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BFB3A-2768-49D2-A2EA-F4E98529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88941-CB4C-49B9-BA6B-F34B8A63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1C847-5FC5-41D4-979B-EFEF6915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B7540-014F-4DAC-8E00-2560D046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31C94-1E49-4A67-814E-FD42D0E2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E62-C5D0-4326-A747-1AA133D5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FB61B-E134-4627-8EFE-B07EE345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B4069-9BFC-45B4-B199-C91849D1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057B8-108D-4386-9B71-A3BA51C1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74D23-A0D5-4B59-80DC-DEE748A4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5AF4B-246E-4F4F-BA32-DD8469CD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CA92F-A27C-4906-A351-F95B100F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5D0F9-6A1D-48AE-B62D-8620F041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1B311-1F87-42CE-8B0E-73D834DD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5B96D-D0A1-4FBD-9F51-91E951BD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0457A-2F8E-4D2A-AAA9-756D62CF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889-8A5E-46A1-86D5-F9F3C93B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CC024-24B5-4795-9343-716644A4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C344F-353A-46E3-BF12-7AB5C161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1913F-1156-4AC1-AAF1-2AFE773E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06CAE-45AD-4EE0-B388-0A0EF8DC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BED46-FB16-4F7F-A96A-BBA9A1BE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8923E-D2DD-4A17-BEDB-28A4AEFA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BDB27-B099-4192-BE33-5371C96C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5BE2D-AB3F-4676-BCE2-B97118B0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2AC9E-CB9F-4837-AFF5-6DE0A9F9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908C1-7C6C-43E4-A35A-C530A0E4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47A-385D-49F5-9446-B6BBA509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09674-0984-4FE9-82BA-F52BBF95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71FE8-C604-4AD2-94F8-0CD0F14C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E027C-6FE5-4DEE-8503-7BFABC34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6054C-3D43-4230-B097-8ECE01F6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2DB87-FBC0-412F-B174-77744586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44740-6AA8-451B-AB56-0C2594BA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1EBC8-2FDF-4C01-8411-F987F589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20FCE-774F-4B1D-B8AF-CD8487E1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DD919-89D1-4A07-B348-FFD8F06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A642F-D54C-43B3-BE8D-8EE283E6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4FF-4D5F-4A96-820E-42A43624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0E961-2126-427D-84EA-57C3DB5E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D7A6E-C5ED-4576-B1D8-AFF8B31A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0F8FE-67A7-4532-A04B-1C54B310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FFA8C-ECA9-4E91-87E7-76D65F31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F2018-F910-4FD7-8202-A9FA990A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6B4C1-EDB2-4550-AE93-A2F0845A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D0FCB-F382-4876-B0AC-DA32139A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C3F83-4824-492B-88C5-4CAB87A9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C08E3-F2C2-4209-9AB6-706141CD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32D82-FE2F-4A2E-98EF-E8B1C461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9B4-BA29-4832-B222-FD53B27E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3CD2C-695E-41C8-B995-1625F662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14B42-380F-4C4F-9A77-CD162CAF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A8D37-AB3F-420D-97E7-FB85D35D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9E5CB-BBFE-4E4B-92EC-AB73FF26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1EAF3-4787-4861-8953-5E154155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4E240-555B-4F11-BC48-CF7EBB8A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57054-BAD3-4F53-94DC-6F28A853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D91A4-A173-40A5-922F-29E3B7C8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79316-D49A-4805-91C3-36363B61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12B0D-B174-41E6-BFC2-0593BB91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4B2-56FF-46FD-AA7C-E205D35B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58F48-C8AF-436E-B3C0-A9BD704C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05978-8828-459A-AEAB-EFDB283C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BD8AC-76F8-47DF-B5DD-82B26166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F273D-EB1B-4AF8-B473-57775FE6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915D2-7A4A-409E-81B9-63468650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E527A-BE05-4F67-B6F0-68BDB0FE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D7EF4-1B2D-4D95-BC6C-C00B0ECE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02C1-D24A-42AF-85F9-FDDB097B57F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1161-BAC9-434F-AC40-CACE973A3A9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E63C-41AB-42C4-A512-CC0E43B4689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906F-0DD6-4F83-8E30-7386CBD6681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CA17-2A28-4B86-805A-4F8449AC571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E69F-235B-4DC5-A40A-F63B3544456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4762-5945-45FE-B06D-A44F24935B5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9EF3-748B-4195-B2ED-DC4FC12D017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" descr="1200527551_krestonoscy-1"/>
          <p:cNvPicPr/>
          <p:nvPr/>
        </p:nvPicPr>
        <p:blipFill>
          <a:blip r:embed="rId1"/>
          <a:stretch/>
        </p:blipFill>
        <p:spPr>
          <a:xfrm>
            <a:off x="-49320" y="0"/>
            <a:ext cx="9526680" cy="7182000"/>
          </a:xfrm>
          <a:prstGeom prst="rect">
            <a:avLst/>
          </a:prstGeom>
          <a:ln w="0">
            <a:noFill/>
          </a:ln>
        </p:spPr>
      </p:pic>
      <p:pic>
        <p:nvPicPr>
          <p:cNvPr id="426" name="Заголовок 1" descr=""/>
          <p:cNvPicPr/>
          <p:nvPr/>
        </p:nvPicPr>
        <p:blipFill>
          <a:blip r:embed="rId2"/>
          <a:stretch/>
        </p:blipFill>
        <p:spPr>
          <a:xfrm>
            <a:off x="1703520" y="111240"/>
            <a:ext cx="7785000" cy="1577880"/>
          </a:xfrm>
          <a:prstGeom prst="rect">
            <a:avLst/>
          </a:prstGeom>
          <a:ln w="0">
            <a:noFill/>
          </a:ln>
        </p:spPr>
      </p:pic>
      <p:sp>
        <p:nvSpPr>
          <p:cNvPr id="427" name="Содержимое 5"/>
          <p:cNvSpPr/>
          <p:nvPr/>
        </p:nvSpPr>
        <p:spPr>
          <a:xfrm>
            <a:off x="2552760" y="11667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5120" y="651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2-й крестовый поход (1147-1149 гг.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0" name="Содержимое 4" descr="kingdoms_screen4.jpg"/>
          <p:cNvPicPr/>
          <p:nvPr/>
        </p:nvPicPr>
        <p:blipFill>
          <a:blip r:embed="rId1"/>
          <a:stretch/>
        </p:blipFill>
        <p:spPr>
          <a:xfrm>
            <a:off x="914400" y="1981080"/>
            <a:ext cx="7467480" cy="48769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122040" y="979560"/>
            <a:ext cx="891540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 организован после завоевания Эдессы турками. Он закончился ужасным разгромом крестоносце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3-й крестовый поход (1189-1192 гг.)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3" name="Содержимое 4" descr="crusade_29.jpg"/>
          <p:cNvPicPr/>
          <p:nvPr/>
        </p:nvPicPr>
        <p:blipFill>
          <a:blip r:embed="rId1"/>
          <a:stretch/>
        </p:blipFill>
        <p:spPr>
          <a:xfrm>
            <a:off x="593640" y="1409760"/>
            <a:ext cx="3978360" cy="50004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876560" y="145728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87 - Салах-ад-дин (Саладин) завоевал Иерусалим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ход возглавили германский император Фридрих I Барбаросса, французский король Филипп II и английский король Ричард I Львиное Сердце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5" descr="4"/>
          <p:cNvPicPr/>
          <p:nvPr/>
        </p:nvPicPr>
        <p:blipFill>
          <a:blip r:embed="rId1"/>
          <a:stretch/>
        </p:blipFill>
        <p:spPr>
          <a:xfrm>
            <a:off x="609480" y="304920"/>
            <a:ext cx="7925040" cy="63244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й крестовый поход (1199-1204 гг.)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2556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ский поход (1212) – наиболее трагичный, тысячи детей погибли или были проданы в рабство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9436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II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рестовый поход (1270) был последним и неудачным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ш час пришел – за ратью рать – святую землю попокидать!»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9" name="WordArt 7" descr=""/>
          <p:cNvPicPr/>
          <p:nvPr/>
        </p:nvPicPr>
        <p:blipFill>
          <a:blip r:embed="rId1"/>
          <a:stretch/>
        </p:blipFill>
        <p:spPr>
          <a:xfrm>
            <a:off x="944640" y="152280"/>
            <a:ext cx="7450200" cy="865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image051"/>
          <p:cNvPicPr/>
          <p:nvPr/>
        </p:nvPicPr>
        <p:blipFill>
          <a:blip r:embed="rId2"/>
          <a:stretch/>
        </p:blipFill>
        <p:spPr>
          <a:xfrm>
            <a:off x="1523880" y="3962520"/>
            <a:ext cx="400680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eeff"/>
                </a:solidFill>
                <a:latin typeface="Consolas"/>
              </a:rPr>
              <a:t>Закрепление изученного материала на уроке</a:t>
            </a:r>
            <a:br>
              <a:rPr sz="3200"/>
            </a:b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рестовые походы были начаты из-за желания защитить христиан от турок?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рестовые поход были провозглашены императором Священной Римской империи?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сего было 2 крестовых похода?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ервых крестовый поход закончился взятием Иерусалима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толическая церковь получили новые земли после Крестовых походов?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06320" y="1350720"/>
            <a:ext cx="7980480" cy="32209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11200" indent="-4572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ть параграф 14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11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11200" indent="-4572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исать в тетради итоги (положительные и отрицательные) Крестовых походов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8" name="Рисунок 4" descr="850269f61a03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Заголовок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81738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Отрицательные итоги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8280" y="1577520"/>
            <a:ext cx="8456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1749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Крушение планов Католической церкви по захвату Святых земель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1749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Разрушения и частичное уничтожение уникальной мусульманской культуры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1749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Укрепление вражды между католическим Западом и православной Византией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1749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Распад Византийской импери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ложительные итог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5120" y="1752480"/>
            <a:ext cx="867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1749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иобщение к восточной культуре – технические изобретения (ветряные мельницы), особенности быта (горячие бани), выращивание сельскохозяйственных культур (рис, гречиха, лимоны, абрикосы, арбузы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1749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Развитие торговли: укрепление позиций европейских купцов в Средиземноморь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Вопросы для повторения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33520" y="1784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е место занимает Католическая церковь в политической европейской системе?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могло стать причиной для конфликтов между людей разных религий? 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решались спорные вопросы между разными сторонами в Средние века?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49440" y="15228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Выступление папы Урбана </a:t>
            </a:r>
            <a:r>
              <a:rPr b="1" lang="en-US" sz="36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II</a:t>
            </a:r>
            <a:r>
              <a:rPr b="1" lang="ru-RU" sz="36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 на Клермонском соборе (1095 г.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4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м идущим туда, в случае их кончины на сухом пути или на море, или в бою с погаными, отныне да будет отпущение грехов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сть выступят против неверных в бой, который должен дать в изобилии трофеи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ля т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…&gt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ечет медом и молоком. Иерусалим – плодоноснейший перл земли, второй рай утех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2" name="Picture 4" descr=""/>
          <p:cNvPicPr/>
          <p:nvPr/>
        </p:nvPicPr>
        <p:blipFill>
          <a:blip r:embed="rId1"/>
          <a:stretch/>
        </p:blipFill>
        <p:spPr>
          <a:xfrm>
            <a:off x="4595760" y="1541520"/>
            <a:ext cx="45720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Вопросы к обсуждению в группах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кому обращался Папа Римский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он называет Иерусалим центром Земли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н обещает людям, которые его слушают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ли противоречие в данном высказывании?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4" descr="kingdoms_screen3.jpg"/>
          <p:cNvPicPr/>
          <p:nvPr/>
        </p:nvPicPr>
        <p:blipFill>
          <a:blip r:embed="rId1"/>
          <a:stretch/>
        </p:blipFill>
        <p:spPr>
          <a:xfrm>
            <a:off x="4680" y="1582560"/>
            <a:ext cx="5251680" cy="5275440"/>
          </a:xfrm>
          <a:prstGeom prst="rect">
            <a:avLst/>
          </a:prstGeom>
          <a:ln w="0">
            <a:noFill/>
          </a:ln>
        </p:spPr>
      </p:pic>
      <p:pic>
        <p:nvPicPr>
          <p:cNvPr id="436" name="Содержимое 4" descr="img2.jpg"/>
          <p:cNvPicPr/>
          <p:nvPr/>
        </p:nvPicPr>
        <p:blipFill>
          <a:blip r:embed="rId2"/>
          <a:stretch/>
        </p:blipFill>
        <p:spPr>
          <a:xfrm>
            <a:off x="4800600" y="1582560"/>
            <a:ext cx="4343400" cy="5275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"/>
          <p:cNvSpPr/>
          <p:nvPr/>
        </p:nvSpPr>
        <p:spPr>
          <a:xfrm>
            <a:off x="0" y="-17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стовые походы - это освобождение или завоевание?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161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рестовые походы -  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152388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ия военных походов западноевропейских рыцарей, направленных против «неверных» (мусульман, язычников, православных)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0" name="Picture 6" descr="1215610435_dospehi-gospitalyerov-13-2"/>
          <p:cNvPicPr/>
          <p:nvPr/>
        </p:nvPicPr>
        <p:blipFill>
          <a:blip r:embed="rId1"/>
          <a:stretch/>
        </p:blipFill>
        <p:spPr>
          <a:xfrm>
            <a:off x="4930920" y="1371600"/>
            <a:ext cx="4213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Цели Крестовых походов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66760" y="138096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вобождение Палестины (священная земля) от турок-сельджуков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щение в христианство язычников Прибалтики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ание западных феодалов и папской курии приобрести новые владения и увеличить доходы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ание римских пап распространить свою власть на новые страны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ание крестьян получить свободу и землю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6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1-й крестовый поход (1097-1099 гг.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25080" y="977400"/>
            <a:ext cx="866628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й крестовый поход возглавлял герцог Готфрид Бульонский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099 г. – штурмом овладели Иерусалимом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5" name="Содержимое 4" descr="Krestpohod.gif"/>
          <p:cNvPicPr/>
          <p:nvPr/>
        </p:nvPicPr>
        <p:blipFill>
          <a:blip r:embed="rId1"/>
          <a:stretch/>
        </p:blipFill>
        <p:spPr>
          <a:xfrm>
            <a:off x="-28440" y="1828800"/>
            <a:ext cx="91440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228240" y="1752480"/>
            <a:ext cx="4457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и созданы государство Триполи, княжество Антиохийское, графство Эдесское, Иерусалимское королевство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7" name="WordArt 7" descr=""/>
          <p:cNvPicPr/>
          <p:nvPr/>
        </p:nvPicPr>
        <p:blipFill>
          <a:blip r:embed="rId1"/>
          <a:stretch/>
        </p:blipFill>
        <p:spPr>
          <a:xfrm>
            <a:off x="987480" y="176040"/>
            <a:ext cx="7881840" cy="8668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countries_b_of_the"/>
          <p:cNvPicPr/>
          <p:nvPr/>
        </p:nvPicPr>
        <p:blipFill>
          <a:blip r:embed="rId2"/>
          <a:stretch/>
        </p:blipFill>
        <p:spPr>
          <a:xfrm>
            <a:off x="4637160" y="1101600"/>
            <a:ext cx="44956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444</dc:creator>
  <dc:description/>
  <dc:language>en-US</dc:language>
  <cp:lastModifiedBy>Оля</cp:lastModifiedBy>
  <dcterms:modified xsi:type="dcterms:W3CDTF">2018-02-04T10:58:24Z</dcterms:modified>
  <cp:revision>78</cp:revision>
  <dc:subject/>
  <dc:title>Крестовые походы.</dc:title>
</cp:coreProperties>
</file>