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image16.gif" ContentType="image/gif"/>
  <Override PartName="/ppt/media/image2.png" ContentType="image/png"/>
  <Override PartName="/ppt/media/image14.gif" ContentType="image/gif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EF7-4B0E-42B8-A9B1-2A80D63D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FF2-F028-47A5-8A7D-7D77A352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C75-873F-48E4-82F8-97717432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6BF-B1DA-4DB2-B5F8-7E811ACC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69A8-16DA-4898-876E-53CE8798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20F2-83C8-4D36-A38E-781C9B34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60A4-3A64-473E-90E4-96572AEC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BB86-8E44-4835-9704-C78BFAB0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0E44-75C1-4518-A221-A6B50155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B0B5-7577-4154-B0E7-47B8227F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8474-31BD-4293-A453-B5703263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305-A86D-4835-A7FC-C6C05213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0F76-0EC8-4D68-9690-0572B004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4DBD-33D7-4119-A829-F6D5BE43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0D66-79C4-49F0-91A5-4AF60740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A378-AE42-4015-950C-B88B1E09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C450-B194-4137-815F-8E36C391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9D8BA-4113-4277-860E-273ACC79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86ECC-02CC-4F01-B566-21BA8869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09A2C-C056-4946-BCF8-5F048A70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9F8B3-87AB-4543-B481-375E2C81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88194-B137-4829-80D1-070968EE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628-02AD-4F91-8C55-B2FF317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F4B84-163B-41B3-863E-099A7363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447F7-5606-41D5-9A78-35A1B37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0B95D-5A21-492D-AD57-DD9C754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74B11-EAF4-4DF4-91A4-6AA1C18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FFD33-4379-416D-BB1E-4F08266D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21B4F-233B-49B2-A8E6-23B3F238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34A93-EC4C-4CAC-A1C7-B0E9B393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7373E-DBAF-41E0-ABFD-92DCDE39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8C217-B5B3-472C-B24C-2CD03AE1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116E-7537-403B-BF40-AFD3B074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55E-A680-4A3B-ADA9-7FE5A326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9BC0-028B-4B1D-9410-2DB624EE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D68B7-18DD-4645-B615-DC0E4321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42A1E-7CF0-4042-903D-B79B7511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3789B-05F1-4282-BA35-9ACC7CEC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C4E67-E015-48BD-A63B-EB241A53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0531-AEAF-4C76-BB14-95FB404D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1115-0FF3-430F-BF24-C071BA68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BDE27-1EE3-4612-9828-6962B604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445C-4043-4492-A9B0-C388B399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F7D3A-37DB-41DE-BA16-16CCFDA9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77F-8894-49BC-B796-F126EA0E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851B2-522C-469B-8387-B1F3FEF5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11062-0E46-46A2-B697-43211458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646A-3974-4388-B45D-40A03CAB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E5505-6D2C-47DE-AC7B-74314E67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10C7D-8646-4A51-B0BC-69A59AE9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B7EF2-3777-453C-B779-F44AFE3C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B5913-AD09-495B-9233-7965FEE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E6B04-B148-4299-9659-C772E0FA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C7239-86E4-4D8A-AB6A-A2264481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7494-72B8-468A-A05C-B27DC866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F13-CCE3-4D5F-B198-A85ADFDA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7FFF4-8EBA-4EC6-89E1-305E438D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E9888-00C8-4EDE-A351-0DDC0982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DABBD-1043-405B-95D2-6F3782A6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819C7-CE2F-45C8-A053-9231A040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3973B-39B5-406A-8421-05FCC059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65A84-CF3E-48C8-A0CF-AE235503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6CDA5-0135-4BC9-B1CE-1A723C45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B418-436F-4D73-AF9C-7DCF4F1C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2CC0B-38ED-4C29-901B-B4DADE1B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53609-2BCE-4736-B9EB-58780270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F8C-A201-4FB2-AE62-35104D8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777B6-9061-49D5-8F33-28691ADE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E0EA7-D4B8-41F3-B052-4DB5D089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060A2-0010-44E8-9EAB-43BDF90F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2C182-BEDF-441C-971A-DAA45141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4310E-01A0-4D82-BDD5-3D75EA52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896C0-DFE3-4F8F-8492-3F027552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A49B7-2E7B-48FB-B7EA-F2118379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6BC7C-B98C-4685-8C19-53682F59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1F9BF-11F3-4D5E-9927-AB77279B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217EF-EBEE-427D-9C6C-E9006CE0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1E9-E0CB-4CB4-A6B9-8A41EF0F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EC747-EDF2-4A8D-A6BA-55207B1B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4AE9C-695E-4BB0-A8F8-60474F7C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839A7-8E77-4EE7-988E-AEB4C231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3F336-41D7-455F-8960-9337FFDA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63F9-46B4-4D2C-9F28-E3BA27D6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8BE-E347-4874-8600-59F075A1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5357-61FB-4246-9951-FD06CE319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gne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C157-7643-4ED2-83F6-E00E791D3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gne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8623-C13F-41AD-8A43-7D1C6308EA3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D016-028A-46D1-A3C3-3C1AB6FA18F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21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21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grpSp>
        <p:nvGrpSpPr>
          <p:cNvPr id="21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22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22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22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grpSp>
          <p:nvGrpSpPr>
            <p:cNvPr id="22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2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3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3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</p:grpSp>
          <p:sp>
            <p:nvSpPr>
              <p:cNvPr id="23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grpSp>
            <p:nvGrpSpPr>
              <p:cNvPr id="23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3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3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3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4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4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4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4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4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</p:grpSp>
        </p:grpSp>
      </p:grpSp>
      <p:grpSp>
        <p:nvGrpSpPr>
          <p:cNvPr id="24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24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</p:grpSp>
      <p:grpSp>
        <p:nvGrpSpPr>
          <p:cNvPr id="24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4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5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grpSp>
            <p:nvGrpSpPr>
              <p:cNvPr id="25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5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5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5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5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5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5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5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25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</p:grpSp>
        </p:grpSp>
        <p:sp>
          <p:nvSpPr>
            <p:cNvPr id="26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9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grpSp>
          <p:nvGrpSpPr>
            <p:cNvPr id="29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0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0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0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0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0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0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0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0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0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0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1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</p:grpSp>
        <p:grpSp>
          <p:nvGrpSpPr>
            <p:cNvPr id="31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1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1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1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1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1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1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1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1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2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2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2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2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2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2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2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2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2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2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</p:grpSp>
        <p:grpSp>
          <p:nvGrpSpPr>
            <p:cNvPr id="33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3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3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3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3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3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3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3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3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3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4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4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4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4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4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4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4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4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</p:grpSp>
        <p:grpSp>
          <p:nvGrpSpPr>
            <p:cNvPr id="34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4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5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5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5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5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5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35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grpSp>
            <p:nvGrpSpPr>
              <p:cNvPr id="35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5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35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35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  <p:sp>
              <p:nvSpPr>
                <p:cNvPr id="36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Magneto"/>
                  </a:endParaRPr>
                </a:p>
              </p:txBody>
            </p:sp>
          </p:grp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265-6380-488E-860E-3F0C3CBAF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gne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2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2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379B-8031-4355-A92A-09A109564E9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Magne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grpSp>
        <p:nvGrpSpPr>
          <p:cNvPr id="46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6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6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6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grpSp>
          <p:nvGrpSpPr>
            <p:cNvPr id="47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7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7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7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7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7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</p:grpSp>
      </p:grpSp>
      <p:grpSp>
        <p:nvGrpSpPr>
          <p:cNvPr id="47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7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7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sp>
          <p:nvSpPr>
            <p:cNvPr id="479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gneto"/>
              </a:endParaRPr>
            </a:p>
          </p:txBody>
        </p:sp>
        <p:grpSp>
          <p:nvGrpSpPr>
            <p:cNvPr id="48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8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8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8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8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  <p:sp>
            <p:nvSpPr>
              <p:cNvPr id="48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agneto"/>
                </a:endParaRPr>
              </a:p>
            </p:txBody>
          </p:sp>
        </p:grpSp>
      </p:grpSp>
      <p:sp>
        <p:nvSpPr>
          <p:cNvPr id="48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48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FE39-645A-4C18-A5D9-9B6EF43FADE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gnet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>
            <a:off x="1763640" y="692280"/>
            <a:ext cx="56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нота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971640" y="227664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900000" y="242100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айды разработаны к внеклассному         мероприятию  в 5-7 классах «Математическое кафе»,  </a:t>
            </a:r>
            <a:r>
              <a:rPr b="1" lang="ru-RU" sz="2800" spc="-1" strike="noStrike">
                <a:solidFill>
                  <a:srgbClr val="000000"/>
                </a:solidFill>
                <a:latin typeface="Magneto"/>
              </a:rPr>
              <a:t> способствующие формированию    кругозора учащихся, умению формулировать и излагать логически мысли, развивать      коммуникативные возможности в процессе игры.</a:t>
            </a:r>
            <a:endParaRPr b="0" lang="en-US" sz="2800" spc="-1" strike="noStrike">
              <a:solidFill>
                <a:srgbClr val="000000"/>
              </a:solidFill>
              <a:latin typeface="Magneto"/>
            </a:endParaRPr>
          </a:p>
        </p:txBody>
      </p:sp>
      <p:pic>
        <p:nvPicPr>
          <p:cNvPr id="532" name="Picture 5" descr="j0123567"/>
          <p:cNvPicPr/>
          <p:nvPr/>
        </p:nvPicPr>
        <p:blipFill>
          <a:blip r:embed="rId2"/>
          <a:stretch/>
        </p:blipFill>
        <p:spPr>
          <a:xfrm>
            <a:off x="108000" y="3789360"/>
            <a:ext cx="3384360" cy="2975040"/>
          </a:xfrm>
          <a:prstGeom prst="rect">
            <a:avLst/>
          </a:prstGeom>
          <a:ln w="0">
            <a:noFill/>
          </a:ln>
        </p:spPr>
      </p:pic>
      <p:pic>
        <p:nvPicPr>
          <p:cNvPr id="533" name="I love you.mp3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783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WordArt 4"/>
          <p:cNvSpPr txBox="1"/>
          <p:nvPr/>
        </p:nvSpPr>
        <p:spPr>
          <a:xfrm>
            <a:off x="395280" y="1125360"/>
            <a:ext cx="835344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атематический рулет с начинкой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 обгонялок, навеянный непреодолимым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еланием учиться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ься и ещё раз учиться..."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WordArt 4"/>
          <p:cNvSpPr txBox="1"/>
          <p:nvPr/>
        </p:nvSpPr>
        <p:spPr>
          <a:xfrm>
            <a:off x="2484360" y="404640"/>
            <a:ext cx="3959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 б     а в т о р е 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611280" y="2781360"/>
            <a:ext cx="7885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лементьева Наталья Павловна</a:t>
            </a:r>
            <a:endParaRPr b="0" lang="en-US" sz="3200" spc="-1" strike="noStrike">
              <a:solidFill>
                <a:srgbClr val="000000"/>
              </a:solidFill>
              <a:latin typeface="Magneto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Magneto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МОУ «Низовская СОШ», </a:t>
            </a:r>
            <a:endParaRPr b="0" lang="en-US" sz="3200" spc="-1" strike="noStrike">
              <a:solidFill>
                <a:srgbClr val="000000"/>
              </a:solidFill>
              <a:latin typeface="Magneto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Ардатовского района, с.Низовка</a:t>
            </a:r>
            <a:endParaRPr b="0" lang="en-US" sz="3200" spc="-1" strike="noStrike">
              <a:solidFill>
                <a:srgbClr val="000000"/>
              </a:solidFill>
              <a:latin typeface="Magneto"/>
            </a:endParaRPr>
          </a:p>
        </p:txBody>
      </p:sp>
      <p:pic>
        <p:nvPicPr>
          <p:cNvPr id="570" name="Picture 8" descr="book17"/>
          <p:cNvPicPr/>
          <p:nvPr/>
        </p:nvPicPr>
        <p:blipFill>
          <a:blip r:embed="rId2"/>
          <a:stretch/>
        </p:blipFill>
        <p:spPr>
          <a:xfrm>
            <a:off x="7380360" y="5565600"/>
            <a:ext cx="1504800" cy="1146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2"/>
          <p:cNvSpPr txBox="1"/>
          <p:nvPr/>
        </p:nvSpPr>
        <p:spPr>
          <a:xfrm>
            <a:off x="826920" y="981000"/>
            <a:ext cx="7345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еклассное мероприя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атематическое кафе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Monotype Corsiva"/>
              </a:rPr>
              <a:t>М Е Н 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лат «Незабудка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д соусом из зага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щ «Скороспел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о сметаной «кто успел, тот и съе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нашего стола  -  вашему стол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гу «из логических смекалок с острыми приправами из внимания и мыш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серт: «Мороженое со взбитыми сливками и начинкой из геометрических фигу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езим – для желудка незамени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енное блюдо (за счёт завед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атематический рулет с начинкой из обгонялок, навеянный  непреодолимым желанием учиться, учиться и учиться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5" descr="j0123071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Салат «Незабудка»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под соусом из зага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8" descr="flowers24"/>
          <p:cNvPicPr/>
          <p:nvPr/>
        </p:nvPicPr>
        <p:blipFill>
          <a:blip r:embed="rId2"/>
          <a:stretch/>
        </p:blipFill>
        <p:spPr>
          <a:xfrm>
            <a:off x="2700360" y="5013360"/>
            <a:ext cx="1871640" cy="16952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flowers24"/>
          <p:cNvPicPr/>
          <p:nvPr/>
        </p:nvPicPr>
        <p:blipFill>
          <a:blip r:embed="rId3"/>
          <a:stretch/>
        </p:blipFill>
        <p:spPr>
          <a:xfrm>
            <a:off x="0" y="3789360"/>
            <a:ext cx="1871640" cy="16956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flowers24"/>
          <p:cNvPicPr/>
          <p:nvPr/>
        </p:nvPicPr>
        <p:blipFill>
          <a:blip r:embed="rId4"/>
          <a:stretch/>
        </p:blipFill>
        <p:spPr>
          <a:xfrm>
            <a:off x="5940360" y="4797360"/>
            <a:ext cx="1871640" cy="1695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6" descr="flowers15"/>
          <p:cNvPicPr/>
          <p:nvPr/>
        </p:nvPicPr>
        <p:blipFill>
          <a:blip r:embed="rId5"/>
          <a:stretch/>
        </p:blipFill>
        <p:spPr>
          <a:xfrm>
            <a:off x="4859280" y="5373720"/>
            <a:ext cx="943200" cy="11905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7" descr="flowers15"/>
          <p:cNvPicPr/>
          <p:nvPr/>
        </p:nvPicPr>
        <p:blipFill>
          <a:blip r:embed="rId6"/>
          <a:stretch/>
        </p:blipFill>
        <p:spPr>
          <a:xfrm>
            <a:off x="1403280" y="5229360"/>
            <a:ext cx="9432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9" descr="flowers17"/>
          <p:cNvPicPr/>
          <p:nvPr/>
        </p:nvPicPr>
        <p:blipFill>
          <a:blip r:embed="rId7"/>
          <a:stretch/>
        </p:blipFill>
        <p:spPr>
          <a:xfrm>
            <a:off x="7667640" y="3860640"/>
            <a:ext cx="947880" cy="14083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0" descr="flowers17"/>
          <p:cNvPicPr/>
          <p:nvPr/>
        </p:nvPicPr>
        <p:blipFill>
          <a:blip r:embed="rId8"/>
          <a:stretch/>
        </p:blipFill>
        <p:spPr>
          <a:xfrm>
            <a:off x="4140360" y="3789360"/>
            <a:ext cx="947520" cy="14079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1" descr="4b3"/>
          <p:cNvPicPr/>
          <p:nvPr/>
        </p:nvPicPr>
        <p:blipFill>
          <a:blip r:embed="rId9"/>
          <a:stretch/>
        </p:blipFill>
        <p:spPr>
          <a:xfrm>
            <a:off x="0" y="-27936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9800" y="277560"/>
            <a:ext cx="82044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В О П Р О С Ы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91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отличает один поезд от другого с точки зрения математики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чего не могут обойтись охотники, барабанщики и математик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есть у каждого слова, растения и уравнения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ую формулу прославил Фанхио, Лауда, Прост, Шумахер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геометрическая фигура используется для наказания детей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геометрическая фигура дружит с солнце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дуга вошла в историю ХХ – го век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было названо военно-историческое кольц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какой фигуре основана форма любой снежинки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гранник из Егип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ографический конус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0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" dur="2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5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20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4" dur="2000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7" dur="2000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0" dur="500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00"/>
            </a:gs>
            <a:gs pos="50000">
              <a:srgbClr val="00b200"/>
            </a:gs>
            <a:gs pos="100000">
              <a:srgbClr val="005a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7" descr="img055"/>
          <p:cNvPicPr/>
          <p:nvPr/>
        </p:nvPicPr>
        <p:blipFill>
          <a:blip r:embed="rId1"/>
          <a:stretch/>
        </p:blipFill>
        <p:spPr>
          <a:xfrm>
            <a:off x="826920" y="3068640"/>
            <a:ext cx="2953080" cy="1944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8" descr="img057"/>
          <p:cNvPicPr/>
          <p:nvPr/>
        </p:nvPicPr>
        <p:blipFill>
          <a:blip r:embed="rId2"/>
          <a:stretch/>
        </p:blipFill>
        <p:spPr>
          <a:xfrm>
            <a:off x="5076720" y="3141720"/>
            <a:ext cx="2900520" cy="19922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9"/>
          <p:cNvSpPr/>
          <p:nvPr/>
        </p:nvSpPr>
        <p:spPr>
          <a:xfrm>
            <a:off x="1403280" y="1557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Magne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анда</a:t>
            </a:r>
            <a:endParaRPr b="0" lang="en-US" sz="24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5724360" y="1557360"/>
            <a:ext cx="14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Magnet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анда</a:t>
            </a:r>
            <a:endParaRPr b="0" lang="en-US" sz="2400" spc="-1" strike="noStrike">
              <a:solidFill>
                <a:srgbClr val="000000"/>
              </a:solidFill>
              <a:latin typeface="Magneto"/>
            </a:endParaRPr>
          </a:p>
        </p:txBody>
      </p:sp>
    </p:spTree>
  </p:cSld>
  <p:transition spd="med">
    <p:cover dir="r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WordArt 7"/>
          <p:cNvSpPr txBox="1"/>
          <p:nvPr/>
        </p:nvSpPr>
        <p:spPr>
          <a:xfrm>
            <a:off x="971640" y="692280"/>
            <a:ext cx="316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се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4" name="WordArt 8"/>
          <p:cNvSpPr txBox="1"/>
          <p:nvPr/>
        </p:nvSpPr>
        <p:spPr>
          <a:xfrm>
            <a:off x="2916360" y="2205000"/>
            <a:ext cx="5688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Мороженое со взбитыми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ливками и начинко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геометрических фигур"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555" name="Picture 14" descr="J0145373"/>
          <p:cNvPicPr/>
          <p:nvPr/>
        </p:nvPicPr>
        <p:blipFill>
          <a:blip r:embed="rId1"/>
          <a:stretch/>
        </p:blipFill>
        <p:spPr>
          <a:xfrm>
            <a:off x="468360" y="4292640"/>
            <a:ext cx="3341520" cy="22064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p:transition spd="slow">
    <p:wheel spokes="3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квадратов и треугольников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ажено на черте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2411280" y="3141720"/>
            <a:ext cx="4897440" cy="208764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558" name="Line 9"/>
          <p:cNvSpPr/>
          <p:nvPr/>
        </p:nvSpPr>
        <p:spPr>
          <a:xfrm flipV="1">
            <a:off x="2411280" y="3141360"/>
            <a:ext cx="2448000" cy="2087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4859280" y="3141720"/>
            <a:ext cx="2449440" cy="2087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560" name="Line 11"/>
          <p:cNvSpPr/>
          <p:nvPr/>
        </p:nvSpPr>
        <p:spPr>
          <a:xfrm flipV="1">
            <a:off x="4859280" y="3141360"/>
            <a:ext cx="2449440" cy="2087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561" name="Line 12"/>
          <p:cNvSpPr/>
          <p:nvPr/>
        </p:nvSpPr>
        <p:spPr>
          <a:xfrm>
            <a:off x="2411280" y="3141720"/>
            <a:ext cx="2448000" cy="2087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  <p:sp>
        <p:nvSpPr>
          <p:cNvPr id="562" name="Line 13"/>
          <p:cNvSpPr/>
          <p:nvPr/>
        </p:nvSpPr>
        <p:spPr>
          <a:xfrm>
            <a:off x="4859280" y="3141720"/>
            <a:ext cx="0" cy="2087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gnet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4"/>
          <p:cNvSpPr txBox="1"/>
          <p:nvPr/>
        </p:nvSpPr>
        <p:spPr>
          <a:xfrm>
            <a:off x="1042920" y="765000"/>
            <a:ext cx="396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М е з и м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4" name="Picture 5" descr="Рисук1"/>
          <p:cNvPicPr/>
          <p:nvPr/>
        </p:nvPicPr>
        <p:blipFill>
          <a:blip r:embed="rId1"/>
          <a:stretch/>
        </p:blipFill>
        <p:spPr>
          <a:xfrm>
            <a:off x="3276720" y="3141720"/>
            <a:ext cx="2838240" cy="28033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6:40:43Z</dcterms:created>
  <dc:creator>student306</dc:creator>
  <dc:description/>
  <dc:language>en-US</dc:language>
  <cp:lastModifiedBy>ПК</cp:lastModifiedBy>
  <dcterms:modified xsi:type="dcterms:W3CDTF">2018-02-04T16:28:30Z</dcterms:modified>
  <cp:revision>23</cp:revision>
  <dc:subject/>
  <dc:title>Математическое кафе</dc:title>
</cp:coreProperties>
</file>