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7CA-5AE0-43CF-B72E-0FC6F639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043-FA64-4279-AD7C-91CA2CC6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2FA-A344-4E72-A675-760F1D75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69C-72A4-42A2-B976-E23FE11E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3109-886C-418C-8DFD-E4D14474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AACA-5452-43FD-8686-297FA77D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C1F2-573A-4D41-95A2-579EC0D2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922D-9DE4-4005-9B05-AA8B1867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D4A2-5E2F-4BC6-8430-10A39150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0457-7F31-48C6-92D3-4AE7D4EB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B4F8-CB87-42CE-8D05-548E52E8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768-B37B-44F1-8877-CE4E4A5C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09D4-87A5-4132-A06C-1FDCD546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9345-5779-497D-8426-D467F04E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33F0-47BF-47F0-B226-B5D24DAB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8B93-D41D-4C18-9751-3BB5274B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0326-1D21-4210-BE7F-FC96C10F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D15-CE9C-49CD-9523-FF9D376A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86A-5667-442F-B6B8-3C2B8C8A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B49-DF4D-4C7D-8BDA-D279DA61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602-87F7-4071-91DC-4EC155DB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7780-9D32-4267-9B1D-4ADC1115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E28-920F-4227-85D6-C56B6A59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452-37DE-496E-B64B-B5A2A62B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6D91-2D38-46A2-B832-CE319EE66E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5CEA-60C5-47D7-8658-3C0436A5E6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497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221304"/>
                </a:solidFill>
                <a:latin typeface="Times New Roman"/>
              </a:rPr>
              <a:t>Национально-государственное устройство 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§ 3, вопросы №5, 7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ля повышенной отметки*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опрос №8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3" descr=""/>
          <p:cNvPicPr/>
          <p:nvPr/>
        </p:nvPicPr>
        <p:blipFill>
          <a:blip r:embed="rId1"/>
          <a:stretch/>
        </p:blipFill>
        <p:spPr>
          <a:xfrm>
            <a:off x="6372360" y="4076640"/>
            <a:ext cx="226368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ОБЛЕМА УРОК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00000" y="1483920"/>
            <a:ext cx="8064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егодняшний день в мире насчитывается около 200 государств и до     5 тыс. этносов, из которых несколько сотен являются нациями. В составе современной России более 100 этносов, в том числе около 30 наци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поставив эти цифры, можно ли сделать вывод о том, что не все нации имеют государство, хотя большинство, если не все, стремятся к том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нденции современного обществ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2204640"/>
            <a:ext cx="775332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ъединение наций (образование Европейского союза, 1993)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тделение наций (распад СССР, 1991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00000" y="177336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епаратиз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(от лат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aratus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– отделенный) – стремление к отделению, обособлению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181160" y="4221000"/>
            <a:ext cx="74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идите ли вы в сепаратизме тенденцию к приобретению суверенитет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то возникает первично - желание приобрести независимость или отделиться территориально, национальн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71280" y="1557360"/>
            <a:ext cx="7753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одумайте, какими способами может происходить разделение наций или территорий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1476360" y="3716280"/>
            <a:ext cx="6191280" cy="792360"/>
          </a:xfrm>
          <a:prstGeom prst="roundRect">
            <a:avLst>
              <a:gd name="adj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Скругленный прямоугольник 4"/>
          <p:cNvSpPr/>
          <p:nvPr/>
        </p:nvSpPr>
        <p:spPr>
          <a:xfrm>
            <a:off x="1486080" y="4797360"/>
            <a:ext cx="6190920" cy="792360"/>
          </a:xfrm>
          <a:prstGeom prst="roundRect">
            <a:avLst>
              <a:gd name="adj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670040" y="496260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ЕННЫМ ПУТЁ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1670040" y="3882960"/>
            <a:ext cx="57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РНЫМ ПУТЁ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C:\Documents and Settings\Admin\Рабочий стол\1213cd0.jpg"/>
          <p:cNvPicPr/>
          <p:nvPr/>
        </p:nvPicPr>
        <p:blipFill>
          <a:blip r:embed="rId1"/>
          <a:stretch/>
        </p:blipFill>
        <p:spPr>
          <a:xfrm>
            <a:off x="611280" y="285840"/>
            <a:ext cx="820872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Централизованное государ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щенациональное или национальное государ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Определите сходства и различия между ними.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бота с тестом учебника с. 22-2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Основные формы национально-государственного устройств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6680" y="1752480"/>
          <a:ext cx="7537680" cy="4629240"/>
        </p:xfrm>
        <a:graphic>
          <a:graphicData uri="http://schemas.openxmlformats.org/drawingml/2006/table">
            <a:tbl>
              <a:tblPr/>
              <a:tblGrid>
                <a:gridCol w="7537680"/>
              </a:tblGrid>
              <a:tr h="101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efde3"/>
                          </a:solidFill>
                          <a:latin typeface="Times New Roman"/>
                        </a:rPr>
                        <a:t>Унитарная форм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18720">
                      <a:solidFill>
                        <a:srgbClr val="fefde3"/>
                      </a:solidFill>
                    </a:lnB>
                    <a:solidFill>
                      <a:srgbClr val="a1bd69"/>
                    </a:solidFill>
                  </a:tcPr>
                </a:tc>
              </a:tr>
              <a:tr h="101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тивная форм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1872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0e8d4"/>
                    </a:solidFill>
                  </a:tcPr>
                </a:tc>
              </a:tr>
              <a:tr h="100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едеративная форм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f0f4eb"/>
                    </a:solidFill>
                  </a:tcPr>
                </a:tc>
              </a:tr>
              <a:tr h="101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ружеств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0e8d4"/>
                    </a:solidFill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f0f4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42560" y="764640"/>
            <a:ext cx="7620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 какому типу устройства государств относится современная Россия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кажит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я</dc:creator>
  <dc:description/>
  <dc:language>en-US</dc:language>
  <cp:lastModifiedBy>Оля</cp:lastModifiedBy>
  <dcterms:modified xsi:type="dcterms:W3CDTF">2018-02-04T11:07:44Z</dcterms:modified>
  <cp:revision>42</cp:revision>
  <dc:subject/>
  <dc:title>PowerPoint Presentation</dc:title>
</cp:coreProperties>
</file>