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E5B2-5013-421C-98F5-B9A15276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912B-118D-43F9-83CF-DCD37EF3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E81D-129B-4E98-AC12-D9FF2E33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BC78-3BDF-457E-A058-3B3CA8CD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9E0F-792A-4AD4-9A5A-DF4E1DBC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B7D7-5229-44E8-BFB3-8039157E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9D7F-C713-4C07-8589-69C5CBFD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06F-5421-4A05-97DF-A83AB35A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4A88-3A78-4704-8752-A6F08AE8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20CD-3379-4BCB-AE28-56AED759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0DFC-B3A7-425E-83C2-5AE601B2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0E77-794C-4FD3-BA75-93C0C1DC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1013-1186-4D1E-9F71-4C8138E82C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D:\АБПрезентации\Всё для презентации11\фоны и карт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8"/>
          <p:cNvSpPr/>
          <p:nvPr/>
        </p:nvSpPr>
        <p:spPr>
          <a:xfrm>
            <a:off x="1020960" y="1500120"/>
            <a:ext cx="723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Обучение грамоте. Буква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4140360" y="5315040"/>
            <a:ext cx="55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Учитель начальных классов: Боралдай А.Ч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3" descr="D:\АБПрезентации\Всё для презентации11\фоны и карт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D:\все поделки...666\картинки\test_vatslak_31.jpg"/>
          <p:cNvPicPr/>
          <p:nvPr/>
        </p:nvPicPr>
        <p:blipFill>
          <a:blip r:embed="rId2"/>
          <a:stretch/>
        </p:blipFill>
        <p:spPr>
          <a:xfrm>
            <a:off x="5286240" y="2786040"/>
            <a:ext cx="3643560" cy="35006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6"/>
          <p:cNvSpPr/>
          <p:nvPr/>
        </p:nvSpPr>
        <p:spPr>
          <a:xfrm>
            <a:off x="285840" y="1285920"/>
            <a:ext cx="5500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Круглое, румяное, </a:t>
            </a:r>
            <a:br>
              <a:rPr sz="4400"/>
            </a:b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Я расту на ветке; </a:t>
            </a:r>
            <a:br>
              <a:rPr sz="4400"/>
            </a:b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Любят меня взрослые </a:t>
            </a:r>
            <a:br>
              <a:rPr sz="4400"/>
            </a:b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И маленькие детк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2363400" y="5357880"/>
            <a:ext cx="20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БЛО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Picture 3" descr="D:\АБПрезентации\Всё для презентации11\фоны и карт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D:\все поделки...666\картинки\x_fbffa27a.jpg"/>
          <p:cNvPicPr/>
          <p:nvPr/>
        </p:nvPicPr>
        <p:blipFill>
          <a:blip r:embed="rId2"/>
          <a:stretch/>
        </p:blipFill>
        <p:spPr>
          <a:xfrm>
            <a:off x="214200" y="1071720"/>
            <a:ext cx="330516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5"/>
          <p:cNvSpPr/>
          <p:nvPr/>
        </p:nvSpPr>
        <p:spPr>
          <a:xfrm>
            <a:off x="3571920" y="1214280"/>
            <a:ext cx="5286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Комочек пуха, </a:t>
            </a:r>
            <a:br>
              <a:rPr sz="4800"/>
            </a:b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Длинное ухо, </a:t>
            </a:r>
            <a:br>
              <a:rPr sz="4800"/>
            </a:b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Прыгает ловко, </a:t>
            </a:r>
            <a:br>
              <a:rPr sz="4800"/>
            </a:b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Любит морковку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6000840" y="478620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Calibri"/>
              </a:rPr>
              <a:t>ЗА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" name="Picture 3" descr="D:\АБПрезентации\Всё для презентации11\фоны и карт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D:\все поделки...666\снежинки и новый год\jAkmAicRdX0.jpg"/>
          <p:cNvPicPr/>
          <p:nvPr/>
        </p:nvPicPr>
        <p:blipFill>
          <a:blip r:embed="rId2"/>
          <a:stretch/>
        </p:blipFill>
        <p:spPr>
          <a:xfrm>
            <a:off x="142920" y="1143000"/>
            <a:ext cx="4143240" cy="46623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4000680" y="1143000"/>
            <a:ext cx="5000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Кто длиннее, чем чулок?</a:t>
            </a:r>
            <a:br>
              <a:rPr sz="4000"/>
            </a:b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У кого ни рук, ни ног?</a:t>
            </a:r>
            <a:br>
              <a:rPr sz="4000"/>
            </a:b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Кожа, словно чешуя.</a:t>
            </a:r>
            <a:br>
              <a:rPr sz="4000"/>
            </a:b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По земле ползет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5079960" y="4929120"/>
            <a:ext cx="140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ЗМЕ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Picture 3" descr="D:\АБПрезентации\Всё для презентации11\фоны и карт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3357720" y="3500280"/>
            <a:ext cx="16491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12"/>
          <p:cNvSpPr/>
          <p:nvPr/>
        </p:nvSpPr>
        <p:spPr>
          <a:xfrm flipH="1" flipV="1">
            <a:off x="2571480" y="2500200"/>
            <a:ext cx="1214280" cy="164304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14"/>
          <p:cNvSpPr/>
          <p:nvPr/>
        </p:nvSpPr>
        <p:spPr>
          <a:xfrm flipV="1">
            <a:off x="4571280" y="2500200"/>
            <a:ext cx="1143000" cy="164304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5"/>
          <p:cNvSpPr/>
          <p:nvPr/>
        </p:nvSpPr>
        <p:spPr>
          <a:xfrm>
            <a:off x="2289960" y="1857240"/>
            <a:ext cx="67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5290560" y="1571760"/>
            <a:ext cx="68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Двойные круглые скобки 17"/>
          <p:cNvSpPr/>
          <p:nvPr/>
        </p:nvSpPr>
        <p:spPr>
          <a:xfrm>
            <a:off x="2214720" y="192888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Двойные круглые скобки 18"/>
          <p:cNvSpPr/>
          <p:nvPr/>
        </p:nvSpPr>
        <p:spPr>
          <a:xfrm>
            <a:off x="5214960" y="185724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9"/>
          <p:cNvSpPr/>
          <p:nvPr/>
        </p:nvSpPr>
        <p:spPr>
          <a:xfrm>
            <a:off x="1000080" y="71424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В   НАЧАЛЕ   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0"/>
          <p:cNvSpPr/>
          <p:nvPr/>
        </p:nvSpPr>
        <p:spPr>
          <a:xfrm>
            <a:off x="1571760" y="6000840"/>
            <a:ext cx="436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ПОСЛЕ         ГЛАС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D:\АБПрезентации\Всё для презентации11\фоны и карт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285840" y="1571760"/>
            <a:ext cx="857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на               </a:t>
            </a: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ков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142920" y="3143160"/>
            <a:ext cx="890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к          зме</a:t>
            </a: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Зо</a:t>
            </a: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                 Ра</a:t>
            </a: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3" name="Picture 3" descr="D:\АБПрезентации\Всё для презентации11\фоны и карт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357120" y="1428840"/>
            <a:ext cx="6215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f0"/>
                </a:solidFill>
                <a:latin typeface="Calibri"/>
              </a:rPr>
              <a:t>в</a:t>
            </a: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50"/>
                </a:solidFill>
                <a:latin typeface="Calibri"/>
              </a:rPr>
              <a:t>в</a:t>
            </a: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2214720" y="1428840"/>
            <a:ext cx="1714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f0"/>
                </a:solidFill>
                <a:latin typeface="Calibri"/>
              </a:rPr>
              <a:t>д</a:t>
            </a: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50"/>
                </a:solidFill>
                <a:latin typeface="Calibri"/>
              </a:rPr>
              <a:t>д</a:t>
            </a: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4000680" y="1428840"/>
            <a:ext cx="1714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f0"/>
                </a:solidFill>
                <a:latin typeface="Calibri"/>
              </a:rPr>
              <a:t>с</a:t>
            </a: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50"/>
                </a:solidFill>
                <a:latin typeface="Calibri"/>
              </a:rPr>
              <a:t>с</a:t>
            </a: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5715000" y="1428840"/>
            <a:ext cx="150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f0"/>
                </a:solidFill>
                <a:latin typeface="Calibri"/>
              </a:rPr>
              <a:t>п</a:t>
            </a: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50"/>
                </a:solidFill>
                <a:latin typeface="Calibri"/>
              </a:rPr>
              <a:t>п</a:t>
            </a: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7286760" y="1428840"/>
            <a:ext cx="1643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f0"/>
                </a:solidFill>
                <a:latin typeface="Calibri"/>
              </a:rPr>
              <a:t>м</a:t>
            </a: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50"/>
                </a:solidFill>
                <a:latin typeface="Calibri"/>
              </a:rPr>
              <a:t>м</a:t>
            </a: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285840" y="3786120"/>
            <a:ext cx="871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м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л – </a:t>
            </a: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м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ял                     </a:t>
            </a: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р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д – </a:t>
            </a: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р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яд                            </a:t>
            </a: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зы - </a:t>
            </a: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в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яз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2" name="Picture 3" descr="D:\АБПрезентации\Всё для презентации11\фоны и карт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214200" y="1071720"/>
            <a:ext cx="2071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Ма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Та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То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Со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428920" y="1785960"/>
            <a:ext cx="192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Ан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5000760" y="857160"/>
            <a:ext cx="335736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5788800" y="3571920"/>
            <a:ext cx="79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2725200" y="4929120"/>
            <a:ext cx="193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Вар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0" name="Picture 3" descr="D:\АБПрезентации\Всё для презентации11\фоны и карт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214200" y="1071720"/>
            <a:ext cx="207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2428920" y="1785960"/>
            <a:ext cx="19288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5000760" y="857160"/>
            <a:ext cx="335736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6786720" y="3643200"/>
            <a:ext cx="1839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2714760" y="4929120"/>
            <a:ext cx="183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Прямоугольник 9" descr=""/>
          <p:cNvPicPr/>
          <p:nvPr/>
        </p:nvPicPr>
        <p:blipFill>
          <a:blip r:embed="rId2"/>
          <a:stretch/>
        </p:blipFill>
        <p:spPr>
          <a:xfrm>
            <a:off x="858960" y="1785960"/>
            <a:ext cx="7748640" cy="1322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D:\АБПрезентации\Всё для презентации11\картинки для презентаций32\cnfhf[1].gif"/>
          <p:cNvPicPr/>
          <p:nvPr/>
        </p:nvPicPr>
        <p:blipFill>
          <a:blip r:embed="rId3"/>
          <a:stretch/>
        </p:blipFill>
        <p:spPr>
          <a:xfrm>
            <a:off x="1643040" y="3071880"/>
            <a:ext cx="5857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19:05:15Z</dcterms:created>
  <dc:creator>Мама</dc:creator>
  <dc:description/>
  <dc:language>en-US</dc:language>
  <cp:lastModifiedBy>Боралдай</cp:lastModifiedBy>
  <dcterms:modified xsi:type="dcterms:W3CDTF">2018-02-04T03:06:56Z</dcterms:modified>
  <cp:revision>14</cp:revision>
  <dc:subject/>
  <dc:title>Слайд 1</dc:title>
</cp:coreProperties>
</file>