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242-B557-4B0F-AA75-CCFD1B68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32F-ACC6-4941-8BD3-CFA36E4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5F9-7B55-4F0D-B793-1092F344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F8E-0412-4552-933D-0A60CD8E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B99-23EB-4A0A-B98B-98AC1548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F527-11AD-40EB-825B-542C2D80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6C0-2D5E-4DB2-B19B-4E922B8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F4F1-B8E5-471A-9416-7D8C4DA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A082-0E01-4A91-BABA-E048DFB0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545C-C6C6-4E11-8666-2E6BEEB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9172-A453-4593-AEDD-ED71DD3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D35-2F61-4D9C-9292-18AA3A3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B5EE-9E44-424C-8782-41B17A2F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47D-97DE-4687-A5F6-55E6F86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0C3E-4815-4A4C-BEEF-64709EB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354-21EA-4FA1-9357-1841235A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7321-274F-4305-BB0E-7C75604E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C12-E0A2-475A-82FC-B7E3B275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23F-497F-48D2-B14B-5211681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0A5-7E41-4AE4-8F57-87F4F75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BA4-585F-4BA1-B693-659B682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6D-C362-46C4-ABDD-929B828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148-9965-479A-91DB-AC62673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480-26D5-4F03-AA57-9241750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EE5-8B1B-4CDA-9390-A86FFEE2AA51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309-DF39-4928-B4F9-279925EF7E67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Мультимедийная разработка к конспекту НОД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«Открытие магазина игрушек»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ыполнила: воспитател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Трошкина А.О.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1125000"/>
            <a:ext cx="71164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Цель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Развитие элементарных математических представлений в процессе игровой деятельности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549000"/>
            <a:ext cx="6875280" cy="42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Задачи:</a:t>
            </a:r>
            <a:br>
              <a:rPr sz="2000"/>
            </a:br>
            <a:r>
              <a:rPr b="0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Развивающие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1.Развивать умение различать объекты по свойствам (форма, размер, количество, пространственное расположение)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2. Развивать умение сравнивать, обобщать группы предметов.</a:t>
            </a:r>
            <a:br>
              <a:rPr sz="2000"/>
            </a:br>
            <a:r>
              <a:rPr b="0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Образовательные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1.Упражнять в счёте до пяти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2. Обогащать способы игрового взаимодействия детей.</a:t>
            </a:r>
            <a:br>
              <a:rPr sz="2000"/>
            </a:br>
            <a:r>
              <a:rPr b="0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Воспитательные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1.Воспитание дружеских взаимоотношений, готовности прийти на помощь другим.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Организационный момент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033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оездка в магазин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005280" y="2060640"/>
            <a:ext cx="28731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омощь продавцам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26352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омощь продавцам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28256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1628640"/>
            <a:ext cx="711648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7:59:40Z</dcterms:created>
  <dc:creator>САШУЛЬКА</dc:creator>
  <dc:description/>
  <dc:language>en-US</dc:language>
  <cp:lastModifiedBy>ANDREY64</cp:lastModifiedBy>
  <dcterms:modified xsi:type="dcterms:W3CDTF">2018-02-04T14:55:51Z</dcterms:modified>
  <cp:revision>4</cp:revision>
  <dc:subject/>
  <dc:title>Мультимедийная разработка к конспекту НОД: «Открытие магазина игрушек»  Выполнила: воспитатель Трошкина А.О.</dc:title>
</cp:coreProperties>
</file>