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8620-B275-44CA-A322-05EAF5BF5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E88E-7B03-4660-AA24-4AB8CA9C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B8CB-EC98-4D52-A8D5-6AAEBA878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165F-7667-4841-A7C9-3E89108DD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D065-7BBC-48EE-AD25-A3C4248A3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95C3B-B4ED-48F4-BBA1-6B21FEE5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AA92-085D-4917-9E01-ABC55021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EBED-5548-47AA-899E-66DEB1D8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FCBC-08FB-4D56-B128-51435CCF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A9B1-26CB-4543-B0F5-85835633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28AF-F7DC-47B0-9C33-76B768FA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4D0B-727E-4908-83C6-A7CDC6E7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CFC9-3CFB-4E1B-9C4C-EF71483B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E993-A943-40DD-B916-0C4E7DDA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E970B-2507-4AD3-95E4-563CD784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80864-19AA-49E0-BB0D-7C8442919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1177-3B82-44E5-8451-A1DC191BC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2482D-B4DD-411E-AD17-9FCEB3250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22695-75E0-4C6E-9AD8-AC48AEE3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D0AD0-E9DE-4516-ABA0-32745E8A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E9051-BECC-41AA-A55B-186044A7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06A98-0A04-4A55-BAF4-779D560A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3291-CB5F-4673-8AA3-83308DDF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5DD8C-3BE6-47CA-B65B-7C88FAB9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9AFE1-E31B-4662-B727-E90FD535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6F7AC-6AD1-4609-9CF4-EF9D0349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F8FA6-6A12-4D25-8970-691C8ACD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4A93D-1A76-4CE7-978B-C76A642E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F1578-6271-4C93-BF13-A8C4A9EF5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B598F-6DBB-489D-A541-4026C843D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581B9-398A-4A86-8729-5ED7EE281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B7C4E-19C1-47AC-BDD8-43E65052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09B60-2B41-452F-8BB5-ABE7AF40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2231-3067-4A5A-B58B-B4FB5B6A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34888-3B32-4E35-A163-42B5EE71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8E007-BFDC-4B05-874F-96063F95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3E1B1-D85C-4127-8EB0-798DA208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4BDAC-C638-45FA-8088-72451941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AD74D-47A3-4007-BD46-3B517DBD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95F17-3E70-46E1-9008-2FA8AD7B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827E1-29A9-4AF3-8BBE-310BE826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57857-4BA9-44FE-BFF1-8B2E432E8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08114-A21B-438F-B2CA-56C9C101F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F10E8-CDEA-4562-AC9B-B6994319A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6529-3234-43BF-AA6E-A956A4A8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E49BD-6B04-4531-916C-925ECCA2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936F2-34BD-499E-9496-966E598D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B4557-2BFB-4B23-8773-BBE7E91E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31978-24C6-4756-8100-02F97616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79CD0-7EA4-43BF-9B0D-9984DC83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D739D-1553-42A0-A50F-4A1A71F1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99E44-E79E-49BF-A7B8-0EEBE2AF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DC184-7375-46A0-B0C6-1793478D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945EF-7073-4A6C-AA5F-895C1281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ACC52-0D57-43CB-A1BE-9D388C028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AB9D-EBD0-4FEA-A456-F898DD19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5B556-B253-4B2A-9D80-EFC39C501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3F218-78D8-4C54-92E5-5E3A551CA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7E1EF-C89F-4EBA-870C-717BFB14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C6738-2944-4758-8350-F879A8A8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62A0A-6798-4280-B264-E9E62B78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81C2D-BAAB-4DA1-B3CE-18ECFF9E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23F6B-627F-469D-B28D-B5572D64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B3C9C-9F9E-4CDD-813B-1BDF1BDF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57158-CC81-4C6A-AF6F-B7131896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E7B57-BAF7-495A-8F3D-11A38922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DC4D-5E93-4228-A1C5-4791F51C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79348-70F5-4E08-94D9-7441714B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CED47-B17C-4DFC-8B97-BA37D62B2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5B595-6AC5-4BED-A922-76B2A6276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7143E-B503-48A7-AB8E-FAC574BA0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21A3B-3184-4FAE-AEE6-BD383FFC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3C7E0-0532-427B-8CA1-3F94CEFE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538B3-7F6B-4624-AFE7-1D3725ED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3BAA1-223D-4B22-B829-33283A84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7E4CB-3471-443D-BD36-D52E4D5E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5581D-7D0D-4F97-A769-11547FD9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B611-BA15-49D7-AD76-ED800B70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CB29C-006E-4505-A67C-90F67271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C7180-27B9-478F-9CAB-D1391C20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F44D2-DBFB-4479-BE87-4F4B9C4A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D9F09-EAF5-490D-B699-F60CCCA67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E1F82-710B-4670-9E68-BB95A409F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8257-C00B-4101-912E-E31F6EE9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E085-487D-463B-A352-B2992ED63A8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B9DC-A99E-4A9D-B7D8-1091FC3AD2B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0077-767F-464A-81B5-B9D42F2BC36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2521-C451-4D9D-B779-9A44FC45898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B50F-9B8C-4271-ADC6-0E3EBE20416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71E6-BAD3-4EFE-BA30-FB7FF3BD15A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1B0F-B459-4DC7-BB39-AFFFC555F14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1440" y="1071360"/>
            <a:ext cx="77025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300" spc="-1" strike="noStrike">
                <a:solidFill>
                  <a:srgbClr val="9900cc"/>
                </a:solidFill>
                <a:latin typeface="Monotype Corsiva"/>
              </a:rPr>
              <a:t>Творческий проект  «Изготовление панно в технике вышивки бисером»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-214560" y="4643280"/>
            <a:ext cx="705780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33cc"/>
                </a:solidFill>
                <a:latin typeface="Calibri"/>
              </a:rPr>
              <a:t>Выполнил: </a:t>
            </a:r>
            <a:r>
              <a:rPr b="0" lang="ru-RU" sz="2700" spc="-1" strike="noStrike">
                <a:solidFill>
                  <a:srgbClr val="ff33cc"/>
                </a:solidFill>
                <a:latin typeface="Arial"/>
              </a:rPr>
              <a:t>Серобаба Любовь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33cc"/>
                </a:solidFill>
                <a:latin typeface="Calibri"/>
              </a:rPr>
              <a:t>МОУ СОШ №17 с.Новостройка, 10класс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33cc"/>
                </a:solidFill>
                <a:latin typeface="Calibri"/>
              </a:rPr>
              <a:t>Руководитель: Иорганская Татьяна Анатольевн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33cc"/>
                </a:solidFill>
                <a:latin typeface="Calibri"/>
              </a:rPr>
              <a:t>2010 год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6" descr="C:\Documents and Settings\All Users\Документы\Мои рисунки\Образцы рисунков\Закат.jpg"/>
          <p:cNvPicPr/>
          <p:nvPr/>
        </p:nvPicPr>
        <p:blipFill>
          <a:blip r:embed="rId1"/>
          <a:stretch/>
        </p:blipFill>
        <p:spPr>
          <a:xfrm>
            <a:off x="571680" y="285840"/>
            <a:ext cx="1714320" cy="2286000"/>
          </a:xfrm>
          <a:prstGeom prst="rect">
            <a:avLst/>
          </a:prstGeom>
          <a:ln w="0">
            <a:noFill/>
          </a:ln>
        </p:spPr>
      </p:pic>
      <p:pic>
        <p:nvPicPr>
          <p:cNvPr id="290" name="Рисунок 4" descr="S8003968.JPG"/>
          <p:cNvPicPr/>
          <p:nvPr/>
        </p:nvPicPr>
        <p:blipFill>
          <a:blip r:embed="rId2"/>
          <a:stretch/>
        </p:blipFill>
        <p:spPr>
          <a:xfrm>
            <a:off x="6286680" y="4643280"/>
            <a:ext cx="242856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cc"/>
                </a:solidFill>
                <a:latin typeface="Monotype Corsiva"/>
              </a:rPr>
              <a:t>Материалы и инструменты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cc"/>
                </a:solidFill>
                <a:latin typeface="Calibri"/>
              </a:rPr>
              <a:t>Пяльцы, тонкая игла, наперсток, ножницы, карандаш, утюг, кл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cc"/>
                </a:solidFill>
                <a:latin typeface="Calibri"/>
              </a:rPr>
              <a:t>Ткань для фона панно: шелк, лен, ситец, канва. Я выбираю канву, так как она больше подходит для вышивки бисер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cc"/>
                </a:solidFill>
                <a:latin typeface="Calibri"/>
              </a:rPr>
              <a:t>Разноцветный бисе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Calibri"/>
              </a:rPr>
              <a:t>Дополнительные материал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cc"/>
                </a:solidFill>
                <a:latin typeface="Calibri"/>
              </a:rPr>
              <a:t>Рамка размером 120 * 180 м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cc"/>
                </a:solidFill>
                <a:latin typeface="Monotype Corsiva"/>
              </a:rPr>
              <a:t>Технологическая карта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468360" y="1268280"/>
          <a:ext cx="8229600" cy="5354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4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Эта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Содержание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Инструменты и приспособ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Создание эскиза в цвете (подбор рисунк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Схема  для вышивки крест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Подготовка рисунка к вышив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Разграфить канву на клетки (размер клетки равен диаметру бисерины = 2,5 м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Карандаш, линей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Подбор бисера по цве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0000ff"/>
                        </a:buClr>
                        <a:buSzPct val="9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Подобрать цветовую гамму бисера в соответствии с рисунко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Пяльц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8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8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8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8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"/>
          <p:cNvGraphicFramePr/>
          <p:nvPr/>
        </p:nvGraphicFramePr>
        <p:xfrm>
          <a:off x="468360" y="260280"/>
          <a:ext cx="8229600" cy="6553440"/>
        </p:xfrm>
        <a:graphic>
          <a:graphicData uri="http://schemas.openxmlformats.org/drawingml/2006/table">
            <a:tbl>
              <a:tblPr/>
              <a:tblGrid>
                <a:gridCol w="2386080"/>
                <a:gridCol w="3313080"/>
                <a:gridCol w="25304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2.Проверить сочетание цветов бисера друг с друго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Вышивание  картины бисеро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Мысленно разделить рисунок на квадраты. Вышивать швом «назад иголку» по  одной бисерин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Пяльцы, игла, наперсток, ножницы, нит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Оформление готовой карт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0000ff"/>
                        </a:buClr>
                        <a:buSzPct val="9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Вырезать лист картона по размеру изображе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0000ff"/>
                        </a:buClr>
                        <a:buSzPct val="9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Наложить лист картона на изнаночную сторону ткан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0000ff"/>
                        </a:buClr>
                        <a:buSzPct val="9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Отогнуть края ткани на лист картона и заши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0000ff"/>
                        </a:buClr>
                        <a:buSzPct val="9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Вставить картину в рамк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Линейка, карандаш, ножниц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Нитки, иг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к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8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8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8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8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cc"/>
                </a:solidFill>
                <a:latin typeface="Monotype Corsiva"/>
              </a:rPr>
              <a:t>Маркетинговое исследовани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395280" y="1628640"/>
          <a:ext cx="8424720" cy="4484880"/>
        </p:xfrm>
        <a:graphic>
          <a:graphicData uri="http://schemas.openxmlformats.org/drawingml/2006/table">
            <a:tbl>
              <a:tblPr/>
              <a:tblGrid>
                <a:gridCol w="2106720"/>
                <a:gridCol w="2106360"/>
                <a:gridCol w="2105280"/>
                <a:gridCol w="2106360"/>
              </a:tblGrid>
              <a:tr h="124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Всего опрошен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Нрави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Равнодуш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Не нрави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Из них: друзья –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Родственники – 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9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0,8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91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Вывод: 98% - составляют люди, которым нравится мое издели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14400" y="1125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Вопрос: Нравится ли вам мое издели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Monotype Corsiva"/>
              </a:rPr>
              <a:t>Расчет себестоимости издел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250920" y="1197000"/>
          <a:ext cx="8893080" cy="5197320"/>
        </p:xfrm>
        <a:graphic>
          <a:graphicData uri="http://schemas.openxmlformats.org/drawingml/2006/table">
            <a:tbl>
              <a:tblPr/>
              <a:tblGrid>
                <a:gridCol w="649080"/>
                <a:gridCol w="2908440"/>
                <a:gridCol w="1778040"/>
                <a:gridCol w="1779480"/>
                <a:gridCol w="1778040"/>
              </a:tblGrid>
              <a:tr h="78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20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Цена за единиц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Количе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Сум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бис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10 пач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кан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1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1 ш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нит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1 ш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Итого: 310 рубле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6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Амортизация оборудования: ножницы = 3% от стоимости = 0,9 рублей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линейка = 3% от стоимости = 0,3 рубля , пяльцы – 7рублей 50 коп., наперсток – 0,3 рубле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Итого: 9 руб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Общая стоимость составляет: 310 рублей + 9 рублей = 319 рубле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ывод: В сравнении с рыночной ценой, данное изделие обошлось для меня дешевл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33cc"/>
                </a:solidFill>
                <a:latin typeface="Monotype Corsiva"/>
              </a:rPr>
              <a:t>Экологическая оцен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Calibri"/>
              </a:rPr>
              <a:t>Я не вижу серьезных проблем, которые могут возникнуть при массовом использовании данного проекта, потому что все материалы – экологически чисты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Monotype Corsiva"/>
              </a:rPr>
              <a:t>Оценка </a:t>
            </a:r>
            <a:r>
              <a:rPr b="0" lang="ru-RU" sz="5400" spc="-1" strike="noStrike">
                <a:solidFill>
                  <a:srgbClr val="ff33cc"/>
                </a:solidFill>
                <a:latin typeface="Monotype Corsiva"/>
              </a:rPr>
              <a:t>издел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Calibri"/>
              </a:rPr>
              <a:t>Удалось мне решить проблему? Я показала работу дома и всем очень понравилось, теперь я жду самой главной оценки: что скажет мама. День рождения еще вперед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Monotype Corsiva"/>
              </a:rPr>
              <a:t>Библиограф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Calibri"/>
              </a:rPr>
              <a:t>В.Д. Симоненко «Технология 10 класс». Москва. «Вентана – Граф». 2005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Calibri"/>
              </a:rPr>
              <a:t>Журнал «Школа и производство» №7 2003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Calibri"/>
              </a:rPr>
              <a:t>Интернет ресурс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33cc"/>
                </a:solidFill>
                <a:latin typeface="Calibri"/>
              </a:rPr>
              <a:t>Спасибо за внимание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33cc"/>
                </a:solidFill>
                <a:latin typeface="Monotype Corsiva"/>
              </a:rPr>
              <a:t>Содержание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Calibri"/>
              </a:rPr>
              <a:t>Цели и задачи проек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Calibri"/>
              </a:rPr>
              <a:t>Обоснование выбора проек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Calibri"/>
              </a:rPr>
              <a:t>История вышивки бисер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Calibri"/>
              </a:rPr>
              <a:t>Краткое описание дизайнерской задач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Calibri"/>
              </a:rPr>
              <a:t>Материалы и инструмен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Calibri"/>
              </a:rPr>
              <a:t>Технологическая кар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Calibri"/>
              </a:rPr>
              <a:t>Маркетинговые исследов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Calibri"/>
              </a:rPr>
              <a:t>Расчет себестоимости издел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Calibri"/>
              </a:rPr>
              <a:t>Экологическая оцен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Calibri"/>
              </a:rPr>
              <a:t>Оценка издел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cc"/>
                </a:solidFill>
                <a:latin typeface="Monotype Corsiva"/>
              </a:rPr>
              <a:t>Цель</a:t>
            </a:r>
            <a:r>
              <a:rPr b="1" lang="ru-RU" sz="4000" spc="-1" strike="noStrike">
                <a:solidFill>
                  <a:srgbClr val="ff33cc"/>
                </a:solidFill>
                <a:latin typeface="Monotype Corsiva"/>
              </a:rPr>
              <a:t>  И ЗАДАЧ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Calibri"/>
              </a:rPr>
              <a:t>Изготовить панно в технике ручной вышивки бисер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Calibri"/>
              </a:rPr>
              <a:t>Оценить свои возможности в проектной обла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Calibri"/>
              </a:rPr>
              <a:t>Разработать и выполнить проек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Calibri"/>
              </a:rPr>
              <a:t>Подобрать инструменты и приспособления для различных операц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Calibri"/>
              </a:rPr>
              <a:t>Выбрать материа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Calibri"/>
              </a:rPr>
              <a:t>По проекту изготовить издел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Calibri"/>
              </a:rPr>
              <a:t>Оценить проделанную работ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33cc"/>
                </a:solidFill>
                <a:latin typeface="Monotype Corsiva"/>
              </a:rPr>
              <a:t>Обоснование выбранного проекта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Calibri"/>
              </a:rPr>
              <a:t>У меня проблема: что подарить маме в день рождения? Что можно подарить маме, чтобы ей было особенно приятно? Конечно</a:t>
            </a:r>
            <a:r>
              <a:rPr b="0" lang="ru-RU" sz="2800" spc="-1" strike="noStrike">
                <a:solidFill>
                  <a:srgbClr val="9900cc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9900cc"/>
                </a:solidFill>
                <a:latin typeface="Calibri"/>
              </a:rPr>
              <a:t> что-то, сделанное своими руками, поэтому все идеи, связанные с покупкой готовых подарков в магазине не годятся. В этом году на уроках технологии я научилась вышивать бисером, и </a:t>
            </a:r>
            <a:r>
              <a:rPr b="0" lang="ru-RU" sz="2800" spc="-1" strike="noStrike">
                <a:solidFill>
                  <a:srgbClr val="9900cc"/>
                </a:solidFill>
                <a:latin typeface="Arial"/>
              </a:rPr>
              <a:t> люблю</a:t>
            </a:r>
            <a:r>
              <a:rPr b="0" lang="ru-RU" sz="2800" spc="-1" strike="noStrike">
                <a:solidFill>
                  <a:srgbClr val="9900cc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Arial"/>
              </a:rPr>
              <a:t>создавать картины из разноцветного бисера</a:t>
            </a:r>
            <a:r>
              <a:rPr b="0" lang="ru-RU" sz="2800" spc="-1" strike="noStrike">
                <a:solidFill>
                  <a:srgbClr val="9900cc"/>
                </a:solidFill>
                <a:latin typeface="Calibri"/>
              </a:rPr>
              <a:t>. Эта идея мне нравится. </a:t>
            </a:r>
            <a:r>
              <a:rPr b="0" lang="ru-RU" sz="2800" spc="-1" strike="noStrike">
                <a:solidFill>
                  <a:srgbClr val="9900cc"/>
                </a:solidFill>
                <a:latin typeface="Arial"/>
              </a:rPr>
              <a:t>П</a:t>
            </a:r>
            <a:r>
              <a:rPr b="0" lang="ru-RU" sz="2800" spc="-1" strike="noStrike">
                <a:solidFill>
                  <a:srgbClr val="9900cc"/>
                </a:solidFill>
                <a:latin typeface="Calibri"/>
              </a:rPr>
              <a:t>одарю маме картину, которая будет радовать и украшать интерьер комнаты.</a:t>
            </a:r>
            <a:r>
              <a:rPr b="0" lang="ru-RU" sz="2800" spc="-1" strike="noStrike">
                <a:solidFill>
                  <a:srgbClr val="9900cc"/>
                </a:solidFill>
                <a:latin typeface="Arial"/>
              </a:rPr>
              <a:t> Для работы подойдет схема вышивки крестом, канву и бисер можно купить в магазине, а папа сделает рамочку из реечек или купит готову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33cc"/>
                </a:solidFill>
                <a:latin typeface="Monotype Corsiva"/>
              </a:rPr>
              <a:t>Бисер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Бисер – мелкие шарики, цилиндрики, многогранники из стекла, металла, пластмассы или кости со сквозными отверстиями для низания. Наиболее распространен круглый бисер. Размер бисера обозначают номером, чем мельче бисер, тем больше номе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Picture 13" descr="i?id=175640363&amp;tov=0"/>
          <p:cNvPicPr/>
          <p:nvPr/>
        </p:nvPicPr>
        <p:blipFill>
          <a:blip r:embed="rId1"/>
          <a:stretch/>
        </p:blipFill>
        <p:spPr>
          <a:xfrm>
            <a:off x="4500720" y="1643040"/>
            <a:ext cx="1871640" cy="21607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5" descr="i?id=41276763&amp;tov=7"/>
          <p:cNvPicPr/>
          <p:nvPr/>
        </p:nvPicPr>
        <p:blipFill>
          <a:blip r:embed="rId2"/>
          <a:stretch/>
        </p:blipFill>
        <p:spPr>
          <a:xfrm>
            <a:off x="5929200" y="4071960"/>
            <a:ext cx="23702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8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8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8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8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33cc"/>
                </a:solidFill>
                <a:latin typeface="Monotype Corsiva"/>
              </a:rPr>
              <a:t>Виды бисер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0040" y="3929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cc"/>
                </a:solidFill>
                <a:latin typeface="Arial"/>
              </a:rPr>
              <a:t>Стеклярус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800080"/>
                </a:solidFill>
                <a:latin typeface="Arial"/>
              </a:rPr>
              <a:t>трубочки из цветного стекла. Для разных целей изготовляют разных размеров, цветов, формы. Встречается витой и граненый. Размер стекляруса - его дли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13" descr="i?id=206791913&amp;tov=7"/>
          <p:cNvPicPr/>
          <p:nvPr/>
        </p:nvPicPr>
        <p:blipFill>
          <a:blip r:embed="rId1"/>
          <a:stretch/>
        </p:blipFill>
        <p:spPr>
          <a:xfrm>
            <a:off x="5214960" y="1357200"/>
            <a:ext cx="2357280" cy="21160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5" descr="i?id=121548707&amp;tov=0"/>
          <p:cNvPicPr/>
          <p:nvPr/>
        </p:nvPicPr>
        <p:blipFill>
          <a:blip r:embed="rId2"/>
          <a:stretch/>
        </p:blipFill>
        <p:spPr>
          <a:xfrm>
            <a:off x="5500800" y="3929040"/>
            <a:ext cx="1917720" cy="1917720"/>
          </a:xfrm>
          <a:prstGeom prst="rect">
            <a:avLst/>
          </a:prstGeom>
          <a:ln w="0">
            <a:noFill/>
          </a:ln>
        </p:spPr>
      </p:pic>
      <p:sp>
        <p:nvSpPr>
          <p:cNvPr id="306" name="Прямоугольник 6"/>
          <p:cNvSpPr/>
          <p:nvPr/>
        </p:nvSpPr>
        <p:spPr>
          <a:xfrm>
            <a:off x="846000" y="1225440"/>
            <a:ext cx="2928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cc"/>
                </a:solidFill>
                <a:latin typeface="Arial"/>
              </a:rPr>
              <a:t>Рублены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800080"/>
                </a:solidFill>
                <a:latin typeface="Arial"/>
              </a:rPr>
              <a:t>– цилиндрики (короткие трубочки). Бывает обычный, дополнительно прессованный. Иногда имеет необработанные края, которые режут н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8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4428720" y="500040"/>
            <a:ext cx="44290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Бусины</a:t>
            </a: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 – крупнее бисера. Граненые бусины называют «</a:t>
            </a:r>
            <a:r>
              <a:rPr b="0" lang="ru-RU" sz="2800" spc="-1" strike="noStrike">
                <a:solidFill>
                  <a:srgbClr val="9900cc"/>
                </a:solidFill>
                <a:latin typeface="Arial"/>
              </a:rPr>
              <a:t>кристаллами</a:t>
            </a: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», а вытянутые «рисом».Бусины выполняют из различных материал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14"/>
          <p:cNvSpPr/>
          <p:nvPr/>
        </p:nvSpPr>
        <p:spPr>
          <a:xfrm>
            <a:off x="611280" y="2421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7" descr="i?id=97173755&amp;tov=3"/>
          <p:cNvPicPr/>
          <p:nvPr/>
        </p:nvPicPr>
        <p:blipFill>
          <a:blip r:embed="rId1"/>
          <a:stretch/>
        </p:blipFill>
        <p:spPr>
          <a:xfrm>
            <a:off x="714240" y="3857760"/>
            <a:ext cx="3524400" cy="2357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9" descr="i?id=160679020&amp;tov=3"/>
          <p:cNvPicPr/>
          <p:nvPr/>
        </p:nvPicPr>
        <p:blipFill>
          <a:blip r:embed="rId2"/>
          <a:stretch/>
        </p:blipFill>
        <p:spPr>
          <a:xfrm>
            <a:off x="714240" y="571680"/>
            <a:ext cx="2525760" cy="2071440"/>
          </a:xfrm>
          <a:prstGeom prst="rect">
            <a:avLst/>
          </a:prstGeom>
          <a:ln w="0">
            <a:noFill/>
          </a:ln>
        </p:spPr>
      </p:pic>
      <p:sp>
        <p:nvSpPr>
          <p:cNvPr id="311" name="Прямоугольник 7"/>
          <p:cNvSpPr/>
          <p:nvPr/>
        </p:nvSpPr>
        <p:spPr>
          <a:xfrm>
            <a:off x="5000760" y="3643200"/>
            <a:ext cx="39290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Косая рубка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0099"/>
                </a:solidFill>
                <a:latin typeface="Arial"/>
              </a:rPr>
              <a:t>короткие стеклянные трубочки, отрубленные под углом 45-60. Из косой рубки получается неровная поверхность, и это выглядит интересно, наря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cc"/>
                </a:solidFill>
                <a:latin typeface="Monotype Corsiva"/>
              </a:rPr>
              <a:t>История бисе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56760" y="3928680"/>
            <a:ext cx="403884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Чешские мастера в 18 веке открыли новые технологии производства бисера высокого качества. Богемский бисер стал более разнообразным по размерам, форме, цвет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Picture 8" descr="i?id=60258203&amp;tov=6"/>
          <p:cNvPicPr/>
          <p:nvPr/>
        </p:nvPicPr>
        <p:blipFill>
          <a:blip r:embed="rId1"/>
          <a:stretch/>
        </p:blipFill>
        <p:spPr>
          <a:xfrm>
            <a:off x="6858000" y="428760"/>
            <a:ext cx="1708200" cy="20714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2" descr="i?id=120907250&amp;tov=3"/>
          <p:cNvPicPr/>
          <p:nvPr/>
        </p:nvPicPr>
        <p:blipFill>
          <a:blip r:embed="rId2"/>
          <a:stretch/>
        </p:blipFill>
        <p:spPr>
          <a:xfrm>
            <a:off x="5715000" y="4286160"/>
            <a:ext cx="2357280" cy="22273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i?id=60773847&amp;tov=6"/>
          <p:cNvPicPr/>
          <p:nvPr/>
        </p:nvPicPr>
        <p:blipFill>
          <a:blip r:embed="rId3"/>
          <a:stretch/>
        </p:blipFill>
        <p:spPr>
          <a:xfrm>
            <a:off x="4786200" y="2500200"/>
            <a:ext cx="1943280" cy="1513080"/>
          </a:xfrm>
          <a:prstGeom prst="rect">
            <a:avLst/>
          </a:prstGeom>
          <a:ln w="0">
            <a:noFill/>
          </a:ln>
        </p:spPr>
      </p:pic>
      <p:sp>
        <p:nvSpPr>
          <p:cNvPr id="317" name="Прямоугольник 8"/>
          <p:cNvSpPr/>
          <p:nvPr/>
        </p:nvSpPr>
        <p:spPr>
          <a:xfrm>
            <a:off x="500040" y="1285920"/>
            <a:ext cx="4572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Раньше всех бисером стали заниматься в Древнем Египте – и ожерелья плели, и браслеты низали, и даже платья покрывали бисерными стекл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9"/>
          <p:cNvSpPr/>
          <p:nvPr/>
        </p:nvSpPr>
        <p:spPr>
          <a:xfrm>
            <a:off x="571680" y="2643120"/>
            <a:ext cx="4572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В 5 веке н.э. через Византию стеклоделие проникает в Венецию. Именно здесь возникает крупнейший центр производства бис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cc"/>
                </a:solidFill>
                <a:latin typeface="Monotype Corsiva"/>
              </a:rPr>
              <a:t>Поиск вариантов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Picture 11" descr="леб"/>
          <p:cNvPicPr/>
          <p:nvPr/>
        </p:nvPicPr>
        <p:blipFill>
          <a:blip r:embed="rId1"/>
          <a:stretch/>
        </p:blipFill>
        <p:spPr>
          <a:xfrm>
            <a:off x="179280" y="1557360"/>
            <a:ext cx="2689200" cy="218772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28760" y="4500360"/>
            <a:ext cx="8229600" cy="21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Calibri"/>
              </a:rPr>
              <a:t>Я выбираю вариант 2, так как считаю е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Calibri"/>
              </a:rPr>
              <a:t>Наиболее креативн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Calibri"/>
              </a:rPr>
              <a:t>Наиболее гармонирующим по дизайну с интерьером маминой комна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Calibri"/>
              </a:rPr>
              <a:t>Наиболее эстетичн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Picture 12" descr="лебеди"/>
          <p:cNvPicPr/>
          <p:nvPr/>
        </p:nvPicPr>
        <p:blipFill>
          <a:blip r:embed="rId2"/>
          <a:stretch/>
        </p:blipFill>
        <p:spPr>
          <a:xfrm>
            <a:off x="6000840" y="1571760"/>
            <a:ext cx="2762280" cy="2071440"/>
          </a:xfrm>
          <a:prstGeom prst="rect">
            <a:avLst/>
          </a:prstGeom>
          <a:ln w="0">
            <a:noFill/>
          </a:ln>
        </p:spPr>
      </p:pic>
      <p:pic>
        <p:nvPicPr>
          <p:cNvPr id="323" name="Рисунок 5" descr="S8003968.JPG"/>
          <p:cNvPicPr/>
          <p:nvPr/>
        </p:nvPicPr>
        <p:blipFill>
          <a:blip r:embed="rId3"/>
          <a:stretch/>
        </p:blipFill>
        <p:spPr>
          <a:xfrm>
            <a:off x="3071880" y="1643040"/>
            <a:ext cx="2428920" cy="2000160"/>
          </a:xfrm>
          <a:prstGeom prst="rect">
            <a:avLst/>
          </a:prstGeom>
          <a:ln w="0">
            <a:noFill/>
          </a:ln>
        </p:spPr>
      </p:pic>
      <p:sp>
        <p:nvSpPr>
          <p:cNvPr id="324" name="Прямоугольник 6"/>
          <p:cNvSpPr/>
          <p:nvPr/>
        </p:nvSpPr>
        <p:spPr>
          <a:xfrm>
            <a:off x="4218120" y="378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7"/>
          <p:cNvSpPr/>
          <p:nvPr/>
        </p:nvSpPr>
        <p:spPr>
          <a:xfrm flipH="1">
            <a:off x="1356480" y="378612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8"/>
          <p:cNvSpPr/>
          <p:nvPr/>
        </p:nvSpPr>
        <p:spPr>
          <a:xfrm>
            <a:off x="7361640" y="378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8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08:34:57Z</dcterms:created>
  <dc:creator>User</dc:creator>
  <dc:description/>
  <dc:language>en-US</dc:language>
  <cp:lastModifiedBy>user</cp:lastModifiedBy>
  <dcterms:modified xsi:type="dcterms:W3CDTF">2018-02-04T13:26:15Z</dcterms:modified>
  <cp:revision>24</cp:revision>
  <dc:subject/>
  <dc:title>Творческий проект</dc:title>
</cp:coreProperties>
</file>