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0CA-6775-4263-9349-C5560F5F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702-D7E7-43C0-83F6-1FF8F221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8E5-8787-461F-A83C-BEE9C5BB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946-0DE3-4C4C-B194-A590F11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6CE-3DBF-4197-8D47-E794A54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6EB-B7F8-4C5F-9BE2-4690DDCE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E55-89D0-4604-BE21-4FAC5E73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0AB-4947-42D6-9D9C-A7A33BE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747-F0B3-4022-88F3-6C69933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897-3AD9-4EC0-8F56-06F9481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5E1-18DF-40CD-B5AF-23CD9CA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6FB-47E9-4948-833B-2BB6427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EA47-60DA-437C-B717-65A88F8C4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weet_2106845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95280" y="2781360"/>
            <a:ext cx="720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следование различных сортов меда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5508720" y="4221000"/>
            <a:ext cx="31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боту выполнил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ченица 10 класс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фанасьева Мар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908000" y="260280"/>
            <a:ext cx="50421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 и вы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6" descr="http://img-fotki.yandex.ru/get/4411/22940480.12/0_65094_a7d6a007_XL"/>
          <p:cNvPicPr/>
          <p:nvPr/>
        </p:nvPicPr>
        <p:blipFill>
          <a:blip r:embed="rId1"/>
          <a:stretch/>
        </p:blipFill>
        <p:spPr>
          <a:xfrm>
            <a:off x="3348000" y="2924280"/>
            <a:ext cx="5616720" cy="3749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092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-за растущих потребностей человека в качественных продуктах пчеловодства параллельно происходит усиление контроля качества этих продуктов, но современный человек должен знать, как отличить поддел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2171880" y="3170160"/>
            <a:ext cx="51368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059280" y="333360"/>
            <a:ext cx="59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течение тысячелетий люди потребляли мед, не задумываясь о его качестве. Это было связано с тем, что он был единственным источником сладости и подделать или заменить его было нече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оследние годы возникла проблема с определением качества меда. Мёд является одним из наиболее часто фальсифицируемых пищевых продуктов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93864c15f465"/>
          <p:cNvPicPr/>
          <p:nvPr/>
        </p:nvPicPr>
        <p:blipFill>
          <a:blip r:embed="rId1"/>
          <a:stretch/>
        </p:blipFill>
        <p:spPr>
          <a:xfrm>
            <a:off x="324000" y="3141720"/>
            <a:ext cx="5184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340000" y="476280"/>
            <a:ext cx="403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туальность работ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26920" y="1197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ребители должны знать о существовании фальсификатов меда и уметь их распозн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851280" y="476280"/>
            <a:ext cx="1133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3280" y="1341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ние меда разных производителей на фальсификац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0680" y="1427760"/>
            <a:ext cx="795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Изучить состав мё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Провести качественные реакции с разли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зцами мё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Охарактеризовать физические свойства образ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Проанализировать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Сделать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6300720" y="476280"/>
            <a:ext cx="1746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6666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дач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6666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11" descr="3983300"/>
          <p:cNvPicPr/>
          <p:nvPr/>
        </p:nvPicPr>
        <p:blipFill>
          <a:blip r:embed="rId3"/>
          <a:stretch/>
        </p:blipFill>
        <p:spPr>
          <a:xfrm>
            <a:off x="900000" y="2492280"/>
            <a:ext cx="582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332000" y="404640"/>
            <a:ext cx="6362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использования ме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6" descr="0_d6bbb_fd15726e_XL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314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19764188_vasnecov_105"/>
          <p:cNvPicPr/>
          <p:nvPr/>
        </p:nvPicPr>
        <p:blipFill>
          <a:blip r:embed="rId2"/>
          <a:stretch/>
        </p:blipFill>
        <p:spPr>
          <a:xfrm>
            <a:off x="3635280" y="2924280"/>
            <a:ext cx="5256360" cy="3749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4643280" y="1341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Древний Еги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24000" y="57340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Древняя 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468360" y="260280"/>
            <a:ext cx="372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же такое мед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8360" y="1052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Мё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это продукт переработки пчелами нектара цветочных растений, пади и других сахарист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44378a2c90b6355aeda98adc086c48a3"/>
          <p:cNvPicPr/>
          <p:nvPr/>
        </p:nvPicPr>
        <p:blipFill>
          <a:blip r:embed="rId3"/>
          <a:stretch/>
        </p:blipFill>
        <p:spPr>
          <a:xfrm>
            <a:off x="3276720" y="1916280"/>
            <a:ext cx="517212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falshiviy%20med"/>
          <p:cNvPicPr/>
          <p:nvPr/>
        </p:nvPicPr>
        <p:blipFill>
          <a:blip r:embed="rId4"/>
          <a:stretch/>
        </p:blipFill>
        <p:spPr>
          <a:xfrm>
            <a:off x="4427640" y="404640"/>
            <a:ext cx="43336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99280" y="36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TOP%20honey"/>
          <p:cNvPicPr/>
          <p:nvPr/>
        </p:nvPicPr>
        <p:blipFill>
          <a:blip r:embed="rId5"/>
          <a:stretch/>
        </p:blipFill>
        <p:spPr>
          <a:xfrm>
            <a:off x="539640" y="3319560"/>
            <a:ext cx="4896000" cy="3274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3419640" y="6021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5292720" y="333360"/>
            <a:ext cx="32288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чество мед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826920" y="1341360"/>
            <a:ext cx="4465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онсист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розр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ристал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Аро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л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4356000" y="1197000"/>
            <a:ext cx="1295640" cy="4968720"/>
          </a:xfrm>
          <a:custGeom>
            <a:avLst/>
            <a:gdLst>
              <a:gd name="textAreaLeft" fmla="*/ 0 w 1295640"/>
              <a:gd name="textAreaRight" fmla="*/ 468000 w 1295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724360" y="342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СТ 19792-200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79640" y="404640"/>
            <a:ext cx="4686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73000"/>
                  </a:blip>
                  <a:srcRect/>
                  <a:tile tx="0" ty="0" sx="100000" sy="100000" algn="ctr"/>
                </a:blipFill>
                <a:latin typeface="Arial"/>
              </a:rPr>
              <a:t>Исследование образц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73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0" name="Picture 5" descr="DSCF2156"/>
          <p:cNvPicPr/>
          <p:nvPr/>
        </p:nvPicPr>
        <p:blipFill>
          <a:blip r:embed="rId3"/>
          <a:stretch/>
        </p:blipFill>
        <p:spPr>
          <a:xfrm>
            <a:off x="0" y="0"/>
            <a:ext cx="6192720" cy="464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SCF2173"/>
          <p:cNvPicPr/>
          <p:nvPr/>
        </p:nvPicPr>
        <p:blipFill>
          <a:blip r:embed="rId4"/>
          <a:stretch/>
        </p:blipFill>
        <p:spPr>
          <a:xfrm>
            <a:off x="5292720" y="3498840"/>
            <a:ext cx="3851280" cy="335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SCF2121"/>
          <p:cNvPicPr/>
          <p:nvPr/>
        </p:nvPicPr>
        <p:blipFill>
          <a:blip r:embed="rId5"/>
          <a:stretch/>
        </p:blipFill>
        <p:spPr>
          <a:xfrm>
            <a:off x="4776840" y="0"/>
            <a:ext cx="4367160" cy="479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SCF2167"/>
          <p:cNvPicPr/>
          <p:nvPr/>
        </p:nvPicPr>
        <p:blipFill>
          <a:blip r:embed="rId6"/>
          <a:stretch/>
        </p:blipFill>
        <p:spPr>
          <a:xfrm>
            <a:off x="0" y="272736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9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1:04:12Z</dcterms:created>
  <dc:creator>FUDJITSU</dc:creator>
  <dc:description/>
  <dc:language>en-US</dc:language>
  <cp:lastModifiedBy>terkir</cp:lastModifiedBy>
  <dcterms:modified xsi:type="dcterms:W3CDTF">2018-02-04T14:04:44Z</dcterms:modified>
  <cp:revision>11</cp:revision>
  <dc:subject/>
  <dc:title>Слайд 1</dc:title>
</cp:coreProperties>
</file>