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97D-A873-4016-8DDD-78F9A2CA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0E8-6AA4-41BA-A920-D1A39130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0FB-4C5A-41EA-B3CD-AC229D10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D1C-AEB2-456C-844B-3366E04A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F5D9-EFDF-4647-9B7F-830011D5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5009-DC63-433A-818B-D0B6154A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4817-B283-4D96-B2BB-A9B0B732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AB3F-44D4-44F3-AE48-DAA36B8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08F3-C7E4-4CD1-9D9F-E1EBF6D4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A9B1-7CAE-4897-BB0A-F5B5140A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C245-D7F6-4F7B-8362-D6B17059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328-23E8-4765-AEA6-F4E96DE1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AE60-B371-497E-AF35-57A4DB12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9301-0977-49D7-86F8-48A78CA4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2E7F-EA18-43C6-9E66-A3700538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E43C-71AE-42EA-BE5E-D2843E4A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7FF3-89DF-4FE9-B317-30492ED3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4EA-5C37-4C2B-A92A-3C5856F5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1A1-2F20-4013-AA95-0304647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8FE-CE01-4712-B150-2243DF7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898-7B94-48AE-942C-B2B79E2B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941-4A23-407A-BF2F-A3FD2899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901-B0FB-476D-AFAC-AF4ED36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B30-585E-4305-B4E9-2EB1AF2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209A-5F98-4A1F-9D55-CECDC7647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2EE4-4AF9-4D4D-A944-30CE3039B7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ытно-экспериментальная деятельность в ДО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юди, научившиеся наблюдениям и опытам приобретают способность самим ставить вопросы и получать на них фактические ответы, оказываясь на более высоком умственном и нравственном уровне в сравнении с теми, кто такой школы не прош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.Е.Тимиряз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картинка"/>
          <p:cNvPicPr/>
          <p:nvPr/>
        </p:nvPicPr>
        <p:blipFill>
          <a:blip r:embed="rId1"/>
          <a:stretch/>
        </p:blipFill>
        <p:spPr>
          <a:xfrm>
            <a:off x="539640" y="4292640"/>
            <a:ext cx="324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опыты"/>
          <p:cNvPicPr/>
          <p:nvPr/>
        </p:nvPicPr>
        <p:blipFill>
          <a:blip r:embed="rId1"/>
          <a:stretch/>
        </p:blipFill>
        <p:spPr>
          <a:xfrm>
            <a:off x="468360" y="476280"/>
            <a:ext cx="833904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95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старшему дошкольному возрасту заметно нарастают возможности познавательной активности ребёнка, которая находит выражение в форме поисковой, исследовательской деятельности. Такая активность обеспечивает продуктивные формы мышления. При этом главным фактором выступает характер деятельности. По мнению академика Н.Н. Подъякова в опытно – экспериментальной деятельности ребёнок выступает, как своеобразный исследователь, самостоятельно воздействующий различными способами на окружающие его предметы и явления с целью более полного их познания и освоения. В ходе экспериментальной деятельности создаются ситуации, которые ребёнок разрешает посредством проведения опыта и, анализируя, делает вывод, умозаключение, самостоятельно овладевая представлением о том или ином законе или явл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277560"/>
            <a:ext cx="8569080" cy="53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Цели экспериментирования: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азвивать у детей познавательные способности (анализ, синтез, классификация, сравнение, обобщение); Знакомить с различными свойствами веществ (твёрдость, мягкость, сыпучесть и т.д.); с основными видами и характеристиками движения (скорость, направление); с физическими явлениями (магнитное и земное притяжение, электричество, отражение и преломление света и др.)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Формировать у детей элементарные географические представления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азвивать эмоционально-ценностное отношение к окружающему миру. Формировать стремления к выполнению правил техники безопасности при проведении опытов и экспериментов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подготовки эксперимен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Выбор объекта исслед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Предварительная работа (экскурсии, наблюдения, беседы и т.д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Определение типа, вида и тематики экспериме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Выбор цели, задач работы с деть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Предварительная исследовательская работа (в мини-лаборатории или в центре наук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Выбор и подготовка пособий и оборудования с учётом сезона, возраста детей, изучаемой 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Обобщение результатов наблюдений в различных формах (дневники наблюдений, фотографии, рисунки и пр.) 8.Прогнозирование результа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Закрепление последовательности действ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Закрепление правил без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i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ытно - экспериментальная деятельность позволяет объединить все виды деятельности и все стороны воспитания, развивает наблюдательность и пытливость ума, развивает стремление к познанию мира, все познавательные способности, умение изобретать, использовать нестандартные решения в трудных ситуациях, создавать творческую ли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тайская пословица гласи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Расскажи – и я забуд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жи – и я запомн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й попробовать – и я пойму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ваивается все прочно и надолго, когда ребенок слышит, видит и делает 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картинка"/>
          <p:cNvPicPr/>
          <p:nvPr/>
        </p:nvPicPr>
        <p:blipFill>
          <a:blip r:embed="rId1"/>
          <a:stretch/>
        </p:blipFill>
        <p:spPr>
          <a:xfrm>
            <a:off x="539640" y="4292640"/>
            <a:ext cx="324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17:43:12Z</dcterms:created>
  <dc:creator>Игорь</dc:creator>
  <dc:description/>
  <dc:language>en-US</dc:language>
  <cp:lastModifiedBy>uzer</cp:lastModifiedBy>
  <dcterms:modified xsi:type="dcterms:W3CDTF">2017-04-21T10:21:39Z</dcterms:modified>
  <cp:revision>20</cp:revision>
  <dc:subject/>
  <dc:title>Слайд 1</dc:title>
</cp:coreProperties>
</file>