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AF0-00FF-4132-B5A5-865E6D22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7652-8FBF-49B3-912D-311E511A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997-98A5-46DE-94EF-DBF837D0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B8D-7A5B-4345-9A58-0CF18454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EF51-BD10-4F40-89D1-F1443F14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3935-68B5-47C5-B1D5-4321962F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FA15-8199-4CD0-AF5A-90C0026F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A8D5-9A95-450D-A8AC-D75B89A9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1152-AA55-4EF4-8324-C2077A7B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59CC-3D40-46D5-A503-333A8D14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BD23-58E9-4640-9910-4BEF75AC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74A-670E-49B6-ABA8-941DDD49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DFAC-4AEC-47BA-BC1C-AF50A901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A6B3-D31E-4172-9B23-07283DCA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0F18-F707-4706-A02A-B4DCBE91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A00E-38D1-4BA2-8199-994F0B8B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50B1-5F42-4975-8F09-217E0777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A91-B2E3-4848-A544-F5206945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803-1446-4AC0-B7F0-42F99719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ECD-39A3-4A98-9B0F-E256570F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DA8-605A-48E5-9EE9-A0CFA50D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D33-5CD2-48DE-9B96-525C4913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4A3-FF2B-4561-B5CB-69F3FA89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005-6440-4CF9-A561-C44D0A0A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2b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3a74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F8E7-2B03-4562-A2F1-93CCEBC530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264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3a74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3E5F-A974-4090-8413-2CC62301734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Презентация на тему «Домашние животны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00720" y="2923920"/>
            <a:ext cx="4464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ыполнила воспита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БДОУ «ЦРР – детский сад№194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улешова Татьяна Владимир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464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0480" y="274680"/>
            <a:ext cx="776124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90480" y="274680"/>
            <a:ext cx="776124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90480" y="274680"/>
            <a:ext cx="776124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0480" y="274680"/>
            <a:ext cx="776124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90480" y="274680"/>
            <a:ext cx="776124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0480" y="274680"/>
            <a:ext cx="776124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0480" y="274680"/>
            <a:ext cx="776124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4T10:15:09Z</dcterms:created>
  <dc:creator>Nina</dc:creator>
  <dc:description/>
  <dc:language>en-US</dc:language>
  <cp:lastModifiedBy>Nina</cp:lastModifiedBy>
  <dcterms:modified xsi:type="dcterms:W3CDTF">2018-02-04T10:31:19Z</dcterms:modified>
  <cp:revision>4</cp:revision>
  <dc:subject/>
  <dc:title>Слайд 1</dc:title>
</cp:coreProperties>
</file>