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032-F9EA-4B78-B230-082BD14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B7E-F02C-416C-83E7-ADC8DC3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8EB-94DA-49A4-BE6B-D7BC7339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B44-873F-40C8-BB38-07CB643A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612A-9B5F-45B8-A9D2-A05403D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4816-0727-4D7E-862C-CC29802D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58A-80E0-4CD1-AD54-CAA96070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1ED4-9886-4D08-834A-6BE320BC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3A4-BDE1-42C3-8642-5DFCFDE4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63C-9B0E-49D6-A59A-7953D4B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AE4-0436-4CB6-92F0-976F29F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387-654B-45FD-99D3-AD7C2F1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858A-02A4-4A80-9A72-F9C490D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668-7CB5-480F-925C-C126FB6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0EB-85EB-4333-AAE3-8600A7A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D73F-ACC6-45FA-99B1-2AFEA304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FFF-2B19-4506-A72D-A68E5C9C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2CF2-651D-4151-A8A2-D827B1BC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3A03-BEC2-486C-949C-DF68E6A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1313-83C0-425C-A629-F1D3A60C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C3D2-77C6-497D-975E-D750F98A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B61F-0CB5-4593-84AE-A33C1E1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366-11B4-4A98-B53A-D65D9F0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69DF-FC26-407D-B76C-9779505D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BE45-EE5D-4E98-8C94-A7EE3E3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29BC-1A79-4E5D-92A8-3071434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37C3-5B64-463B-B3A5-D15657F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2BE9-F971-4051-B2B5-D9E06DD3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C763-0CEE-4FB6-A97D-1F2D8182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F772-773B-415B-871A-F6F42646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5128-B880-45C6-A692-85584234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18C6-9A8B-40A2-84A3-918F4D6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A176-91C1-45C7-BD4B-9C66C39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33A-447B-4E2A-85DC-D0CC4B9B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76DE2-5DB2-4D58-A9F3-C486194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E220-B656-4EEF-AE7D-2A72740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5FDA-36A0-490B-9B83-2B8D231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81A6-F7AD-409A-B66B-B26983A5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C250-FD4C-4C50-8BEC-CAF4B049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D7DB-867F-4EE9-8624-764D7FD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0186-E208-427F-9881-47BAA3F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3FE2-C95E-436D-A9A5-FC2D9157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D286-8E96-48D2-B264-B032A24A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72D32-5ED7-4FA8-B9D1-C1EC1AE9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051-3CD8-458B-B663-7ABFBF4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59CA-4144-47CE-8B2E-B58810F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8266-BF67-4BA8-BB3B-AECDDC3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044C-12E9-4B12-8D7D-F79AA675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7468-FB78-4483-A33A-C8618FA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8FFF-B216-4890-85FA-195412F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AC95-50C9-426B-A2F8-6A617B5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AE96-C2E6-4B0E-B8AF-44676AA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12B1-B253-4931-A5F0-1D474F6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D4A4-8FBC-4344-A047-A699E08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57E9-2427-4CA6-A3DB-2589E92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DB2-168A-4E5A-8004-DA94B326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9A25-6FAD-4FD2-A91F-1BC324F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066-8463-4B63-A533-988574F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A63-C572-4331-BA72-5A2504F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82D-B3FE-4994-961C-F9E8FE5E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DC4-878E-4CE9-908D-14C66988D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2BD-E2D8-443D-B0A8-34D2B9498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579-B668-4D35-AC74-78BFAE8A41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F1C-8278-48CF-944F-19AA726CED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C01-63E9-4440-8CE8-C53A850BAC4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8"/>
          <p:cNvSpPr txBox="1"/>
          <p:nvPr/>
        </p:nvSpPr>
        <p:spPr>
          <a:xfrm>
            <a:off x="1258920" y="333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Times New Roman"/>
              </a:rPr>
              <a:t>Урок - сказ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93" name="WordArt 10"/>
          <p:cNvSpPr txBox="1"/>
          <p:nvPr/>
        </p:nvSpPr>
        <p:spPr>
          <a:xfrm>
            <a:off x="1042920" y="3645000"/>
            <a:ext cx="741672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Спасение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хищенных чисел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d5e3b9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sund2"/>
          <p:cNvPicPr/>
          <p:nvPr/>
        </p:nvPicPr>
        <p:blipFill>
          <a:blip r:embed="rId1"/>
          <a:stretch/>
        </p:blipFill>
        <p:spPr>
          <a:xfrm>
            <a:off x="1692360" y="439560"/>
            <a:ext cx="6408720" cy="53676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3"/>
          <p:cNvGrpSpPr/>
          <p:nvPr/>
        </p:nvGrpSpPr>
        <p:grpSpPr>
          <a:xfrm>
            <a:off x="1763640" y="2565360"/>
            <a:ext cx="762120" cy="1143000"/>
            <a:chOff x="1763640" y="2565360"/>
            <a:chExt cx="762120" cy="1143000"/>
          </a:xfrm>
        </p:grpSpPr>
        <p:sp>
          <p:nvSpPr>
            <p:cNvPr id="369" name="AutoShape 4"/>
            <p:cNvSpPr/>
            <p:nvPr/>
          </p:nvSpPr>
          <p:spPr>
            <a:xfrm>
              <a:off x="1839960" y="2565360"/>
              <a:ext cx="533160" cy="8384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38440"/>
                <a:gd name="textAreaBottom" fmla="*/ 3002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5"/>
            <p:cNvSpPr/>
            <p:nvPr/>
          </p:nvSpPr>
          <p:spPr>
            <a:xfrm>
              <a:off x="1763640" y="2870280"/>
              <a:ext cx="762120" cy="838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>
              <a:off x="2068560" y="31752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7"/>
          <p:cNvGrpSpPr/>
          <p:nvPr/>
        </p:nvGrpSpPr>
        <p:grpSpPr>
          <a:xfrm>
            <a:off x="4356000" y="3429000"/>
            <a:ext cx="761760" cy="1143000"/>
            <a:chOff x="4356000" y="3429000"/>
            <a:chExt cx="761760" cy="1143000"/>
          </a:xfrm>
        </p:grpSpPr>
        <p:sp>
          <p:nvSpPr>
            <p:cNvPr id="373" name="AutoShape 8"/>
            <p:cNvSpPr/>
            <p:nvPr/>
          </p:nvSpPr>
          <p:spPr>
            <a:xfrm>
              <a:off x="4431960" y="3429000"/>
              <a:ext cx="533520" cy="8380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838080"/>
                <a:gd name="textAreaBottom" fmla="*/ 2998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4" name="Group 9"/>
            <p:cNvGrpSpPr/>
            <p:nvPr/>
          </p:nvGrpSpPr>
          <p:grpSpPr>
            <a:xfrm>
              <a:off x="4356000" y="3733560"/>
              <a:ext cx="761760" cy="838440"/>
              <a:chOff x="4356000" y="3733560"/>
              <a:chExt cx="761760" cy="838440"/>
            </a:xfrm>
          </p:grpSpPr>
          <p:sp>
            <p:nvSpPr>
              <p:cNvPr id="375" name="Oval 10"/>
              <p:cNvSpPr/>
              <p:nvPr/>
            </p:nvSpPr>
            <p:spPr>
              <a:xfrm>
                <a:off x="4356000" y="3733560"/>
                <a:ext cx="761760" cy="83844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11"/>
              <p:cNvSpPr/>
              <p:nvPr/>
            </p:nvSpPr>
            <p:spPr>
              <a:xfrm>
                <a:off x="4660560" y="40384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12"/>
          <p:cNvGrpSpPr/>
          <p:nvPr/>
        </p:nvGrpSpPr>
        <p:grpSpPr>
          <a:xfrm>
            <a:off x="2627280" y="2924280"/>
            <a:ext cx="762120" cy="1143000"/>
            <a:chOff x="2627280" y="2924280"/>
            <a:chExt cx="762120" cy="1143000"/>
          </a:xfrm>
        </p:grpSpPr>
        <p:sp>
          <p:nvSpPr>
            <p:cNvPr id="378" name="Oval 13"/>
            <p:cNvSpPr/>
            <p:nvPr/>
          </p:nvSpPr>
          <p:spPr>
            <a:xfrm>
              <a:off x="2627280" y="3229200"/>
              <a:ext cx="762120" cy="838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Group 14"/>
            <p:cNvGrpSpPr/>
            <p:nvPr/>
          </p:nvGrpSpPr>
          <p:grpSpPr>
            <a:xfrm>
              <a:off x="2703600" y="2924280"/>
              <a:ext cx="533160" cy="838080"/>
              <a:chOff x="2703600" y="2924280"/>
              <a:chExt cx="533160" cy="838080"/>
            </a:xfrm>
          </p:grpSpPr>
          <p:sp>
            <p:nvSpPr>
              <p:cNvPr id="380" name="AutoShape 15"/>
              <p:cNvSpPr/>
              <p:nvPr/>
            </p:nvSpPr>
            <p:spPr>
              <a:xfrm>
                <a:off x="2703600" y="2924280"/>
                <a:ext cx="533160" cy="838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838080"/>
                  <a:gd name="textAreaBottom" fmla="*/ 2998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2932200" y="353376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Group 17"/>
          <p:cNvGrpSpPr/>
          <p:nvPr/>
        </p:nvGrpSpPr>
        <p:grpSpPr>
          <a:xfrm>
            <a:off x="7308720" y="2205000"/>
            <a:ext cx="762120" cy="1143000"/>
            <a:chOff x="7308720" y="2205000"/>
            <a:chExt cx="762120" cy="1143000"/>
          </a:xfrm>
        </p:grpSpPr>
        <p:sp>
          <p:nvSpPr>
            <p:cNvPr id="383" name="AutoShape 18"/>
            <p:cNvSpPr/>
            <p:nvPr/>
          </p:nvSpPr>
          <p:spPr>
            <a:xfrm>
              <a:off x="7385040" y="2205000"/>
              <a:ext cx="533160" cy="8384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38440"/>
                <a:gd name="textAreaBottom" fmla="*/ 3002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9"/>
            <p:cNvSpPr/>
            <p:nvPr/>
          </p:nvSpPr>
          <p:spPr>
            <a:xfrm>
              <a:off x="7308720" y="2509920"/>
              <a:ext cx="762120" cy="838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20"/>
            <p:cNvSpPr/>
            <p:nvPr/>
          </p:nvSpPr>
          <p:spPr>
            <a:xfrm>
              <a:off x="7613640" y="281484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1"/>
          <p:cNvGrpSpPr/>
          <p:nvPr/>
        </p:nvGrpSpPr>
        <p:grpSpPr>
          <a:xfrm>
            <a:off x="5940360" y="3500280"/>
            <a:ext cx="761760" cy="1143000"/>
            <a:chOff x="5940360" y="3500280"/>
            <a:chExt cx="761760" cy="1143000"/>
          </a:xfrm>
        </p:grpSpPr>
        <p:sp>
          <p:nvSpPr>
            <p:cNvPr id="387" name="AutoShape 22"/>
            <p:cNvSpPr/>
            <p:nvPr/>
          </p:nvSpPr>
          <p:spPr>
            <a:xfrm>
              <a:off x="6016320" y="3500280"/>
              <a:ext cx="533520" cy="8380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838080"/>
                <a:gd name="textAreaBottom" fmla="*/ 2998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Group 23"/>
            <p:cNvGrpSpPr/>
            <p:nvPr/>
          </p:nvGrpSpPr>
          <p:grpSpPr>
            <a:xfrm>
              <a:off x="5940360" y="3804840"/>
              <a:ext cx="761760" cy="838440"/>
              <a:chOff x="5940360" y="3804840"/>
              <a:chExt cx="761760" cy="838440"/>
            </a:xfrm>
          </p:grpSpPr>
          <p:sp>
            <p:nvSpPr>
              <p:cNvPr id="389" name="Oval 24"/>
              <p:cNvSpPr/>
              <p:nvPr/>
            </p:nvSpPr>
            <p:spPr>
              <a:xfrm>
                <a:off x="5940360" y="3804840"/>
                <a:ext cx="761760" cy="83844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6244920" y="410976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Group 26"/>
          <p:cNvGrpSpPr/>
          <p:nvPr/>
        </p:nvGrpSpPr>
        <p:grpSpPr>
          <a:xfrm>
            <a:off x="5219640" y="3573360"/>
            <a:ext cx="762120" cy="1143000"/>
            <a:chOff x="5219640" y="3573360"/>
            <a:chExt cx="762120" cy="1143000"/>
          </a:xfrm>
        </p:grpSpPr>
        <p:sp>
          <p:nvSpPr>
            <p:cNvPr id="392" name="Oval 27"/>
            <p:cNvSpPr/>
            <p:nvPr/>
          </p:nvSpPr>
          <p:spPr>
            <a:xfrm>
              <a:off x="5219640" y="3878280"/>
              <a:ext cx="762120" cy="838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Group 28"/>
            <p:cNvGrpSpPr/>
            <p:nvPr/>
          </p:nvGrpSpPr>
          <p:grpSpPr>
            <a:xfrm>
              <a:off x="5295960" y="3573360"/>
              <a:ext cx="533160" cy="838080"/>
              <a:chOff x="5295960" y="3573360"/>
              <a:chExt cx="533160" cy="838080"/>
            </a:xfrm>
          </p:grpSpPr>
          <p:sp>
            <p:nvSpPr>
              <p:cNvPr id="394" name="AutoShape 29"/>
              <p:cNvSpPr/>
              <p:nvPr/>
            </p:nvSpPr>
            <p:spPr>
              <a:xfrm>
                <a:off x="5295960" y="3573360"/>
                <a:ext cx="533160" cy="83808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838080"/>
                  <a:gd name="textAreaBottom" fmla="*/ 2998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30"/>
              <p:cNvSpPr/>
              <p:nvPr/>
            </p:nvSpPr>
            <p:spPr>
              <a:xfrm>
                <a:off x="5524560" y="41828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Group 31"/>
          <p:cNvGrpSpPr/>
          <p:nvPr/>
        </p:nvGrpSpPr>
        <p:grpSpPr>
          <a:xfrm>
            <a:off x="6659640" y="2924280"/>
            <a:ext cx="761760" cy="1143000"/>
            <a:chOff x="6659640" y="2924280"/>
            <a:chExt cx="761760" cy="1143000"/>
          </a:xfrm>
        </p:grpSpPr>
        <p:sp>
          <p:nvSpPr>
            <p:cNvPr id="397" name="Oval 32"/>
            <p:cNvSpPr/>
            <p:nvPr/>
          </p:nvSpPr>
          <p:spPr>
            <a:xfrm>
              <a:off x="6659640" y="3229200"/>
              <a:ext cx="761760" cy="838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Group 33"/>
            <p:cNvGrpSpPr/>
            <p:nvPr/>
          </p:nvGrpSpPr>
          <p:grpSpPr>
            <a:xfrm>
              <a:off x="6735600" y="2924280"/>
              <a:ext cx="532800" cy="838080"/>
              <a:chOff x="6735600" y="2924280"/>
              <a:chExt cx="532800" cy="838080"/>
            </a:xfrm>
          </p:grpSpPr>
          <p:sp>
            <p:nvSpPr>
              <p:cNvPr id="399" name="AutoShape 34"/>
              <p:cNvSpPr/>
              <p:nvPr/>
            </p:nvSpPr>
            <p:spPr>
              <a:xfrm>
                <a:off x="6735600" y="2924280"/>
                <a:ext cx="532800" cy="8380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838080"/>
                  <a:gd name="textAreaBottom" fmla="*/ 2998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35"/>
              <p:cNvSpPr/>
              <p:nvPr/>
            </p:nvSpPr>
            <p:spPr>
              <a:xfrm>
                <a:off x="6963840" y="3533760"/>
                <a:ext cx="15192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01" name="Picture 36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6769080" cy="58579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7"/>
          <p:cNvSpPr/>
          <p:nvPr/>
        </p:nvSpPr>
        <p:spPr>
          <a:xfrm>
            <a:off x="2916360" y="270828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40"/>
          <p:cNvSpPr/>
          <p:nvPr/>
        </p:nvSpPr>
        <p:spPr>
          <a:xfrm>
            <a:off x="1763640" y="1197000"/>
            <a:ext cx="5400720" cy="28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WordArt 41"/>
          <p:cNvSpPr txBox="1"/>
          <p:nvPr/>
        </p:nvSpPr>
        <p:spPr>
          <a:xfrm>
            <a:off x="2916360" y="1916280"/>
            <a:ext cx="34560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нные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9"/>
              <p:cNvSpPr txBox="1"/>
              <p:nvPr/>
            </p:nvSpPr>
            <p:spPr>
              <a:xfrm>
                <a:off x="3708360" y="5157720"/>
                <a:ext cx="5238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7"/>
              <p:cNvSpPr txBox="1"/>
              <p:nvPr/>
            </p:nvSpPr>
            <p:spPr>
              <a:xfrm>
                <a:off x="6732720" y="595008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60"/>
              <p:cNvSpPr txBox="1"/>
              <p:nvPr/>
            </p:nvSpPr>
            <p:spPr>
              <a:xfrm>
                <a:off x="5435640" y="5805360"/>
                <a:ext cx="5238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61"/>
              <p:cNvSpPr txBox="1"/>
              <p:nvPr/>
            </p:nvSpPr>
            <p:spPr>
              <a:xfrm>
                <a:off x="4572000" y="4869000"/>
                <a:ext cx="5238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63"/>
              <p:cNvSpPr txBox="1"/>
              <p:nvPr/>
            </p:nvSpPr>
            <p:spPr>
              <a:xfrm>
                <a:off x="6012000" y="5661000"/>
                <a:ext cx="46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64"/>
              <p:cNvSpPr txBox="1"/>
              <p:nvPr/>
            </p:nvSpPr>
            <p:spPr>
              <a:xfrm>
                <a:off x="4427640" y="5516640"/>
                <a:ext cx="46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65"/>
              <p:cNvSpPr txBox="1"/>
              <p:nvPr/>
            </p:nvSpPr>
            <p:spPr>
              <a:xfrm>
                <a:off x="7451640" y="5516640"/>
                <a:ext cx="46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66"/>
              <p:cNvSpPr txBox="1"/>
              <p:nvPr/>
            </p:nvSpPr>
            <p:spPr>
              <a:xfrm>
                <a:off x="5651640" y="4797360"/>
                <a:ext cx="4824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67"/>
              <p:cNvSpPr txBox="1"/>
              <p:nvPr/>
            </p:nvSpPr>
            <p:spPr>
              <a:xfrm>
                <a:off x="8028000" y="5084640"/>
                <a:ext cx="482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 txBox="1"/>
          <p:nvPr/>
        </p:nvSpPr>
        <p:spPr>
          <a:xfrm>
            <a:off x="395280" y="2781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292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5"/>
          <p:cNvGrpSpPr/>
          <p:nvPr/>
        </p:nvGrpSpPr>
        <p:grpSpPr>
          <a:xfrm>
            <a:off x="3564000" y="3284640"/>
            <a:ext cx="761760" cy="1143000"/>
            <a:chOff x="3564000" y="3284640"/>
            <a:chExt cx="761760" cy="1143000"/>
          </a:xfrm>
        </p:grpSpPr>
        <p:sp>
          <p:nvSpPr>
            <p:cNvPr id="421" name="AutoShape 76"/>
            <p:cNvSpPr/>
            <p:nvPr/>
          </p:nvSpPr>
          <p:spPr>
            <a:xfrm>
              <a:off x="3639960" y="3284640"/>
              <a:ext cx="533520" cy="8380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838080"/>
                <a:gd name="textAreaBottom" fmla="*/ 2998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77"/>
            <p:cNvGrpSpPr/>
            <p:nvPr/>
          </p:nvGrpSpPr>
          <p:grpSpPr>
            <a:xfrm>
              <a:off x="3564000" y="3589200"/>
              <a:ext cx="761760" cy="838440"/>
              <a:chOff x="3564000" y="3589200"/>
              <a:chExt cx="761760" cy="838440"/>
            </a:xfrm>
          </p:grpSpPr>
          <p:sp>
            <p:nvSpPr>
              <p:cNvPr id="423" name="Oval 78"/>
              <p:cNvSpPr/>
              <p:nvPr/>
            </p:nvSpPr>
            <p:spPr>
              <a:xfrm>
                <a:off x="3564000" y="3589200"/>
                <a:ext cx="761760" cy="83844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Oval 79"/>
              <p:cNvSpPr/>
              <p:nvPr/>
            </p:nvSpPr>
            <p:spPr>
              <a:xfrm>
                <a:off x="3868560" y="389412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25" name="Picture 80" descr="ключ"/>
          <p:cNvPicPr/>
          <p:nvPr/>
        </p:nvPicPr>
        <p:blipFill>
          <a:blip r:embed="rId3"/>
          <a:stretch/>
        </p:blipFill>
        <p:spPr>
          <a:xfrm>
            <a:off x="539640" y="5734080"/>
            <a:ext cx="482760" cy="996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8" descr="ключ"/>
          <p:cNvPicPr/>
          <p:nvPr/>
        </p:nvPicPr>
        <p:blipFill>
          <a:blip r:embed="rId4"/>
          <a:stretch/>
        </p:blipFill>
        <p:spPr>
          <a:xfrm>
            <a:off x="1332000" y="5734080"/>
            <a:ext cx="482400" cy="996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9" descr="ключ"/>
          <p:cNvPicPr/>
          <p:nvPr/>
        </p:nvPicPr>
        <p:blipFill>
          <a:blip r:embed="rId5"/>
          <a:stretch/>
        </p:blipFill>
        <p:spPr>
          <a:xfrm>
            <a:off x="1979640" y="5734080"/>
            <a:ext cx="482400" cy="996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0" descr="ключ"/>
          <p:cNvPicPr/>
          <p:nvPr/>
        </p:nvPicPr>
        <p:blipFill>
          <a:blip r:embed="rId6"/>
          <a:stretch/>
        </p:blipFill>
        <p:spPr>
          <a:xfrm>
            <a:off x="2700360" y="5734080"/>
            <a:ext cx="482400" cy="996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1" descr="ключ"/>
          <p:cNvPicPr/>
          <p:nvPr/>
        </p:nvPicPr>
        <p:blipFill>
          <a:blip r:embed="rId7"/>
          <a:stretch/>
        </p:blipFill>
        <p:spPr>
          <a:xfrm>
            <a:off x="3348000" y="5734080"/>
            <a:ext cx="482760" cy="996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2" descr="ключ"/>
          <p:cNvPicPr/>
          <p:nvPr/>
        </p:nvPicPr>
        <p:blipFill>
          <a:blip r:embed="rId8"/>
          <a:stretch/>
        </p:blipFill>
        <p:spPr>
          <a:xfrm>
            <a:off x="3995640" y="5661000"/>
            <a:ext cx="482760" cy="996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3" descr="ключ"/>
          <p:cNvPicPr/>
          <p:nvPr/>
        </p:nvPicPr>
        <p:blipFill>
          <a:blip r:embed="rId9"/>
          <a:stretch/>
        </p:blipFill>
        <p:spPr>
          <a:xfrm>
            <a:off x="4716360" y="5661000"/>
            <a:ext cx="482760" cy="996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4" descr="ключ"/>
          <p:cNvPicPr/>
          <p:nvPr/>
        </p:nvPicPr>
        <p:blipFill>
          <a:blip r:embed="rId10"/>
          <a:stretch/>
        </p:blipFill>
        <p:spPr>
          <a:xfrm>
            <a:off x="5435640" y="5661000"/>
            <a:ext cx="482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. 27, №1068(а),№ 1822, №18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d97d"/>
            </a:gs>
            <a:gs pos="50000">
              <a:srgbClr val="ccff66"/>
            </a:gs>
            <a:gs pos="100000">
              <a:srgbClr val="88d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Image111"/>
          <p:cNvPicPr/>
          <p:nvPr/>
        </p:nvPicPr>
        <p:blipFill>
          <a:blip r:embed="rId1"/>
          <a:stretch/>
        </p:blipFill>
        <p:spPr>
          <a:xfrm>
            <a:off x="1908000" y="549360"/>
            <a:ext cx="1872000" cy="1449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Image110"/>
          <p:cNvPicPr/>
          <p:nvPr/>
        </p:nvPicPr>
        <p:blipFill>
          <a:blip r:embed="rId2"/>
          <a:stretch/>
        </p:blipFill>
        <p:spPr>
          <a:xfrm>
            <a:off x="755640" y="549360"/>
            <a:ext cx="561960" cy="1439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6743880" y="620640"/>
                <a:ext cx="11048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4356000" y="549360"/>
                <a:ext cx="1944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Rectangle 11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4788000" y="2997360"/>
                <a:ext cx="2232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1547640" y="3100320"/>
                <a:ext cx="20163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Rectangle 17"/>
          <p:cNvSpPr/>
          <p:nvPr/>
        </p:nvSpPr>
        <p:spPr>
          <a:xfrm>
            <a:off x="611280" y="2708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день – 4/7 от всего поля - это 28 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-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img6"/>
          <p:cNvPicPr/>
          <p:nvPr/>
        </p:nvPicPr>
        <p:blipFill>
          <a:blip r:embed="rId1"/>
          <a:stretch/>
        </p:blipFill>
        <p:spPr>
          <a:xfrm>
            <a:off x="468360" y="260280"/>
            <a:ext cx="2185920" cy="2624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img2.jpg (52219 bytes)"/>
          <p:cNvPicPr/>
          <p:nvPr/>
        </p:nvPicPr>
        <p:blipFill>
          <a:blip r:embed="rId2"/>
          <a:stretch/>
        </p:blipFill>
        <p:spPr>
          <a:xfrm>
            <a:off x="250920" y="2997360"/>
            <a:ext cx="2843280" cy="2103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img3.jpg (81342 bytes)"/>
          <p:cNvPicPr/>
          <p:nvPr/>
        </p:nvPicPr>
        <p:blipFill>
          <a:blip r:embed="rId3"/>
          <a:stretch/>
        </p:blipFill>
        <p:spPr>
          <a:xfrm>
            <a:off x="2916360" y="1268280"/>
            <a:ext cx="3528720" cy="2805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img4.jpg (78458 bytes)"/>
          <p:cNvPicPr/>
          <p:nvPr/>
        </p:nvPicPr>
        <p:blipFill>
          <a:blip r:embed="rId4"/>
          <a:stretch/>
        </p:blipFill>
        <p:spPr>
          <a:xfrm>
            <a:off x="6486480" y="549360"/>
            <a:ext cx="2657520" cy="1966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4" descr="img604"/>
          <p:cNvPicPr/>
          <p:nvPr/>
        </p:nvPicPr>
        <p:blipFill>
          <a:blip r:embed="rId5"/>
          <a:stretch/>
        </p:blipFill>
        <p:spPr>
          <a:xfrm>
            <a:off x="6877080" y="2924280"/>
            <a:ext cx="1770120" cy="2332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Безымянный"/>
          <p:cNvPicPr/>
          <p:nvPr/>
        </p:nvPicPr>
        <p:blipFill>
          <a:blip r:embed="rId6"/>
          <a:stretch/>
        </p:blipFill>
        <p:spPr>
          <a:xfrm>
            <a:off x="3059280" y="4076640"/>
            <a:ext cx="41418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3ee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8920" indent="-8892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725:29 ∙13=325(мужчин)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2) 725-325 =400 (женщин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7696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сленность населения села Низовка 725 человек, 13/29 из них- мужчины. Сколько в селе женщин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8" descr="ключ"/>
          <p:cNvPicPr/>
          <p:nvPr/>
        </p:nvPicPr>
        <p:blipFill>
          <a:blip r:embed="rId1"/>
          <a:stretch/>
        </p:blipFill>
        <p:spPr>
          <a:xfrm>
            <a:off x="7812000" y="5157720"/>
            <a:ext cx="6159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efe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70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иблиотеку клуба поступило 20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вых книг и журналов. При этом  это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ичества составили журналы дл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зрослых и       этого количеств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или журналы для детей. Вс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тальные книги – художественны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лько художественных кни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упило в библиотек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7380360" y="1916280"/>
                <a:ext cx="44136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6"/>
              <p:cNvSpPr txBox="1"/>
              <p:nvPr/>
            </p:nvSpPr>
            <p:spPr>
              <a:xfrm>
                <a:off x="2484360" y="2924280"/>
                <a:ext cx="25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1619280" y="423720"/>
                <a:ext cx="36003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част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12"/>
          <p:cNvSpPr/>
          <p:nvPr/>
        </p:nvSpPr>
        <p:spPr>
          <a:xfrm>
            <a:off x="1619280" y="148428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200: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=120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журн.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200-120=80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кни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библиотеку поступило 8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удожественных кн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4" descr="ключ"/>
          <p:cNvPicPr/>
          <p:nvPr/>
        </p:nvPicPr>
        <p:blipFill>
          <a:blip r:embed="rId1"/>
          <a:stretch/>
        </p:blipFill>
        <p:spPr>
          <a:xfrm>
            <a:off x="7451640" y="4581360"/>
            <a:ext cx="652680" cy="13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dde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70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c0000"/>
                </a:solidFill>
                <a:latin typeface="Arial"/>
              </a:rPr>
              <a:t>К л ю ч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5" name="Picture 5" descr="ключ"/>
          <p:cNvPicPr/>
          <p:nvPr/>
        </p:nvPicPr>
        <p:blipFill>
          <a:blip r:embed="rId1"/>
          <a:stretch/>
        </p:blipFill>
        <p:spPr>
          <a:xfrm>
            <a:off x="6948360" y="4149720"/>
            <a:ext cx="762120" cy="1573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ключ"/>
          <p:cNvPicPr/>
          <p:nvPr/>
        </p:nvPicPr>
        <p:blipFill>
          <a:blip r:embed="rId2"/>
          <a:stretch/>
        </p:blipFill>
        <p:spPr>
          <a:xfrm>
            <a:off x="7596360" y="4581360"/>
            <a:ext cx="761760" cy="1573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ключ"/>
          <p:cNvPicPr/>
          <p:nvPr/>
        </p:nvPicPr>
        <p:blipFill>
          <a:blip r:embed="rId3"/>
          <a:stretch/>
        </p:blipFill>
        <p:spPr>
          <a:xfrm>
            <a:off x="8244000" y="5157720"/>
            <a:ext cx="761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50000">
              <a:srgbClr val="a7e4a7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a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в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3: 45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                       г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:56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0000"/>
                </a:solidFill>
                <a:latin typeface="Times New Roman"/>
              </a:rPr>
              <a:t>№ </a:t>
            </a:r>
            <a:r>
              <a:rPr b="1" lang="ru-RU" sz="2400" spc="-1" strike="noStrike">
                <a:solidFill>
                  <a:srgbClr val="a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Правильные дроб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еправильные дроб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116000" y="1844640"/>
                <a:ext cx="1944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9"/>
              <p:cNvSpPr txBox="1"/>
              <p:nvPr/>
            </p:nvSpPr>
            <p:spPr>
              <a:xfrm>
                <a:off x="1116000" y="765000"/>
                <a:ext cx="1943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1"/>
              <p:cNvSpPr txBox="1"/>
              <p:nvPr/>
            </p:nvSpPr>
            <p:spPr>
              <a:xfrm>
                <a:off x="6084720" y="692280"/>
                <a:ext cx="505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3"/>
              <p:cNvSpPr txBox="1"/>
              <p:nvPr/>
            </p:nvSpPr>
            <p:spPr>
              <a:xfrm>
                <a:off x="5724360" y="1844640"/>
                <a:ext cx="10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3564000" y="3711600"/>
                <a:ext cx="2520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Rectangle 18"/>
          <p:cNvSpPr/>
          <p:nvPr/>
        </p:nvSpPr>
        <p:spPr>
          <a:xfrm>
            <a:off x="-39672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7"/>
              <p:cNvSpPr txBox="1"/>
              <p:nvPr/>
            </p:nvSpPr>
            <p:spPr>
              <a:xfrm>
                <a:off x="3851280" y="5013360"/>
                <a:ext cx="180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Line 19"/>
          <p:cNvSpPr/>
          <p:nvPr/>
        </p:nvSpPr>
        <p:spPr>
          <a:xfrm>
            <a:off x="2556000" y="1197000"/>
            <a:ext cx="3603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796000" y="1916280"/>
            <a:ext cx="936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6084720" y="692280"/>
            <a:ext cx="432000" cy="93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2700360" y="1989000"/>
            <a:ext cx="35892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4572000" y="3789360"/>
            <a:ext cx="14436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5580000" y="3789360"/>
            <a:ext cx="432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0" descr="ключ"/>
          <p:cNvPicPr/>
          <p:nvPr/>
        </p:nvPicPr>
        <p:blipFill>
          <a:blip r:embed="rId1"/>
          <a:stretch/>
        </p:blipFill>
        <p:spPr>
          <a:xfrm>
            <a:off x="7740720" y="4869000"/>
            <a:ext cx="857160" cy="17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835280" y="508464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яжённость нашей республики с запада на восток 280 км, а с севера на юг в среднем 93км. Найдите площадь Мордовии, если она занимает территорию, равную площади прямоугольника с такими сторон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img604"/>
          <p:cNvPicPr/>
          <p:nvPr/>
        </p:nvPicPr>
        <p:blipFill>
          <a:blip r:embed="rId2"/>
          <a:stretch/>
        </p:blipFill>
        <p:spPr>
          <a:xfrm>
            <a:off x="6659640" y="189000"/>
            <a:ext cx="2133360" cy="2809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sw58"/>
          <p:cNvPicPr/>
          <p:nvPr/>
        </p:nvPicPr>
        <p:blipFill>
          <a:blip r:embed="rId3"/>
          <a:stretch/>
        </p:blipFill>
        <p:spPr>
          <a:xfrm>
            <a:off x="539640" y="333360"/>
            <a:ext cx="976320" cy="1008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ключ"/>
          <p:cNvPicPr/>
          <p:nvPr/>
        </p:nvPicPr>
        <p:blipFill>
          <a:blip r:embed="rId4"/>
          <a:stretch/>
        </p:blipFill>
        <p:spPr>
          <a:xfrm>
            <a:off x="8101080" y="3500280"/>
            <a:ext cx="6523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cb35"/>
            </a:gs>
            <a:gs pos="50000">
              <a:srgbClr val="d0f0c3"/>
            </a:gs>
            <a:gs pos="100000">
              <a:srgbClr val="60cb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mg4.jpg (78458 bytes)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096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3203640" y="260280"/>
                <a:ext cx="2736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684360" y="907920"/>
                <a:ext cx="2449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2"/>
              <p:cNvSpPr txBox="1"/>
              <p:nvPr/>
            </p:nvSpPr>
            <p:spPr>
              <a:xfrm>
                <a:off x="900000" y="1844640"/>
                <a:ext cx="1656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3"/>
              <p:cNvSpPr txBox="1"/>
              <p:nvPr/>
            </p:nvSpPr>
            <p:spPr>
              <a:xfrm>
                <a:off x="324000" y="3284640"/>
                <a:ext cx="2520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324000" y="3860640"/>
                <a:ext cx="2446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5"/>
              <p:cNvSpPr txBox="1"/>
              <p:nvPr/>
            </p:nvSpPr>
            <p:spPr>
              <a:xfrm>
                <a:off x="971640" y="4365720"/>
                <a:ext cx="2446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6"/>
              <p:cNvSpPr txBox="1"/>
              <p:nvPr/>
            </p:nvSpPr>
            <p:spPr>
              <a:xfrm>
                <a:off x="1042920" y="4941720"/>
                <a:ext cx="1747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7"/>
              <p:cNvSpPr txBox="1"/>
              <p:nvPr/>
            </p:nvSpPr>
            <p:spPr>
              <a:xfrm>
                <a:off x="900000" y="5589720"/>
                <a:ext cx="3245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4" name="Picture 18" descr="ключ"/>
          <p:cNvPicPr/>
          <p:nvPr/>
        </p:nvPicPr>
        <p:blipFill>
          <a:blip r:embed="rId2"/>
          <a:stretch/>
        </p:blipFill>
        <p:spPr>
          <a:xfrm>
            <a:off x="8244000" y="2781360"/>
            <a:ext cx="76500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250920" y="2637000"/>
                <a:ext cx="280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12:44Z</dcterms:created>
  <dc:creator>user</dc:creator>
  <dc:description/>
  <dc:language>en-US</dc:language>
  <cp:lastModifiedBy>ПК</cp:lastModifiedBy>
  <dcterms:modified xsi:type="dcterms:W3CDTF">2018-02-04T16:22:30Z</dcterms:modified>
  <cp:revision>9</cp:revision>
  <dc:subject/>
  <dc:title>Слайд 1</dc:title>
</cp:coreProperties>
</file>