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998-BC9A-4099-90AB-A370EAD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CE0-33DB-402C-90E7-C03F632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4C0-C93B-41B1-B678-7D66C196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07A-94DC-4086-BCFA-C35FE4C4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56C-798D-4B36-A618-263CCF7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838-C2BB-449E-A73A-5DD8322B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97-2360-4E82-90A9-C95CEA5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CA1-4872-4A5D-9B40-BE86E01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87A-061E-40C2-8422-A307302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021-40BB-44B0-A8FF-0D54CBB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492-00B0-4C2E-9EE1-3A170C4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E01-317B-4551-829E-76A324F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A3C8-F275-4E90-A4BD-8F690D5FB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ознавательной активности у дошкольников по средствам экспериментирования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лок 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вок творчеств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285800"/>
            <a:ext cx="67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А.Г.Куз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ДОУ №19 «Василё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ый эксперимен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аночку с водой добавить немного красной краски. Что происходит? ( Краска медленно, неравномерно растворяетс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ой экспери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0012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угую баночку с водой добавить немного синей краски, размешать. Что происходит? (Краска  растворяется равномерн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етий эксперимен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42884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смешивают воду из двух баночек. Что происходит? (При соединении синей и красной краски вода в банке стала коричнев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делают зарисовки и подводят итоги (капля краски, если её не мешать, растворяется в воде медленно, неравномерно, а при размешивании – равномерн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крет сосновой ши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изменением формы предметов под воздействием воды; развивать наблюдательность, смекал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ве сосновые шишки, ванночка с теплой водой, салфетка из ткани, лист бумаги, карандаши ( на каждого ребе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д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а шишку сорвал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орешки не наш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ит шишка под сосн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скучно ей од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ьми её и поигра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о что? Сам угад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рогайте шишку. Какая она, с какого дерев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вый эта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рассматривают шишку, нюхают её, катают  между ладоней, пробуют согнуть чешуйки. Почему они не сгибаются? ( Они высохли и стали твердым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ой этап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устить шишку в теплую воду. Что происходит? ( Она плавает на поверхности, потому что легкая). Оставить шишку в воде на с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тий этап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проводится на следующий день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смотрят на шишку, она измен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. Почему? (Пропиталась водой, пластинки сомкнуты, приняли прежний вид). А еще она опустилась на дно. Почему? (Стала тяжелой. Воды в ванночке стало меньш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DSC00854"/>
          <p:cNvPicPr/>
          <p:nvPr/>
        </p:nvPicPr>
        <p:blipFill>
          <a:blip r:embed="rId1"/>
          <a:stretch/>
        </p:blipFill>
        <p:spPr>
          <a:xfrm>
            <a:off x="5219640" y="4076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рисуют шишки, сухую и влажную, сравнивают их, подводят итоги (сухая шишка легкая, жесткая – не тонет в воде; шишка, погруженная в воду – поглощает её, становится тяжелой и мягкой – опускается на дно; объем влажной шишки уменьшается наполовину, а вес увеличивается за счет влаг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лушная вод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428840"/>
            <a:ext cx="8472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одолжать знакомить с объемом тел (предметов), учить соблюдать правила безопасности при работе со стеклом; развивать наблюдательность, любознательность, смекал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ве стеклянные банки с водой, заполненные наполовину, шесть небольших камешков, пластина из оргстекла, поролоновая губка, лист бумаги, карандаши (на каждого ребе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дивительный пес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о свойствами и качествами песка, его происхождением; развивать смекалку, наблюдательность, усидчив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и стеклянные банки (первая - с сухим, вторая -с влажным песком, третья -с прозрачной водой, лопатка, пластинка из оргстекла, магнит, карточка, лупа, карандаши на каждого ребе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од занят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ый эксперимен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песо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чего он состои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ледовать сухой песок пальцами; насыпать его на пластину, рассмотреть  в лупу; опустить в песок магнит, появившиеся на нем  мелкие частички металла рассмотреть в луп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3920"/>
            <a:ext cx="822960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ок – это очень-очень мелкие камешки разного цвета, разной формы, разного размера; в песке можно найти мелкие частички метал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ой экспери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песок тон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аночку с водой опустить горсть сухого песка, не размешивать его. Что происходит? ( Песок оседает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оверхности воды можно увидеть песочную пыль. Если размешать лопаткой воду, что произойдет? (Песочная пыль, растворившись, окрашивает воду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960" y="1267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вод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ок – тяжелый, он опускается на дно баночки; пыль – легкая, осталась на поверхности, при размешивании окрасила воду; мокрый песок меняет ц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тий эксперимент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авнить свойства сухого и влажного пес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84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ям предлагают пересыпать сухой песок из одной баночки в другую ( песок сыпучий); из сухого песка слепить колобок ( не получается: сухой песок рассыпчатый, шершавый, содержит пыль); рассмотреть влажный песок (плотный, мягкий) через лупу, сделать из него колечки, оставить их на некоторое время (песок высохнет); полить сухой и влажный песок (влажный – быстро пропускает влагу, а сухой – некоторое время держит её на поверхности, затем она уходит в глуб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ти подводят итоги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ок – это мелкие камешки разного цвета, формы и размера; они тяжелые – тонут в воде; песочная пыль – легкая, плавает на поверхности воды; если размешать её, она растворится и окрасит воду; песок хорошо пропускает воду; из влажного песка можно лепить предметы, а сухой не держит форм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 « Червячок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роль червей в приро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ями раскладываем листья, землю, песок. Набрать несколько червей. Оставляем на зиму. Наблюдаем. Что произойдет вес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 Черви рыхлят землю. Все перемешалось: листья, земля, пес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од занятия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.Н.Толстой «Умная гал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автор назвал галку умн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ступили бы вы на её ме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ем повторить эксперимент, который осуществила пт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ый эксперимен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лушная водич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осторожно опускают камешки в банку. Что происходит? (Вода начнет подниматься вверх, т.е. увеличиваться в объем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5035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торой эксперимент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да играет в пря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в банку с водой опускают поролоновую губку, потом вынимают. Что происходит? ( Вода впиталась в губку - и банка оказалась почти пуст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тий эксперимен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озвращение вод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отжимают воду из губки в банку. Еще влажную губку кладут на пластину. Что происходит? (Вода стекае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делают зарисовки и подводят итоги исследования (объем воды может увеличиваться в результате погружения в нее другого тела; вода может впитываться в другие тела и вытекать из них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аем с крас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процессом растворения краски в воде ( произвольно и при помешивании); развивать наблюдательность, сообразительность, любознательность, усидчив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ве баночки с прозрачной водой, краски, лопаточка, салфетка из ткани, лист бумаги, карандаши (на каждого ребе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д занят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ки, словно радуг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отой своей детей раду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анжевые, желтые, красны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ие, зеленые – разные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01-31T05:45:46Z</dcterms:modified>
  <cp:revision>21</cp:revision>
  <dc:subject/>
  <dc:title>Развитие познавательной активности у дошкольников по средствам экспериментирования</dc:title>
</cp:coreProperties>
</file>