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12.jpeg" ContentType="image/jpeg"/>
  <Override PartName="/ppt/media/image6.wmf" ContentType="image/x-wmf"/>
  <Override PartName="/ppt/media/image8.wmf" ContentType="image/x-wmf"/>
  <Override PartName="/ppt/media/image9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0AC0-3B0B-4191-9C9D-DF47FA48C4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7F0B-CD8B-4CE0-B87F-A17ED8B16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D714-F60B-47D4-A36C-DC9509113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91E9-5902-4255-B2B1-C297D12ED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FD60-737D-44BD-B3A3-5FB577F8C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A98-4193-4EF8-BB60-941E510B0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FA1-3BEF-419D-A546-ABAAF5B7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70A-F5AE-49D8-BF99-5ECD3EC9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54C-C9CC-42F6-825F-554C6583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4EF-0748-4603-B128-A199B577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37F4-95D6-454E-A14E-833B3F01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C515-0B8E-441A-B66B-72669DF2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50B1-C424-4218-BA46-252A129A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1357-3032-4CDF-B468-6292E4CF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CFD3-DA02-449B-932B-E57AC288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CDA6-A272-448A-B634-10336224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1A4F-CF9A-4165-85CA-6292F7E6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7BA-EDCB-4FB3-A608-93CB28D4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1896-BA57-4817-93B4-4AD31EE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A500-E140-42A9-9610-8CDD4E24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61A6-4F83-43D4-9213-6F781190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BCE1-45BE-4EE5-ACAE-292F5554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71A3-4A78-4307-8577-3C7961C4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900-36C2-4B7B-8792-B3D3500C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BD0-D1D7-4BA2-8F2D-04E29A59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48C-1244-498C-AD08-C454F0A6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8E1-266B-4076-8445-995B2030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AF9-E368-4273-AE2E-5F2B119D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818-C050-4602-B400-C64CEE98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8C3-9F1D-4098-890A-6FEF2597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0473-803D-44B8-89F9-AC5A97FD83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2F67-ACAF-4132-BF59-D468BB48BE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0" y="0"/>
            <a:ext cx="9252000" cy="6380280"/>
            <a:chOff x="0" y="0"/>
            <a:chExt cx="9252000" cy="6380280"/>
          </a:xfrm>
        </p:grpSpPr>
        <p:pic>
          <p:nvPicPr>
            <p:cNvPr id="90" name="Picture 5" descr="j0195384"/>
            <p:cNvPicPr/>
            <p:nvPr/>
          </p:nvPicPr>
          <p:blipFill>
            <a:blip r:embed="rId1"/>
            <a:stretch/>
          </p:blipFill>
          <p:spPr>
            <a:xfrm>
              <a:off x="0" y="260280"/>
              <a:ext cx="2300400" cy="234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j0240719"/>
            <p:cNvPicPr/>
            <p:nvPr/>
          </p:nvPicPr>
          <p:blipFill>
            <a:blip r:embed="rId2"/>
            <a:stretch/>
          </p:blipFill>
          <p:spPr>
            <a:xfrm>
              <a:off x="3743280" y="189000"/>
              <a:ext cx="15876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0" descr="j0301252"/>
            <p:cNvPicPr/>
            <p:nvPr/>
          </p:nvPicPr>
          <p:blipFill>
            <a:blip r:embed="rId3"/>
            <a:stretch/>
          </p:blipFill>
          <p:spPr>
            <a:xfrm>
              <a:off x="6264360" y="0"/>
              <a:ext cx="2987640" cy="25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2" descr="j0291984"/>
            <p:cNvPicPr/>
            <p:nvPr/>
          </p:nvPicPr>
          <p:blipFill>
            <a:blip r:embed="rId4"/>
            <a:stretch/>
          </p:blipFill>
          <p:spPr>
            <a:xfrm>
              <a:off x="395280" y="4221000"/>
              <a:ext cx="2040120" cy="215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2852280"/>
            <a:ext cx="71643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«Дорога в завтра»</a:t>
            </a:r>
            <a:br>
              <a:rPr sz="2200"/>
            </a:br>
            <a:r>
              <a:rPr b="1" i="1" lang="ru-RU" sz="2200" spc="-1" strike="noStrike" u="sng">
                <a:solidFill>
                  <a:srgbClr val="7030a0"/>
                </a:solidFill>
                <a:uFillTx/>
                <a:latin typeface="Arial"/>
              </a:rPr>
              <a:t>час общения, посвященный профессиональному самоопределению</a:t>
            </a:r>
            <a:br>
              <a:rPr sz="27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3492360" y="5157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4"/>
                </a:solidFill>
                <a:latin typeface="Times New Roman"/>
              </a:rPr>
              <a:t>Презентацию подготовили: Клементьева Н.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4"/>
                </a:solidFill>
                <a:latin typeface="Times New Roman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0000d4"/>
                </a:solidFill>
                <a:latin typeface="Times New Roman"/>
              </a:rPr>
              <a:t>Добрынкина О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«Все профессии нужны,  все профессии важны»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440" y="1773360"/>
            <a:ext cx="896472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Segoe Print"/>
              </a:rPr>
              <a:t>Человек – природа</a:t>
            </a:r>
            <a:r>
              <a:rPr b="0" lang="ru-RU" sz="2200" spc="-1" strike="noStrike">
                <a:solidFill>
                  <a:srgbClr val="ffff00"/>
                </a:solidFill>
                <a:latin typeface="Segoe Print"/>
              </a:rPr>
              <a:t>; этот тип объединяет профессии, представители которых имеют дело с объектами, явлениями и процессами живой природ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Segoe Print"/>
              </a:rPr>
              <a:t>Человек – техника</a:t>
            </a:r>
            <a:r>
              <a:rPr b="0" lang="ru-RU" sz="2200" spc="-1" strike="noStrike">
                <a:solidFill>
                  <a:srgbClr val="ffff00"/>
                </a:solidFill>
                <a:latin typeface="Segoe Print"/>
              </a:rPr>
              <a:t>;  люди этого типа работают с техническими устройств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Segoe Print"/>
              </a:rPr>
              <a:t>Человек – человек</a:t>
            </a:r>
            <a:r>
              <a:rPr b="0" lang="ru-RU" sz="2200" spc="-1" strike="noStrike">
                <a:solidFill>
                  <a:srgbClr val="ffff00"/>
                </a:solidFill>
                <a:latin typeface="Segoe Print"/>
              </a:rPr>
              <a:t>;  обладатель профессии данного типа тесно связан с другими людьми, воздействует на ни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Segoe Print"/>
              </a:rPr>
              <a:t>Человек - знаковая система</a:t>
            </a:r>
            <a:r>
              <a:rPr b="0" lang="ru-RU" sz="2200" spc="-1" strike="noStrike">
                <a:solidFill>
                  <a:srgbClr val="ffff00"/>
                </a:solidFill>
                <a:latin typeface="Segoe Print"/>
              </a:rPr>
              <a:t>;  знаковая система – люди этой профессии должны уметь оперировать абстрактными понятиями, иметь широкий кругоз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000"/>
              </a:buClr>
              <a:buFont typeface="Segoe Pri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Segoe Print"/>
              </a:rPr>
              <a:t>Человек - художественный образ</a:t>
            </a:r>
            <a:r>
              <a:rPr b="0" lang="ru-RU" sz="2200" spc="-1" strike="noStrike">
                <a:solidFill>
                  <a:srgbClr val="ffff00"/>
                </a:solidFill>
                <a:latin typeface="Segoe Print"/>
              </a:rPr>
              <a:t>; людей этого типа профессии отличает наличие живого образа мышления, наличие фантазии, талан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6"/>
          <p:cNvSpPr/>
          <p:nvPr/>
        </p:nvSpPr>
        <p:spPr>
          <a:xfrm>
            <a:off x="900000" y="18900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Script"/>
              </a:rPr>
              <a:t>Типы професс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Схема 2" descr=""/>
          <p:cNvPicPr/>
          <p:nvPr/>
        </p:nvPicPr>
        <p:blipFill>
          <a:blip r:embed="rId1"/>
          <a:stretch/>
        </p:blipFill>
        <p:spPr>
          <a:xfrm>
            <a:off x="378000" y="1901880"/>
            <a:ext cx="8315280" cy="470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6"/>
          <p:cNvSpPr/>
          <p:nvPr/>
        </p:nvSpPr>
        <p:spPr>
          <a:xfrm>
            <a:off x="900000" y="18900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Script"/>
              </a:rPr>
              <a:t>Типы професс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Схема 2" descr=""/>
          <p:cNvPicPr/>
          <p:nvPr/>
        </p:nvPicPr>
        <p:blipFill>
          <a:blip r:embed="rId1"/>
          <a:stretch/>
        </p:blipFill>
        <p:spPr>
          <a:xfrm>
            <a:off x="378000" y="1901880"/>
            <a:ext cx="8315280" cy="4700520"/>
          </a:xfrm>
          <a:prstGeom prst="rect">
            <a:avLst/>
          </a:prstGeom>
          <a:ln w="0">
            <a:noFill/>
          </a:ln>
        </p:spPr>
      </p:pic>
      <p:pic>
        <p:nvPicPr>
          <p:cNvPr id="126" name="Новый проект.avi" descr=""/>
          <p:cNvPicPr/>
          <p:nvPr/>
        </p:nvPicPr>
        <p:blipFill>
          <a:blip r:embed="rId2"/>
          <a:stretch/>
        </p:blipFill>
        <p:spPr>
          <a:xfrm>
            <a:off x="-272880" y="0"/>
            <a:ext cx="96897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  <a:ea typeface="Times New Roman"/>
              </a:rPr>
              <a:t>5 до 8 баллов, как правило, люди малообщительные, стеснительные, замкнутые. Они не любят шумных, незнакомых компаний, встречи с незнакомыми людьми им доставляют беспокойство. Это значит, что им не очень подходят профессии, которые требуют активного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ия (продавец, учитель, журналист и психолог). Зато они будут хорошо себя чувствовать в научной лаборатории или на собственной ферме, в питомнике, лесничестве, охотохозяйстве. Таким людям подойдет работа программиста, слесаря или токаря, профессия бухгалтера, оператора ЭВ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до 12 очков, наоборот, очень общительны и чувствуют себя прекрасно в любой компании. Они не боятся новых знакомств, легко сходятся с людьми. Но они могут обходиться длительное время и без общения. Таким подойдут любые проф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до 15 очков, тоже люди общительные, но они не могут долго оставаться в одиночестве - в них слишком много энергии и силы. Таким людям лучше выбирать профессию, которая будет связана с большими коллективами людей, с активным общением: агента по рекламе, коммерческого директора, продавца, дилера, учителя, брокера или трен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79280" y="1628640"/>
            <a:ext cx="8856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Web-программис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web-дизайн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уди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ренд-менедже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огис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Мерчендайз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Segoe Script"/>
              </a:rPr>
              <a:t>Ярмарка професси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268360" y="3645000"/>
            <a:ext cx="662472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Segoe Script"/>
              </a:rPr>
              <a:t>Книгу перевороши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Segoe Script"/>
              </a:rPr>
              <a:t>намотай себе на ус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Segoe Script"/>
              </a:rPr>
              <a:t>все работы хорош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Segoe Script"/>
              </a:rPr>
              <a:t>выбирай на вку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Segoe Script"/>
              </a:rPr>
              <a:t>                  </a:t>
            </a:r>
            <a:r>
              <a:rPr b="1" lang="ru-RU" sz="3000" spc="-1" strike="noStrike">
                <a:solidFill>
                  <a:srgbClr val="eaeaea"/>
                </a:solidFill>
                <a:latin typeface="Segoe Script"/>
              </a:rPr>
              <a:t>В.В. Маяков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Прямоугольник 7" descr=""/>
          <p:cNvPicPr/>
          <p:nvPr/>
        </p:nvPicPr>
        <p:blipFill>
          <a:blip r:embed="rId1"/>
          <a:stretch/>
        </p:blipFill>
        <p:spPr>
          <a:xfrm>
            <a:off x="-512640" y="-420840"/>
            <a:ext cx="9023400" cy="773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4869000"/>
            <a:ext cx="883908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вой путь –твой выбо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360" y="6108480"/>
            <a:ext cx="860436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фориентация старше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E15903"/>
          <p:cNvPicPr/>
          <p:nvPr/>
        </p:nvPicPr>
        <p:blipFill>
          <a:blip r:embed="rId1"/>
          <a:stretch/>
        </p:blipFill>
        <p:spPr>
          <a:xfrm>
            <a:off x="2268360" y="333360"/>
            <a:ext cx="4561200" cy="4560840"/>
          </a:xfrm>
          <a:prstGeom prst="rect">
            <a:avLst/>
          </a:prstGeom>
          <a:ln w="6336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28600" y="2060280"/>
            <a:ext cx="86868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фессия - это трудовая деятельность человека, которая дает ему средства для существования и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ециальность - вид занятий в рамках одной проф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лификация - это уровень профессионального масте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сть - это место, занимаемое человеком в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BD07153_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дания для груп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группа - «Самые модные професс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ая группа - «Самые забытые професс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тья группа - «Профессии, которые всегда нуж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твертая группа - «Самые отважные професс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Segoe Script"/>
              </a:rPr>
              <a:t>Типичные ошибки при выборе профессии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1555920"/>
            <a:ext cx="583236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Segoe Print"/>
              </a:rPr>
              <a:t>«Давят» родит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Segoe Print"/>
              </a:rPr>
              <a:t>выбор за компа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Segoe Print"/>
              </a:rPr>
              <a:t>выбор близлежащего ВУЗа или внешне привлекательной, престижной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Segoe Print"/>
              </a:rPr>
              <a:t>ничего не знают о профессии, которую выб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MP900401567.JPG"/>
          <p:cNvPicPr/>
          <p:nvPr/>
        </p:nvPicPr>
        <p:blipFill>
          <a:blip r:embed="rId1"/>
          <a:stretch/>
        </p:blipFill>
        <p:spPr>
          <a:xfrm>
            <a:off x="6012000" y="1844640"/>
            <a:ext cx="2928960" cy="439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огу - хочу -  над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огу + хочу + надо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сознанный выбор профе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3924360" y="260280"/>
            <a:ext cx="28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Times New Roman"/>
              </a:rPr>
              <a:t>Тес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Равнобедренный треугольник 2"/>
          <p:cNvSpPr/>
          <p:nvPr/>
        </p:nvSpPr>
        <p:spPr>
          <a:xfrm>
            <a:off x="6300720" y="2492280"/>
            <a:ext cx="1871640" cy="1944720"/>
          </a:xfrm>
          <a:prstGeom prst="triangle">
            <a:avLst>
              <a:gd name="adj" fmla="val 50000"/>
            </a:avLst>
          </a:prstGeom>
          <a:solidFill>
            <a:srgbClr val="0000d4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Блок-схема: узел 3"/>
          <p:cNvSpPr/>
          <p:nvPr/>
        </p:nvSpPr>
        <p:spPr>
          <a:xfrm>
            <a:off x="3276720" y="2708280"/>
            <a:ext cx="2016000" cy="1873080"/>
          </a:xfrm>
          <a:prstGeom prst="flowChartConnector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Блок-схема: процесс 4"/>
          <p:cNvSpPr/>
          <p:nvPr/>
        </p:nvSpPr>
        <p:spPr>
          <a:xfrm>
            <a:off x="826920" y="3213000"/>
            <a:ext cx="1729080" cy="1440000"/>
          </a:xfrm>
          <a:prstGeom prst="flowChartProcess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8240" cy="16556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7"/>
          <p:cNvSpPr/>
          <p:nvPr/>
        </p:nvSpPr>
        <p:spPr>
          <a:xfrm>
            <a:off x="611280" y="5661000"/>
            <a:ext cx="7848360" cy="86364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d4"/>
                </a:solidFill>
                <a:latin typeface="Times New Roman"/>
              </a:rPr>
              <a:t>Составить фигуру человека из 10 эле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700360" y="62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Равнобедренный треугольник 2"/>
          <p:cNvSpPr/>
          <p:nvPr/>
        </p:nvSpPr>
        <p:spPr>
          <a:xfrm>
            <a:off x="7451640" y="333360"/>
            <a:ext cx="1062000" cy="914400"/>
          </a:xfrm>
          <a:prstGeom prst="triangle">
            <a:avLst>
              <a:gd name="adj" fmla="val 50000"/>
            </a:avLst>
          </a:prstGeom>
          <a:solidFill>
            <a:srgbClr val="0000d4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Блок-схема: узел 3"/>
          <p:cNvSpPr/>
          <p:nvPr/>
        </p:nvSpPr>
        <p:spPr>
          <a:xfrm>
            <a:off x="6300720" y="476280"/>
            <a:ext cx="863640" cy="888840"/>
          </a:xfrm>
          <a:prstGeom prst="flowChartConnector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Блок-схема: процесс 4"/>
          <p:cNvSpPr/>
          <p:nvPr/>
        </p:nvSpPr>
        <p:spPr>
          <a:xfrm>
            <a:off x="4859280" y="404640"/>
            <a:ext cx="914400" cy="900360"/>
          </a:xfrm>
          <a:prstGeom prst="flowChartProcess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539640" y="1628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ервый тип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6-8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треугольников. Тип руководителя, хорошие преподаватели. Ярко выражено стремление к лидерству, хорошо разбираются в людя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Второй тип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5 треугольников. Очень ответственные люди, имеющие хорошие организаторские способности. До мелочей продумывает свою дея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ретий тип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: 4 треугольника. Разнообразие интересов и талантов. Склонность к индивидуальной раб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Четвёртый тип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: 3 треугольника. Тип учёного. Рационален, объективен, легко переключается с одного вида деятельности на друг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ятый тип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2 треугольника. Интерес к искусству и человеку. Тонко чувствует всё новое и необычно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Шестой тип: 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1 треугольник. Изобретатель, конструктор, художник. Обладает богатым воображени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82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3:55:29Z</dcterms:created>
  <dc:creator>sergeyn</dc:creator>
  <dc:description/>
  <dc:language>en-US</dc:language>
  <cp:lastModifiedBy>Школа</cp:lastModifiedBy>
  <dcterms:modified xsi:type="dcterms:W3CDTF">2017-08-31T09:16:34Z</dcterms:modified>
  <cp:revision>41</cp:revision>
  <dc:subject/>
  <dc:title>«НАЙТИ СЕБЯ» час общения, посвященный профессиональному самоопределени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