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B1C-43C8-4924-9A19-8AF635DE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D07-F364-4602-A594-F9F48D4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95F85-909D-4EC5-8579-AD881522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D1AF4-2904-4793-AA1B-27B150F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E3ADD-E5E9-4079-BDFC-43CFD036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62393-D498-4789-8B3B-44B061C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0F1D4-CD4F-4070-B78C-F818FAA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D2356-78CF-47BD-B394-16D6586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E7436-A9A7-40CF-8570-3DDB0DEC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98F00-1054-40ED-A964-BB611D0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09CCE-FD81-46AA-9321-D6236EBA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7A6F5-B733-4A7A-9F9C-9B8AA02F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47B-E97B-4993-A672-253D626D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07974-7CB9-41DE-8300-9409A19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A8295-50AC-4AE9-89BC-338692C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928D3-3769-45B9-B7A5-24D0FC4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03D97-62F3-4F91-AE1D-C755CED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BE039-B744-4D08-819C-4D0396F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E1C59-B03F-4D92-86FE-A79F41F8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A579D-295F-4C12-A618-675EA67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9F9AC-51F1-4D11-AB0B-9923D258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1CF04-FBFC-414F-9F77-0696C326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3A384-12A5-44CA-BD56-2CF40CC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6D0-FBA8-4126-8A54-BD9491DA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50CFD-1E8C-403E-A02C-ABB694F1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77715-0D21-402A-823F-324F6DEE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1EC3-5A52-447F-A1BC-023C4BD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74C72-F899-4CDA-B442-E0B29CC6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7A302-7B43-4FE2-8E74-328FAB2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6CDB6-260C-43C7-884B-84FD2BF4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B14BE-01EA-462E-A150-269B4AB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0B53-0BB1-4B49-A959-FFC4A06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A0059-FF8C-424E-82AC-7C005C8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9A628-6520-48DE-874B-1D3D09B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3B0-6CEE-4A2A-90FF-44A39A6A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7568-E2B9-4148-92D9-2F525AB9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998F-EC9E-4D45-B788-A8C5BA9E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4D4C-F1A8-4539-AA21-6FBCAF9F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0711D-04C7-40A3-A6AC-1139230F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D946C-E31A-480D-94BA-A83C4CA3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B154B-984F-4B82-B33E-14907FD2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182FA-71A5-4E44-AF7A-DBCF744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453DF-3CB3-4447-870A-1867309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10DFD-43BD-4BA5-9091-9613922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EC3D9-90BF-4C4D-B99A-063DD5B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D34-002B-4A08-AEEC-B0FB556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6C204-849F-449C-979C-16B58C8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745AE-F18E-48E3-9676-F4D252A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CFCCF-80E3-4068-82F4-7D30A86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5E381-BFA4-4D99-AB49-A65CE12E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50C76-3726-4EB3-8206-0613DB06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D69-3593-4142-AF8B-D8612939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035B-B03C-4506-99A5-03E3BA3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B096-0821-408C-95E1-0513F3F2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E45B-FF41-4FA0-ACCF-75A3901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41C-8634-4A71-8307-280182F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3D7-B568-4156-B09A-E77CCC5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EBF-0C4E-4770-AFE0-BF31B36C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A3B-0213-4E97-8A5C-C7FCD89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4B41-B663-4F6E-99D5-D0345E92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E1A5-B4B0-4C21-8313-49851C2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FFE-8FD9-4FB7-A8CC-515C274E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4626-6B4F-4D0B-A8B3-863CB9C3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E924-48AF-473F-B911-D30C9780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92BE-2BF1-4FC0-986A-FD4D7ABE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5313-2622-4AE5-8267-6D89E78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DF04-F498-45CE-A761-7076932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FCB-DA03-463D-9190-D87DDC3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313B-39AF-4EBE-B03C-9BDC667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AEB2-73EC-43CD-AEBF-4CBAFB5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38EA-65B6-493E-85FD-E18D48F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DF1D-F534-4E4A-BA36-971D428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01AF-5807-4ED9-A369-547A6479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07AE-BE52-4A71-8402-FC3A373B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CB10-9D6D-414F-BB4A-16544E0B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DE8C-4CD6-4D7A-AA78-3126293E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9E08-329D-4B29-AC51-8A6B2EF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459A-15B0-4F95-A73C-35A573E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F2C-D1C4-4B1B-ACE5-D230FBBD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B80A-153F-4838-AD91-820F5EC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EBBD-6752-4298-BB10-83F74BA0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EBD4-E6F1-42F6-ABA1-6361DA9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5912-1276-48A5-BB5F-B2F7C0E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F92C-B1EB-4780-B0A4-92600B5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85BD-141B-409D-B5DC-CEB7BD7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BFE8-D1B1-4C38-A8CC-45D76DFA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693C-C982-4582-8305-75C1E382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9C84-55B5-494B-A7DF-72D1876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92A4-72F4-4E73-A1EC-6AE8CDAE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C13-A2BA-4F2C-89EA-6F28F576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8AF8-5091-4D6A-9990-5CC10916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4DDB-D2C5-4E18-B0EE-5FD3B21F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149E-587C-405A-ABCE-ABD8224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4DA8-2DC1-4A37-80D7-AB30E17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7127-0107-4E16-907D-F5DDD40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EBF0-2925-4534-A9E5-191C6E4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C449-7B43-4BC8-9797-20C6096E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40A4-3A3E-4E85-819E-63F02C4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2287-7AAF-428B-A528-D5287D6B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1D88-906E-4FE5-B510-35F468CD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094-B580-447A-9720-86CBB814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6335-64BC-45C6-B45E-A19FF972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6CBB0-2576-44DF-87B5-4F8010B1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9573A-84BC-4BA2-B95C-64254011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B3A9-6E39-478C-BA22-5AC2B665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FAEC-B88F-46DA-BD42-5909AC3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CD91-DD67-4C14-B56D-C48A5AD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F720-EBC1-40B8-909D-B3F39BD9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F710-EF3F-486C-9169-9FF5A1A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EE19-830D-4034-8FCA-8B81193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4E02-E9D2-49DB-8E12-B1E6A13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C87-B587-4CFE-B2EE-4C3D414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8B5D-AD07-43ED-B907-C698572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E97E-B732-4376-AE2E-145E9CF0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2491-2B0E-4B42-8C59-06C5514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98C0-EE92-4122-8F88-9336113E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2B3E-3953-4DF7-93D9-7737FA98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E989-2B2E-4227-B5BF-E85DED36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E9B3-3D1B-43AB-B367-C8ECDFB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1645-FABA-47F5-B5B3-776AEBB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3573-3DE7-4CD9-A5CF-976A4AE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8C08-90FD-4B95-89BD-D60AF33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5B8-5CA5-4274-8A5B-2AD7FED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E6BFC-5EC3-46FF-B5CF-6C5B96A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03876-9598-43B8-AFD7-B9CD30B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B0C1C-02C7-4037-B2D7-5992F1D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D2A66-A7E8-48F1-B4FC-4754FD06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26C7-0173-48DA-ABE9-FCA47EF7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83356-8FEA-4885-AAF6-69BB414E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2D75-DD3A-43A7-97E0-3A40F00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5459F-CED0-4260-83F1-1DEFEB7B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0AD4-92CA-436B-BE03-43EE1EF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B807-CF2F-4792-9465-F001F33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A35-CC1E-45E8-A8FE-D55F2AA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104D-1D18-4877-8F35-0DC2340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4BBC-73D1-4960-ACBF-ACC0835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B280-23CB-42A0-836C-A49DA7C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AA1A3-A5C8-4F9F-9523-2F8F5F9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518E0-3F14-495F-9B08-3FA910C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D3E84-82F0-4AA2-995A-094657BB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86221-0D84-4E78-A454-80D65AB9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0BF39-0EC1-4DAC-8259-4B833ED0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20FBC-3CCC-4786-B2F0-175F8053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D39BD-1A11-435D-A5DC-FBDCD5A0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80F5-3B3B-4595-AAD0-CAC879D4A0F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8D7D-EA41-4056-B6C0-A28039E6CC8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D028-528B-449F-80FE-FA18DCA24D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638A-E06C-49D7-9CD5-9B06A6B1D84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66F-E593-4EDF-88AC-8D1E749B11A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7C4A-1F5B-468E-BD10-C69875E8F0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6102-CB0F-45C3-B4F2-D4D856A6E2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16B-322B-4A05-A3D8-9C3910A0411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301-20B7-459E-BE56-3E1EE8FA19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E8F8-F58A-41E1-B7FF-4D3F9856CB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DC7-9E93-4E16-86FC-F9320D131E7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79F9-5BDE-45DA-9218-975D4B78DD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118.edu.kh.ua/files2/images/uchenik.png%20&#1063;&#1048;&#1058;&#1040;&#1058;&#1045;&#1051;&#1068;%20%21.png?size=11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РН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С- – - КОС-</a:t>
            </a:r>
            <a:br>
              <a:rPr sz="32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C:\Users\Андрон\Desktop\9b5e21865d35a72b396e2769ea459077.png"/>
          <p:cNvPicPr/>
          <p:nvPr/>
        </p:nvPicPr>
        <p:blipFill>
          <a:blip r:embed="rId1"/>
          <a:stretch/>
        </p:blipFill>
        <p:spPr>
          <a:xfrm>
            <a:off x="380880" y="3276720"/>
            <a:ext cx="41547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Скругленная прямоугольная выноска 4"/>
          <p:cNvSpPr/>
          <p:nvPr/>
        </p:nvSpPr>
        <p:spPr>
          <a:xfrm>
            <a:off x="2590920" y="3581280"/>
            <a:ext cx="6324480" cy="762120"/>
          </a:xfrm>
          <a:prstGeom prst="wedgeRoundRectCallout">
            <a:avLst>
              <a:gd name="adj1" fmla="val -57810"/>
              <a:gd name="adj2" fmla="val 97472"/>
              <a:gd name="adj3" fmla="val 16667"/>
            </a:avLst>
          </a:prstGeom>
          <a:solidFill>
            <a:srgbClr val="d6e0d5"/>
          </a:solidFill>
          <a:ln w="9360">
            <a:solidFill>
              <a:srgbClr val="8fb08c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ратите внимание на ударение и морфему  после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8"/>
          <p:cNvSpPr/>
          <p:nvPr/>
        </p:nvSpPr>
        <p:spPr>
          <a:xfrm>
            <a:off x="30492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наблюдайте,  обсудите в парах, како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сло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основным при выбор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бук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с -/ -кос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9"/>
          <p:cNvSpPr/>
          <p:nvPr/>
        </p:nvSpPr>
        <p:spPr>
          <a:xfrm>
            <a:off x="2971800" y="4876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0"/>
          <p:cNvSpPr/>
          <p:nvPr/>
        </p:nvSpPr>
        <p:spPr>
          <a:xfrm>
            <a:off x="609480" y="6019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свой вывод с текстом правила (стр 10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1"/>
          <p:cNvSpPr/>
          <p:nvPr/>
        </p:nvSpPr>
        <p:spPr>
          <a:xfrm>
            <a:off x="533520" y="30492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сло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КАСАТЬС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КОСНОВ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САЮ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ОС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5" descr="http://school118.edu.kh.ua/files2/images/uchenik.png%20%D0%A7%D0%98%D0%A2%D0%90%D0%A2%D0%95%D0%9B%D0%AC%20%21.png?size=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6"/>
          <p:cNvSpPr/>
          <p:nvPr/>
        </p:nvSpPr>
        <p:spPr>
          <a:xfrm>
            <a:off x="99072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ЗЕЛОК НА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Выноска-облако 7"/>
          <p:cNvSpPr/>
          <p:nvPr/>
        </p:nvSpPr>
        <p:spPr>
          <a:xfrm>
            <a:off x="2133720" y="1447920"/>
            <a:ext cx="6705360" cy="3352680"/>
          </a:xfrm>
          <a:prstGeom prst="cloudCallout">
            <a:avLst>
              <a:gd name="adj1" fmla="val -53018"/>
              <a:gd name="adj2" fmla="val 78675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Если </a:t>
            </a:r>
            <a:r>
              <a:rPr b="0" lang="ru-RU" sz="4000" spc="-1" strike="noStrike">
                <a:solidFill>
                  <a:srgbClr val="c00000"/>
                </a:solidFill>
                <a:latin typeface="Georgia"/>
              </a:rPr>
              <a:t>после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корня </a:t>
            </a:r>
            <a:r>
              <a:rPr b="0" lang="ru-RU" sz="4000" spc="-1" strike="noStrike">
                <a:solidFill>
                  <a:srgbClr val="c00000"/>
                </a:solidFill>
                <a:latin typeface="Georgia"/>
              </a:rPr>
              <a:t>–А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с корнем </a:t>
            </a:r>
            <a:r>
              <a:rPr b="0" lang="ru-RU" sz="4000" spc="-1" strike="noStrike">
                <a:solidFill>
                  <a:srgbClr val="c00000"/>
                </a:solidFill>
                <a:latin typeface="Georgia"/>
              </a:rPr>
              <a:t>-КАС -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пиши сл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5" descr="C:\Users\Наська и Лена\Desktop\6347222331956928.png"/>
          <p:cNvPicPr/>
          <p:nvPr/>
        </p:nvPicPr>
        <p:blipFill>
          <a:blip r:embed="rId1"/>
          <a:stretch/>
        </p:blipFill>
        <p:spPr>
          <a:xfrm>
            <a:off x="304920" y="4648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"/>
          <p:cNvSpPr/>
          <p:nvPr/>
        </p:nvSpPr>
        <p:spPr>
          <a:xfrm>
            <a:off x="228600" y="533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наших выводов составим пошаговый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орфограмме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-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орне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КАС- / -К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"/>
          <p:cNvSpPr/>
          <p:nvPr/>
        </p:nvSpPr>
        <p:spPr>
          <a:xfrm>
            <a:off x="2514600" y="236232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ить уда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ить 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ить 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ли после корня суффик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Прямая со стрелкой 9"/>
          <p:cNvCxnSpPr/>
          <p:nvPr/>
        </p:nvCxnSpPr>
        <p:spPr>
          <a:xfrm flipH="1">
            <a:off x="3428640" y="3733920"/>
            <a:ext cx="99144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2" name="TextBox 25"/>
          <p:cNvSpPr/>
          <p:nvPr/>
        </p:nvSpPr>
        <p:spPr>
          <a:xfrm>
            <a:off x="1447920" y="4114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3"/>
          <p:cNvSpPr/>
          <p:nvPr/>
        </p:nvSpPr>
        <p:spPr>
          <a:xfrm>
            <a:off x="1295280" y="50292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-КА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9"/>
          <p:cNvCxnSpPr/>
          <p:nvPr/>
        </p:nvCxnSpPr>
        <p:spPr>
          <a:xfrm>
            <a:off x="5181480" y="3733920"/>
            <a:ext cx="106776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Прямая со стрелкой 28"/>
          <p:cNvCxnSpPr/>
          <p:nvPr/>
        </p:nvCxnSpPr>
        <p:spPr>
          <a:xfrm flipH="1">
            <a:off x="2208960" y="4648320"/>
            <a:ext cx="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Прямая со стрелкой 28"/>
          <p:cNvCxnSpPr/>
          <p:nvPr/>
        </p:nvCxnSpPr>
        <p:spPr>
          <a:xfrm flipH="1">
            <a:off x="6780960" y="4648320"/>
            <a:ext cx="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7" name="TextBox 21"/>
          <p:cNvSpPr/>
          <p:nvPr/>
        </p:nvSpPr>
        <p:spPr>
          <a:xfrm>
            <a:off x="60199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2"/>
          <p:cNvSpPr/>
          <p:nvPr/>
        </p:nvSpPr>
        <p:spPr>
          <a:xfrm>
            <a:off x="5638680" y="50292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-КОС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У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нуло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етс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…снули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…сайте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…снове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ЬЗУЯСЬ АЛГОРИТМОМ, ЗАПИШИТЕ СЛОВА, ВСТАВЬТЕ ПРОПУЩЕННЫЕ БУКВЫ. 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01320" y="1295280"/>
            <a:ext cx="850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ло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с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ули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тес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е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 СЕБЯ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ыполнена: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шибочно – 5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шибки -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ошибки -3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  РАБОТУ   ОДНОКЛАССНИК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Georgia"/>
              </a:rPr>
              <a:t>РАБОТА ПО УЧЕБНИКУ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105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ать, выделить орфограмму и условие ее выбо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Georgia"/>
              </a:rPr>
              <a:t>ПОДВЕДЕМ    ИТОГ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ему учились на уроке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вторите правило правописания корней </a:t>
            </a: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–КОС-КАС-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Georgia"/>
              </a:rPr>
              <a:t>ДОМАШНЕЕ 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104 ВЫУЧИТЬ  ПРАВИЛ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ЯСЬ ПОШАГОВЫМ АЛГОРИТМОМ ВЫПОЛНИТЬ УПРАЖНЕНИЕ НА ВЫБОР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105 №184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ПО КАРТОЧК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Georgia"/>
              </a:rPr>
              <a:t>ИГРА: «КТО БЫСТРЕЕ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Прямоугольник 7"/>
          <p:cNvSpPr/>
          <p:nvPr/>
        </p:nvSpPr>
        <p:spPr>
          <a:xfrm>
            <a:off x="762120" y="144792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ТЬСЯ   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НУТЬСЯ   П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НИЕ   МЯ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НУЛИСЬ  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ТЕЛЬНАЯ    ЛИ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ЕТСЯ     РУ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НУЛСЯ   ВЕТВЯМИ   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Е    К…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САТЕЛЬНО   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0520" y="1523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eorgia"/>
              </a:rPr>
              <a:t>ВОДНЫЙ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8" descr="C:\Users\Андрон\Desktop\9b5e21865d35a72b396e2769ea459077.png"/>
          <p:cNvPicPr/>
          <p:nvPr/>
        </p:nvPicPr>
        <p:blipFill>
          <a:blip r:embed="rId1"/>
          <a:stretch/>
        </p:blipFill>
        <p:spPr>
          <a:xfrm>
            <a:off x="152280" y="4319640"/>
            <a:ext cx="28195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C:\Users\Андрон\Desktop\4335938-33c906428bd2647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Б…РАТЬ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К…САТЬС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ОТ…РЕТЬ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ОЛ…ГАТЬ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К…СНОВЕНИЕ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ЫР…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пропущенные буквы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значить  морфему, с которой вы работали. 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1320" y="914040"/>
            <a:ext cx="850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…РАТЬ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…САТЬСЯ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ЬСЯ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…РЕТЬ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 СЕБ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01320" y="914040"/>
            <a:ext cx="850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…РЕТ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…СНОВЕНИЕ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ЕНИЕ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…СТ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 СЕБ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2"/>
          <p:cNvSpPr/>
          <p:nvPr/>
        </p:nvSpPr>
        <p:spPr>
          <a:xfrm>
            <a:off x="1448280" y="228600"/>
            <a:ext cx="640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улируйте проблему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228600" y="144792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ff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ГДА  ПИСАТЬ  В  КОРНЯХ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С / К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КВУ –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ОГДА  БУКВУ 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8" descr="C:\Users\Андрон\Desktop\A03_36_3.jpg"/>
          <p:cNvPicPr/>
          <p:nvPr/>
        </p:nvPicPr>
        <p:blipFill>
          <a:blip r:embed="rId1"/>
          <a:stretch/>
        </p:blipFill>
        <p:spPr>
          <a:xfrm>
            <a:off x="6705720" y="3733920"/>
            <a:ext cx="1520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2"/>
          <p:cNvSpPr/>
          <p:nvPr/>
        </p:nvSpPr>
        <p:spPr>
          <a:xfrm>
            <a:off x="1455120" y="228600"/>
            <a:ext cx="57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улируйт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228600" y="144792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ff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орн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С / 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457200" y="4648320"/>
            <a:ext cx="4876920" cy="1218960"/>
          </a:xfrm>
          <a:prstGeom prst="roundRect">
            <a:avLst>
              <a:gd name="adj" fmla="val 16667"/>
            </a:avLst>
          </a:prstGeom>
          <a:solidFill>
            <a:srgbClr val="ff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тем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оретическую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C:\Users\Наська и Лена\Desktop\1442127536.gif"/>
          <p:cNvPicPr/>
          <p:nvPr/>
        </p:nvPicPr>
        <p:blipFill>
          <a:blip r:embed="rId1"/>
          <a:stretch/>
        </p:blipFill>
        <p:spPr>
          <a:xfrm>
            <a:off x="6019920" y="4191120"/>
            <a:ext cx="2590560" cy="1885680"/>
          </a:xfrm>
          <a:prstGeom prst="rect">
            <a:avLst/>
          </a:prstGeom>
          <a:ln w="0">
            <a:noFill/>
          </a:ln>
        </p:spPr>
      </p:pic>
      <p:sp>
        <p:nvSpPr>
          <p:cNvPr id="625" name="Выгнутая вверх стрелка 8"/>
          <p:cNvSpPr/>
          <p:nvPr/>
        </p:nvSpPr>
        <p:spPr>
          <a:xfrm>
            <a:off x="4800600" y="3352680"/>
            <a:ext cx="1828800" cy="1143000"/>
          </a:xfrm>
          <a:custGeom>
            <a:avLst/>
            <a:gdLst>
              <a:gd name="textAreaLeft" fmla="*/ 370800 w 1828800"/>
              <a:gd name="textAreaRight" fmla="*/ 123264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8" hR="21600" stAng="10800000" swAng="5400000"/>
                <a:lnTo>
                  <a:pt x="10178" y="0"/>
                </a:lnTo>
                <a:arcTo wR="8758" hR="21600" stAng="-5400000" swAng="3450572"/>
                <a:lnTo>
                  <a:pt x="21322" y="16200"/>
                </a:lnTo>
                <a:lnTo>
                  <a:pt x="18225" y="21600"/>
                </a:lnTo>
                <a:lnTo>
                  <a:pt x="14572" y="16200"/>
                </a:lnTo>
                <a:lnTo>
                  <a:pt x="17237" y="16200"/>
                </a:lnTo>
                <a:arcTo wR="8758" hR="21600" stAng="-1949428" swAng="-3337239"/>
                <a:lnTo>
                  <a:pt x="9468" y="71"/>
                </a:lnTo>
                <a:arcTo wR="8758" hR="21600" stAng="-5513332" swAng="-5286668"/>
                <a:close/>
              </a:path>
              <a:path fill="darkenLess" w="21600" h="21600">
                <a:moveTo>
                  <a:pt x="0" y="21600"/>
                </a:moveTo>
                <a:arcTo wR="8758" hR="21600" stAng="10800000" swAng="5400000"/>
                <a:lnTo>
                  <a:pt x="8758" y="0"/>
                </a:lnTo>
                <a:arcTo wR="8758" hR="21600" stAng="-5400000" swAng="113332"/>
                <a:lnTo>
                  <a:pt x="9468" y="71"/>
                </a:lnTo>
                <a:arcTo wR="8758" hR="21600" stAng="-5513332" swAng="-5286668"/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уквы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корне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–КАС- / -КОС-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ЦЕЛИ УРОК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Познакомиться с орфограммой «БУКВЫ А и О В КОРНЕ –КАС-/ -КОС-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Научиться писать слова с изученной орфограммой и графически обозначать условия выбора орфограм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уквы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корне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–КАС- / -КОС-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ЧИ  УРОК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Выучить орфограмму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А-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корнях -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АС/КО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Разработать алгоритм применения данного прави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Закрепить изученную орфограмму при выполнении упраж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7:50:44Z</dcterms:created>
  <dc:creator>Нина</dc:creator>
  <dc:description/>
  <dc:language>en-US</dc:language>
  <cp:lastModifiedBy>Наська и Лена</cp:lastModifiedBy>
  <dcterms:modified xsi:type="dcterms:W3CDTF">2017-11-14T16:44:46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