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6778-9625-40FA-A383-6BBA7520F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B69-01F0-43AD-A2F2-25CCDE9DC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AD0-0259-4F5B-A18B-A706D5714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7E9-885F-47C6-B615-E84DB416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250-88BC-4497-B552-288BC9C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041-B6CA-44FF-A660-BCFB688E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172-6F29-4177-BB7C-A9F043B7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6F1-029F-43ED-8E19-368CE0B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23B-FD9E-43AA-8F40-C3ED9754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94D-D3C7-4443-B436-417891DD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810-30C4-430C-86DF-8604EAC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DC5-C30A-41A8-A5E8-57BEBC06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14-EFC7-4CCF-B885-90C8498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2EC-101C-41A1-B2F1-664978A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B0D-EF16-4F1E-9FC0-DD06BA3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7673-B9B0-4149-9AF3-B5EAC098A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videouroki.net/razrabotki/prezentatsiya-po-okruzhayushchemu-miru-komnatnye-rasteniya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 правильно ухаживать за комнатными растен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6728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77120" y="203688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Ш 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авлово, ученица 2 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пова Дарья , учитель Бурчалова Эльви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solidFill>
            <a:srgbClr val="92d05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videouroki.net/razrabotki/prezentatsiya-po-okruzhayushchemu-miru-komnatnye-rasteniy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text=%D0%BA%D0%B0%D1%80%D1%82%D0%B8%D0%BD%D0%BA%D0%B8%20%D0%BA%D0%BE%D0%BC%D0%BD%D0%B0%D1%82%D0%BD%D1%8B%D0%BC%D0%B8%20%D1%80%D0%B0%D1%81%D1%82%D0%B5%D0%BD%D0%B8%D1%8F%D0%BC%D0%B8&amp;noreask=1&amp;img_url=https%3A%2F%2Ffs00.infourok.ru%2Fimages%2Fdoc%2F284%2F289338%2Fimg8.jpg&amp;pos=1&amp;rpt=simage&amp;lr=11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yandex.ru/images/search?text=%D0%BA%D0%B0%D1%80%D1%82%D0%B8%D0%BD%D0%BA%D0%B8%20%D0%BA%D0%BE%D0%BC%D0%BD%D0%B0%D1%82%D0%BD%D0%BE%D0%B5%20%D1%80%D0%B0%D1%81%D1%82%D0%B5%D0%BD%D0%B8%D0%B5&amp;img_url=https%3A%2F%2Fupload.wikimedia.org%2Fwikipedia%2Fcommons%2Fthumb%2F1%2F19%2F2007-04-20Saintpaulia_ionantha04.jpg%2F240px-2007-04-20Saintpaulia_ionantha04.jpg&amp;pos=17&amp;rpt=simage&amp;lr=11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cp:lastPrinted>2017-11-20T07:13:12Z</cp:lastPrinted>
  <dcterms:modified xsi:type="dcterms:W3CDTF">2017-11-20T13:14:4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