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65EC-A04F-45D8-8525-EB13D015E8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AE54-8C78-4557-B9A1-040D22E0EC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AFBB-C585-41B8-A482-582647C801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3FD-F842-4EE3-840D-F22EDE12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FA9E-A66D-47E8-B1B7-B015ED9D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821F-985C-4122-A5BB-45A7FA9C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632-7ECF-48FC-AD62-59C0BDF3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C9A-ECE3-41BC-9CFA-30D7CC6C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4009-A150-480E-8523-1603FC8C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255-8698-4936-BAFF-5ADFBBA3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3843-8775-4695-8C92-C098AB7F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2DA-384B-4102-B99C-0328CB48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FB45-1F97-4F1A-B18B-2D7C5B3D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D69A-0851-49E0-BE21-08358487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7AAE-8AFC-4A1A-B6E5-A1300893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C795-E03C-42D9-AFB4-76763FA9F4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videouroki.net/razrabotki/prezentatsiya-po-okruzhayushchemu-miru-komnatnye-rasteniya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ак правильно ухаживать за комнатными растения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67280" cy="4800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477120" y="2036880"/>
            <a:ext cx="228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Ш 1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Павлово, ученица 2 а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пова Дарья , учитель Бурчалова Эльвир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533520" y="609480"/>
            <a:ext cx="8076960" cy="5580360"/>
          </a:xfrm>
          <a:prstGeom prst="rect">
            <a:avLst/>
          </a:prstGeom>
          <a:solidFill>
            <a:srgbClr val="92d05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videouroki.net/razrabotki/prezentatsiya-po-okruzhayushchemu-miru-komnatnye-rasteniy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yandex.ru/images/search?text=%D0%BA%D0%B0%D1%80%D1%82%D0%B8%D0%BD%D0%BA%D0%B8%20%D0%BA%D0%BE%D0%BC%D0%BD%D0%B0%D1%82%D0%BD%D1%8B%D0%BC%D0%B8%20%D1%80%D0%B0%D1%81%D1%82%D0%B5%D0%BD%D0%B8%D1%8F%D0%BC%D0%B8&amp;noreask=1&amp;img_url=https%3A%2F%2Ffs00.infourok.ru%2Fimages%2Fdoc%2F284%2F289338%2Fimg8.jpg&amp;pos=1&amp;rpt=simage&amp;lr=110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yandex.ru/images/search?text=%D0%BA%D0%B0%D1%80%D1%82%D0%B8%D0%BD%D0%BA%D0%B8%20%D0%BA%D0%BE%D0%BC%D0%BD%D0%B0%D1%82%D0%BD%D0%BE%D0%B5%20%D1%80%D0%B0%D1%81%D1%82%D0%B5%D0%BD%D0%B8%D0%B5&amp;img_url=https%3A%2F%2Fupload.wikimedia.org%2Fwikipedia%2Fcommons%2Fthumb%2F1%2F19%2F2007-04-20Saintpaulia_ionantha04.jpg%2F240px-2007-04-20Saintpaulia_ionantha04.jpg&amp;pos=17&amp;rpt=simage&amp;lr=110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</cp:lastModifiedBy>
  <cp:lastPrinted>2017-11-20T07:13:12Z</cp:lastPrinted>
  <dcterms:modified xsi:type="dcterms:W3CDTF">2017-11-20T13:14:4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