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3F16A-E7DD-467A-8B05-0F5C1D31F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64AED-B140-46B7-AD13-0461DF755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3FCF7-2E14-4241-8BC2-1C1BE7794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11E4F-9F73-43F1-A27D-D751D0F40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2209F-25DC-47ED-97D9-70EA09E27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D7D13-2973-4F77-98E4-EB3CA2B10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20300-0A26-4460-A981-399C9DF10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A467B-00BB-4881-8601-FC778BFD9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3E88A-5612-4BE3-9F7F-ACF7D451B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B068C-FCF9-4438-92AE-54A3AFCBB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E30C9-10C9-4B74-9B5B-F5F39FB5D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2BA0B-C817-4C93-A6D9-4B359664A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CEA8D-1D0D-4118-9161-4B7620910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4B2E0-F04F-4A76-9776-07765463E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3892A-5D5F-4401-B1EB-7340BD8D2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B3EF7-F8C1-467D-80DA-D4682E77F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510C8-C970-4665-AC06-38903D5EE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C65AC-7569-46CD-9248-9546B76C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1144-9211-4EEC-8277-D4CC73A68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A3B6-9436-42D0-9C03-D4F8E6273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A5FF6-0E51-4BE7-B3A4-C60A0B4CD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2BCA6-2E0C-4CD5-A7E7-F9A3AE2DA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630E4-CB94-4E08-8351-F311E6585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2AE08-1E1B-4C6F-8965-E108A4698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F21F-1359-49CA-A49C-9FCCC551964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C343-D67F-4BE8-8727-3B8D6BDAD67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vse-sama.ru/images/stories/master-class/shite/MK---Russkaia-narodnaia-kucla-Horovodnitca-foto.jpg"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vse-sama.ru/images/stories/master-class/shite/MK---Russkaia-narodnaia-kucla-Horovodnitca-1.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vse-sama.ru/images/stories/master-class/shite/MK---Russkaia-narodnaia-kucla-Horovodnitca-2.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vse-sama.ru/images/stories/master-class/shite/MK---Russkaia-narodnaia-kucla-Horovodnitca-5.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vse-sama.ru/images/stories/master-class/shite/MK---Russkaia-narodnaia-kucla-Horovodnitca-6.jpg" TargetMode="External"/><Relationship Id="rId2" Type="http://schemas.openxmlformats.org/officeDocument/2006/relationships/image" Target="../media/image5.jpeg"/><Relationship Id="rId3" Type="http://schemas.openxmlformats.org/officeDocument/2006/relationships/hyperlink" Target="https://vse-sama.ru/images/stories/master-class/shite/MK---Russkaia-narodnaia-kucla-Horovodnitca-8.jpg"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ec94"/>
                </a:solidFill>
                <a:latin typeface="Times New Roman"/>
              </a:rPr>
              <a:t>МУНИЦИПАЛЬНОЕ БЮДЖЕТНОЕ ДОШКОЛЬНОЕ  ОБРАЗОВАТЕЛЬНОЕ УЧРЕЖДЕНИЕ «ДЕТСКИЙ САД №104» </a:t>
            </a:r>
            <a:br>
              <a:rPr sz="1600"/>
            </a:br>
            <a:r>
              <a:rPr b="1" lang="ru-RU" sz="1600" spc="-1" strike="noStrike">
                <a:solidFill>
                  <a:srgbClr val="feec94"/>
                </a:solidFill>
                <a:latin typeface="Times New Roman"/>
              </a:rPr>
              <a:t>(МБ ДОУ «Детский сад№104»)</a:t>
            </a:r>
            <a:br>
              <a:rPr sz="1600"/>
            </a:br>
            <a:r>
              <a:rPr b="1" lang="ru-RU" sz="4800" spc="-1" strike="noStrike">
                <a:solidFill>
                  <a:srgbClr val="feec94"/>
                </a:solidFill>
                <a:latin typeface="Times New Roman"/>
              </a:rPr>
              <a:t>Мастер-класс</a:t>
            </a:r>
            <a:br>
              <a:rPr sz="4800"/>
            </a:br>
            <a:r>
              <a:rPr b="1" lang="ru-RU" sz="3200" spc="-1" strike="noStrike">
                <a:solidFill>
                  <a:srgbClr val="feec94"/>
                </a:solidFill>
                <a:latin typeface="Times New Roman"/>
              </a:rPr>
              <a:t>Русская народная кукла – «Хороводница»</a:t>
            </a:r>
            <a:br>
              <a:rPr sz="2400"/>
            </a:br>
            <a:r>
              <a:rPr b="0" lang="ru-RU" sz="2400" spc="-1" strike="noStrike">
                <a:solidFill>
                  <a:srgbClr val="feec94"/>
                </a:solidFill>
                <a:latin typeface="Times New Roman"/>
              </a:rPr>
              <a:t>                                                  </a:t>
            </a:r>
            <a:br>
              <a:rPr sz="2400"/>
            </a:br>
            <a:r>
              <a:rPr b="0" lang="ru-RU" sz="2400" spc="-1" strike="noStrike">
                <a:solidFill>
                  <a:srgbClr val="feec94"/>
                </a:solidFill>
                <a:latin typeface="Times New Roman"/>
              </a:rPr>
              <a:t>                                                  Подготовила:</a:t>
            </a:r>
            <a:br>
              <a:rPr sz="2400"/>
            </a:br>
            <a:r>
              <a:rPr b="0" lang="ru-RU" sz="2400" spc="-1" strike="noStrike">
                <a:solidFill>
                  <a:srgbClr val="feec94"/>
                </a:solidFill>
                <a:latin typeface="Times New Roman"/>
              </a:rPr>
              <a:t>                                                 воспитатель</a:t>
            </a:r>
            <a:br>
              <a:rPr sz="2400"/>
            </a:br>
            <a:r>
              <a:rPr b="0" lang="ru-RU" sz="2400" spc="-1" strike="noStrike">
                <a:solidFill>
                  <a:srgbClr val="feec94"/>
                </a:solidFill>
                <a:latin typeface="Times New Roman"/>
              </a:rPr>
              <a:t>                                                        Гумённая Ольга </a:t>
            </a:r>
            <a:br>
              <a:rPr sz="2400"/>
            </a:br>
            <a:r>
              <a:rPr b="0" lang="ru-RU" sz="2400" spc="-1" strike="noStrike">
                <a:solidFill>
                  <a:srgbClr val="feec94"/>
                </a:solidFill>
                <a:latin typeface="Times New Roman"/>
              </a:rPr>
              <a:t>                                                Алексеевна.</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2" name="Рисунок 6" descr="МК - Русская народная кукла Хороводница, фото">
            <a:hlinkClick r:id="rId1"/>
          </p:cNvPr>
          <p:cNvPicPr/>
          <p:nvPr/>
        </p:nvPicPr>
        <p:blipFill>
          <a:blip r:embed="rId2"/>
          <a:stretch/>
        </p:blipFill>
        <p:spPr>
          <a:xfrm>
            <a:off x="1231920" y="3200400"/>
            <a:ext cx="39495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деваем платок. Закладываем на платке складочку и повязываем платок на голову. Концы платка завязываем на два узелка на шее сзади.</a:t>
            </a:r>
            <a:endParaRPr b="0" lang="en-US" sz="2400" spc="-1" strike="noStrike">
              <a:solidFill>
                <a:srgbClr val="ffffff"/>
              </a:solidFill>
              <a:latin typeface="Times New Roman"/>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правляем рукава, юбочки из под платка. Наша кукла Хороводница готова</a:t>
            </a:r>
            <a:r>
              <a:rPr b="0" lang="ru-RU" sz="2400" spc="-1" strike="noStrike">
                <a:solidFill>
                  <a:srgbClr val="ffffff"/>
                </a:solidFill>
                <a:latin typeface="Times New Roman"/>
              </a:rPr>
              <a:t> !                                      </a:t>
            </a:r>
            <a:endParaRPr b="0" lang="en-US" sz="24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9" name="Рисунок 7" descr="МК - Русская народная кукла Хороводница, 14"/>
          <p:cNvPicPr/>
          <p:nvPr/>
        </p:nvPicPr>
        <p:blipFill>
          <a:blip r:embed="rId1"/>
          <a:stretch/>
        </p:blipFill>
        <p:spPr>
          <a:xfrm>
            <a:off x="4267080" y="3463920"/>
            <a:ext cx="381024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feec94"/>
                </a:solidFill>
                <a:latin typeface="Times New Roman"/>
              </a:rPr>
              <a:t>Сыграем в игру Малечина-Калечина.</a:t>
            </a:r>
            <a:br>
              <a:rPr sz="4400"/>
            </a:b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 раскрытую ладонь ставим палочку и стараемся как можно дольше удержать ее на ладони. Ставим и приговариваем: "Малечена-калечина, сколь часов до вечера. Раз, два, три, четыре, пять, шесть…". Считаем, пока палочка не упадет. Главное нельзя придерживать палочку пальцами или второй рукой.</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Рисунок 8" descr="МК - Русская народная кукла Хороводница, 15"/>
          <p:cNvPicPr/>
          <p:nvPr/>
        </p:nvPicPr>
        <p:blipFill>
          <a:blip r:embed="rId1"/>
          <a:stretch/>
        </p:blipFill>
        <p:spPr>
          <a:xfrm>
            <a:off x="5911920" y="3581280"/>
            <a:ext cx="2743200" cy="29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Заключение:</a:t>
            </a:r>
            <a:endParaRPr b="1" lang="en-US" sz="4400" spc="-1" strike="noStrike">
              <a:solidFill>
                <a:srgbClr val="feec94"/>
              </a:solidFill>
              <a:latin typeface="Times New Roman"/>
            </a:endParaRPr>
          </a:p>
        </p:txBody>
      </p:sp>
      <p:sp>
        <p:nvSpPr>
          <p:cNvPr id="154" name="PlaceHolder 2"/>
          <p:cNvSpPr>
            <a:spLocks noGrp="1"/>
          </p:cNvSpPr>
          <p:nvPr>
            <p:ph/>
          </p:nvPr>
        </p:nvSpPr>
        <p:spPr>
          <a:xfrm>
            <a:off x="456840" y="1142640"/>
            <a:ext cx="8458200" cy="498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В нашем современном, быстро изменяющемся  мире, наполненном замысловатой техникой и электроникой,  мы всё же задумываемся о необходимости  сохранения  духовного наследия  русской народной культуры. Веками лучшие традиции оттачивались и передавались из поколения в поколение как эталоны красоты, образцы вкуса, национальных особенностей, как часть культуры народа.</a:t>
            </a:r>
            <a:br>
              <a:rPr sz="2000"/>
            </a:br>
            <a:r>
              <a:rPr b="0" lang="ru-RU" sz="2000" spc="-1" strike="noStrike">
                <a:solidFill>
                  <a:srgbClr val="ffffff"/>
                </a:solidFill>
                <a:latin typeface="Times New Roman"/>
              </a:rPr>
              <a:t> Народная кукла была всегда  многофункциональной: в одном и том же обличие она могла выполнять разные роли: детская забава, средства воспитания, предмет магии, праздничный подарок, свадебный атрибут, украшение…Сегодня народная тряпичная кукла стала средством приобщения к народному культурному опыту. </a:t>
            </a:r>
            <a:br>
              <a:rPr sz="2000"/>
            </a:b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Давайте вместе поддерживать это старинное искусство, согревающее человеческие души!</a:t>
            </a: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пасибо за внимани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Кукла Хороводница.</a:t>
            </a:r>
            <a:br>
              <a:rPr sz="4000"/>
            </a:br>
            <a:r>
              <a:rPr b="0" lang="ru-RU" sz="4000" spc="-1" strike="noStrike">
                <a:solidFill>
                  <a:srgbClr val="feec94"/>
                </a:solidFill>
                <a:latin typeface="Times New Roman"/>
              </a:rPr>
              <a:t> История и значение.</a:t>
            </a:r>
            <a:br>
              <a:rPr sz="4000"/>
            </a:br>
            <a:endParaRPr b="1" lang="en-US" sz="4000" spc="-1" strike="noStrike">
              <a:solidFill>
                <a:srgbClr val="feec94"/>
              </a:solidFill>
              <a:latin typeface="Times New Roman"/>
            </a:endParaRPr>
          </a:p>
        </p:txBody>
      </p:sp>
      <p:sp>
        <p:nvSpPr>
          <p:cNvPr id="124" name="PlaceHolder 2"/>
          <p:cNvSpPr>
            <a:spLocks noGrp="1"/>
          </p:cNvSpPr>
          <p:nvPr>
            <p:ph/>
          </p:nvPr>
        </p:nvSpPr>
        <p:spPr>
          <a:xfrm>
            <a:off x="457200" y="1218960"/>
            <a:ext cx="8153280" cy="3809880"/>
          </a:xfrm>
          <a:prstGeom prst="rect">
            <a:avLst/>
          </a:prstGeom>
          <a:noFill/>
          <a:ln w="0">
            <a:noFill/>
          </a:ln>
        </p:spPr>
        <p:txBody>
          <a:bodyPr anchor="t">
            <a:normAutofit fontScale="86000"/>
          </a:bodyPr>
          <a:p>
            <a:pPr marL="294840" indent="-294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укла Хороводница – одна из немногих чисто игровых тряпичных кукол, на которых не возлагали обережный обязанностей. Это была обычная игрушка на палочке, которая при вращении весело крутилась. Делали обычно каждому ребенку сразу две куклы – по одной в каждую руку. Играя с Хороводницами, нужно было крутить их в разные стороны одновременно, что являлось хорошей тренировкой для пальцев. Это нужно было для того, чтобы повзрослев, девочка могла уверенно браться за прядение и освоение нового вида рукоделия для нее проходило быстрее.</a:t>
            </a:r>
            <a:endParaRPr b="0" lang="en-US" sz="1600" spc="-1" strike="noStrike">
              <a:solidFill>
                <a:srgbClr val="ffffff"/>
              </a:solidFill>
              <a:latin typeface="Times New Roman"/>
            </a:endParaRPr>
          </a:p>
          <a:p>
            <a:pPr marL="294840" indent="-29484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начале первых кукол малышам делали старшие дети или взрослые, чаше всего это были, конечно, няньки – те, кто в семье смотрел за маленькими детьми. Немного повзрослев, ребятишки могли и самостоятельно изготавливать таких плясуний и устраивать вместе с друзьями и подружками большие игрушечные хороводы. Умелое обращение с Хороводницами приветствовалось и поощрялось, отличившиеся усердием девочки после того, как одевали юбку могли на полных правах участвовать в хороводах со старшими подружками.</a:t>
            </a:r>
            <a:endParaRPr b="0" lang="en-US" sz="1600" spc="-1" strike="noStrike">
              <a:solidFill>
                <a:srgbClr val="ffffff"/>
              </a:solidFill>
              <a:latin typeface="Times New Roman"/>
            </a:endParaRPr>
          </a:p>
          <a:p>
            <a:pPr marL="294840" indent="-29484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апомню, что до 5-7 лет все дети бегали в длинных рубахах, игрались одними игрушками в одни и те же игры. Если ребенок нормально развивался, обучался, воспитывался и стремился к новым знаниям и делам, то проводили обряд инициации, после которого мальчики уже ходили в штанах, девочки в юбках. Таких детей, теперь уже подростков, сажали за общий стол во время приема пищи, у них появлялись новые взрослые обязанности. </a:t>
            </a:r>
            <a:r>
              <a:rPr b="0" lang="ru-RU" sz="1800" spc="-1" strike="noStrike">
                <a:solidFill>
                  <a:srgbClr val="ffffff"/>
                </a:solidFill>
                <a:latin typeface="Times New Roman"/>
              </a:rPr>
              <a:t>Игры и игрушки уже были разными у мальчиков и девочек, как и вся последующая их жизнь.</a:t>
            </a:r>
            <a:endParaRPr b="0" lang="en-US" sz="1800" spc="-1" strike="noStrike">
              <a:solidFill>
                <a:srgbClr val="ffffff"/>
              </a:solidFill>
              <a:latin typeface="Times New Roman"/>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eec94"/>
                </a:solidFill>
                <a:latin typeface="Times New Roman"/>
              </a:rPr>
              <a:t>Как сделать Хороводницу:</a:t>
            </a:r>
            <a:br>
              <a:rPr sz="4000"/>
            </a:br>
            <a:endParaRPr b="1" lang="en-US" sz="4000" spc="-1" strike="noStrike">
              <a:solidFill>
                <a:srgbClr val="feec94"/>
              </a:solidFill>
              <a:latin typeface="Times New Roman"/>
            </a:endParaRPr>
          </a:p>
        </p:txBody>
      </p:sp>
      <p:sp>
        <p:nvSpPr>
          <p:cNvPr id="126" name="PlaceHolder 2"/>
          <p:cNvSpPr>
            <a:spLocks noGrp="1"/>
          </p:cNvSpPr>
          <p:nvPr>
            <p:ph/>
          </p:nvPr>
        </p:nvSpPr>
        <p:spPr>
          <a:xfrm>
            <a:off x="457200" y="838080"/>
            <a:ext cx="8229600" cy="52927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так, чтобы </a:t>
            </a:r>
            <a:r>
              <a:rPr b="1" lang="ru-RU" sz="2400" spc="-1" strike="noStrike">
                <a:solidFill>
                  <a:srgbClr val="ffffff"/>
                </a:solidFill>
                <a:latin typeface="Times New Roman"/>
              </a:rPr>
              <a:t>сделать Хороводницу своими руками</a:t>
            </a:r>
            <a:r>
              <a:rPr b="0" lang="ru-RU" sz="2400" spc="-1" strike="noStrike">
                <a:solidFill>
                  <a:srgbClr val="ffffff"/>
                </a:solidFill>
                <a:latin typeface="Times New Roman"/>
              </a:rPr>
              <a:t>, нам понадобятся:</a:t>
            </a:r>
            <a:br>
              <a:rPr sz="2400"/>
            </a:br>
            <a:r>
              <a:rPr b="0" lang="ru-RU" sz="2400" spc="-1" strike="noStrike">
                <a:solidFill>
                  <a:srgbClr val="ffffff"/>
                </a:solidFill>
                <a:latin typeface="Times New Roman"/>
              </a:rPr>
              <a:t>два вида цветного ситца, белый ситец, цветной ситец однотонный на платок.</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итки простые швейные белые и красные.</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усок цветного кружева или тесьма на повойник (вокруг головы).</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Две палочки  деревянные.</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итки по выбору на клубок головы: шерсть, хлопок, лен.</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много ваты или синтепон.</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жницы.</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br>
              <a:rPr sz="2000"/>
            </a:br>
            <a:endParaRPr b="0" lang="en-US" sz="2000" spc="-1" strike="noStrike">
              <a:solidFill>
                <a:srgbClr val="ffffff"/>
              </a:solidFill>
              <a:latin typeface="Times New Roman"/>
            </a:endParaRPr>
          </a:p>
        </p:txBody>
      </p:sp>
      <p:pic>
        <p:nvPicPr>
          <p:cNvPr id="127" name="Рисунок 6" descr="МК - Русская народная кукла Хороводница, 1">
            <a:hlinkClick r:id="rId1"/>
          </p:cNvPr>
          <p:cNvPicPr/>
          <p:nvPr/>
        </p:nvPicPr>
        <p:blipFill>
          <a:blip r:embed="rId2"/>
          <a:stretch/>
        </p:blipFill>
        <p:spPr>
          <a:xfrm>
            <a:off x="5715000" y="4633920"/>
            <a:ext cx="259092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орядок работы:</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Крой</a:t>
            </a:r>
            <a:endParaRPr b="0" lang="en-US" sz="32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роим два круга из цветного ситца диаметром 19 см и 21 см. Прямоугольник из белого ситца 10Х20 см. Из однотонного цветного ситца прямоугольный треугольник с прилегающими сторонами по 17 см.</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Рисунок 6" descr="МК - Русская народная кукла Хороводница, 2">
            <a:hlinkClick r:id="rId1"/>
          </p:cNvPr>
          <p:cNvPicPr/>
          <p:nvPr/>
        </p:nvPicPr>
        <p:blipFill>
          <a:blip r:embed="rId2"/>
          <a:stretch/>
        </p:blipFill>
        <p:spPr>
          <a:xfrm>
            <a:off x="2895480" y="3429000"/>
            <a:ext cx="3810240" cy="29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олова</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142640"/>
            <a:ext cx="8229600" cy="4987800"/>
          </a:xfrm>
          <a:prstGeom prst="rect">
            <a:avLst/>
          </a:prstGeom>
          <a:noFill/>
          <a:ln w="0">
            <a:noFill/>
          </a:ln>
        </p:spPr>
        <p:txBody>
          <a:bodyPr anchor="t">
            <a:normAutofit/>
          </a:bodyPr>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матываем нить на палочку до размера маленького клубочка  диаметром около 2 см.</a:t>
            </a:r>
            <a:endParaRPr b="0" lang="en-US" sz="2400" spc="-1" strike="noStrike">
              <a:solidFill>
                <a:srgbClr val="ffffff"/>
              </a:solidFill>
              <a:latin typeface="Times New Roman"/>
            </a:endParaRPr>
          </a:p>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верх клубка из пряжи кладем небольшой слой ваты или синтепона. Примотать нитками белыми, чтобы вата не слетала. Голова за счет вата стала мягкой и ровной.</a:t>
            </a:r>
            <a:endParaRPr b="0" lang="en-US" sz="2400" spc="-1" strike="noStrike">
              <a:solidFill>
                <a:srgbClr val="ffffff"/>
              </a:solidFill>
              <a:latin typeface="Times New Roman"/>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Рисунок 8" descr="МК - Русская народная кукла Хороводница, 5">
            <a:hlinkClick r:id="rId1"/>
          </p:cNvPr>
          <p:cNvPicPr/>
          <p:nvPr/>
        </p:nvPicPr>
        <p:blipFill>
          <a:blip r:embed="rId2"/>
          <a:stretch/>
        </p:blipFill>
        <p:spPr>
          <a:xfrm>
            <a:off x="2286000" y="3203640"/>
            <a:ext cx="5105520" cy="292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Юбочки</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кладываем верхнюю юбку на нижнюю, определяем центр.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кладываем юбочки центром к вершине головы и заматываем белой нитью вокруг шеи.</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авномерно распределяем складки на юбке. Юбка должна быть пышной.</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6" name="Рисунок 8" descr="МК - Русская народная кукла Хороводница, 6">
            <a:hlinkClick r:id="rId1"/>
          </p:cNvPr>
          <p:cNvPicPr/>
          <p:nvPr/>
        </p:nvPicPr>
        <p:blipFill>
          <a:blip r:embed="rId2"/>
          <a:stretch/>
        </p:blipFill>
        <p:spPr>
          <a:xfrm>
            <a:off x="762120" y="3786120"/>
            <a:ext cx="3581280" cy="2441520"/>
          </a:xfrm>
          <a:prstGeom prst="rect">
            <a:avLst/>
          </a:prstGeom>
          <a:ln w="0">
            <a:noFill/>
          </a:ln>
        </p:spPr>
      </p:pic>
      <p:pic>
        <p:nvPicPr>
          <p:cNvPr id="137" name="Рисунок 9" descr="МК - Русская народная кукла Хороводница, 8">
            <a:hlinkClick r:id="rId3"/>
          </p:cNvPr>
          <p:cNvPicPr/>
          <p:nvPr/>
        </p:nvPicPr>
        <p:blipFill>
          <a:blip r:embed="rId4"/>
          <a:stretch/>
        </p:blipFill>
        <p:spPr>
          <a:xfrm>
            <a:off x="4952880" y="3637080"/>
            <a:ext cx="3657600" cy="268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Рукава</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142640"/>
            <a:ext cx="8229600" cy="4987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Закладываем краешки на прямоугольнике на расстоянии 1 см, заутюживаем рукой, собираем узкий край в складочки, заматываем этот конец красной нитью. Чтобы нить сразу не распуталась, я набрасываю две перекрещенных петли, а потом уже завязываю узелки. У нас получились рукава. </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0" name="Рисунок 6" descr="МК - Русская народная кукла Хороводница, 9"/>
          <p:cNvPicPr/>
          <p:nvPr/>
        </p:nvPicPr>
        <p:blipFill>
          <a:blip r:embed="rId1"/>
          <a:stretch/>
        </p:blipFill>
        <p:spPr>
          <a:xfrm>
            <a:off x="4343400" y="3809880"/>
            <a:ext cx="365760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деваем рукава на голову кукле, закладываем складочки так, чтобы было ровное личико и получились две руки одинаковой длины. Заматываем красной нитью, набрасываем две петли и завязываем три узелка. Получилось лицо, руки и шея. Рукава расправить, чтобы ручки были подняты в стороны.</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 name="Рисунок 6" descr="МК - Русская народная кукла Хороводница, 10"/>
          <p:cNvPicPr/>
          <p:nvPr/>
        </p:nvPicPr>
        <p:blipFill>
          <a:blip r:embed="rId1"/>
          <a:stretch/>
        </p:blipFill>
        <p:spPr>
          <a:xfrm>
            <a:off x="5105520" y="3660840"/>
            <a:ext cx="373356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оловной убор</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142640"/>
            <a:ext cx="8229600" cy="4987800"/>
          </a:xfrm>
          <a:prstGeom prst="rect">
            <a:avLst/>
          </a:prstGeom>
          <a:noFill/>
          <a:ln w="0">
            <a:noFill/>
          </a:ln>
        </p:spPr>
        <p:txBody>
          <a:bodyPr anchor="t">
            <a:normAutofit/>
          </a:bodyPr>
          <a:p>
            <a:pPr marL="609480" indent="-60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деваем на голову повойник. Это может быть тесьма с зубчиками, или лента атласная Если тесемка простая и тонкая ее завязывают на узелки, так и делали в старину.</a:t>
            </a:r>
            <a:endParaRPr b="0" lang="en-US" sz="2400" spc="-1" strike="noStrike">
              <a:solidFill>
                <a:srgbClr val="ffffff"/>
              </a:solidFill>
              <a:latin typeface="Times New Roman"/>
            </a:endParaRPr>
          </a:p>
        </p:txBody>
      </p:sp>
      <p:pic>
        <p:nvPicPr>
          <p:cNvPr id="146" name="Рисунок 7" descr="МК - Русская народная кукла Хороводница, 12"/>
          <p:cNvPicPr/>
          <p:nvPr/>
        </p:nvPicPr>
        <p:blipFill>
          <a:blip r:embed="rId1"/>
          <a:stretch/>
        </p:blipFill>
        <p:spPr>
          <a:xfrm>
            <a:off x="2743200" y="2743200"/>
            <a:ext cx="365760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велитель</cp:lastModifiedBy>
  <dcterms:modified xsi:type="dcterms:W3CDTF">2018-01-13T16:20:46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