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7B18-0382-4526-B341-3B32260B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C8A6-177E-449B-8D8E-92E9714D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4988-05ED-4243-ADE5-57DE5D79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6B5E-B957-4D4E-BBAA-980FFE09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2406-BDDD-4C50-89D9-FFE6BF9F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299B-CDB9-42BF-A48B-DF32F794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089-4299-4301-83B2-34CBC05F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9E6-0F0F-4E2B-A619-E15D2592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C9A5-4824-4972-BFB7-1CF2FF58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26F0-32FF-4A7A-B1EB-A322375E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A70C-EED0-496B-9D5E-B99E9898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7EFB-B04B-45E6-A0C5-F8509E11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660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213B-95E6-4DA4-B9D3-4D0E03174B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на тему: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удо - овощ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2"/>
          <p:cNvPicPr/>
          <p:nvPr/>
        </p:nvPicPr>
        <p:blipFill>
          <a:blip r:embed="rId1"/>
          <a:stretch/>
        </p:blipFill>
        <p:spPr>
          <a:xfrm>
            <a:off x="1476360" y="2276640"/>
            <a:ext cx="655308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и с грядки…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2013-1-11-11-7-45-734-2"/>
          <p:cNvPicPr/>
          <p:nvPr/>
        </p:nvPicPr>
        <p:blipFill>
          <a:blip r:embed="rId1"/>
          <a:stretch/>
        </p:blipFill>
        <p:spPr>
          <a:xfrm>
            <a:off x="826920" y="1268280"/>
            <a:ext cx="706932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435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й вкусный, хоть не сладки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еет на обычной грядк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как в сказке, с давних пор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овут его: «Синьор»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мидор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он не грусти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хрустит, хрустит, хрусти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чешь, так подай на стол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чешь, брось его в расс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гуре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Загадки про огурец"/>
          <p:cNvPicPr/>
          <p:nvPr/>
        </p:nvPicPr>
        <p:blipFill>
          <a:blip r:embed="rId1"/>
          <a:stretch/>
        </p:blipFill>
        <p:spPr>
          <a:xfrm>
            <a:off x="5940360" y="3500280"/>
            <a:ext cx="2441520" cy="3100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Загадки про помидор"/>
          <p:cNvPicPr/>
          <p:nvPr/>
        </p:nvPicPr>
        <p:blipFill>
          <a:blip r:embed="rId2"/>
          <a:stretch/>
        </p:blipFill>
        <p:spPr>
          <a:xfrm>
            <a:off x="5435640" y="189000"/>
            <a:ext cx="2944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140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утан ребе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о пеле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пу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урца я пополне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- я. Он - зелене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не буду, детки, врать 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- двоюродные брать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он - малыш, сморчо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же - лад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бачок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Загадки про капусту"/>
          <p:cNvPicPr/>
          <p:nvPr/>
        </p:nvPicPr>
        <p:blipFill>
          <a:blip r:embed="rId1"/>
          <a:stretch/>
        </p:blipFill>
        <p:spPr>
          <a:xfrm>
            <a:off x="4932360" y="115920"/>
            <a:ext cx="3600360" cy="2598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Загадки про кабачок"/>
          <p:cNvPicPr/>
          <p:nvPr/>
        </p:nvPicPr>
        <p:blipFill>
          <a:blip r:embed="rId2"/>
          <a:stretch/>
        </p:blipFill>
        <p:spPr>
          <a:xfrm>
            <a:off x="5148360" y="3500280"/>
            <a:ext cx="374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211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ывает, дети, раз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тый, травяной и крас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он жгучий, то он слад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знать его пова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кухне – глава специ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ли? 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ц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растёт на огороде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годой слывёт в природ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енький блестящий пан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ошкурый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(Баклажан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1173"/>
          <p:cNvPicPr/>
          <p:nvPr/>
        </p:nvPicPr>
        <p:blipFill>
          <a:blip r:embed="rId1"/>
          <a:stretch/>
        </p:blipFill>
        <p:spPr>
          <a:xfrm>
            <a:off x="4356000" y="0"/>
            <a:ext cx="4103640" cy="3089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baklagan"/>
          <p:cNvPicPr/>
          <p:nvPr/>
        </p:nvPicPr>
        <p:blipFill>
          <a:blip r:embed="rId2"/>
          <a:stretch/>
        </p:blipFill>
        <p:spPr>
          <a:xfrm>
            <a:off x="5003640" y="3500280"/>
            <a:ext cx="316872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140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усает. Только во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зубок! Но, где же рот?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й носит сюртучо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, верно..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сноч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ел барин с гряд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в заплатк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и взглян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к запла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у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hesnok"/>
          <p:cNvPicPr/>
          <p:nvPr/>
        </p:nvPicPr>
        <p:blipFill>
          <a:blip r:embed="rId1"/>
          <a:stretch/>
        </p:blipFill>
        <p:spPr>
          <a:xfrm>
            <a:off x="4572000" y="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Загадки про лук"/>
          <p:cNvPicPr/>
          <p:nvPr/>
        </p:nvPicPr>
        <p:blipFill>
          <a:blip r:embed="rId2"/>
          <a:stretch/>
        </p:blipFill>
        <p:spPr>
          <a:xfrm>
            <a:off x="5292720" y="400536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140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емлю спряталась Девиц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земли торчит косиц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рну я ловк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ую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рковку.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елен, и гус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рядке вырос кус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опай немножко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кустом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Картош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Загадки про морковь"/>
          <p:cNvPicPr/>
          <p:nvPr/>
        </p:nvPicPr>
        <p:blipFill>
          <a:blip r:embed="rId1"/>
          <a:stretch/>
        </p:blipFill>
        <p:spPr>
          <a:xfrm>
            <a:off x="5292720" y="189000"/>
            <a:ext cx="3097080" cy="2793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Загадки про картошку"/>
          <p:cNvPicPr/>
          <p:nvPr/>
        </p:nvPicPr>
        <p:blipFill>
          <a:blip r:embed="rId2"/>
          <a:stretch/>
        </p:blipFill>
        <p:spPr>
          <a:xfrm>
            <a:off x="5435640" y="3284640"/>
            <a:ext cx="22305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140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иду — красная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усишь — белая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диск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ололся тесный доми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е половинк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сыпались оттуд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синки-дробинк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оро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7470"/>
          <p:cNvPicPr/>
          <p:nvPr/>
        </p:nvPicPr>
        <p:blipFill>
          <a:blip r:embed="rId1"/>
          <a:stretch/>
        </p:blipFill>
        <p:spPr>
          <a:xfrm>
            <a:off x="4788000" y="404640"/>
            <a:ext cx="3840120" cy="288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goroh3"/>
          <p:cNvPicPr/>
          <p:nvPr/>
        </p:nvPicPr>
        <p:blipFill>
          <a:blip r:embed="rId2"/>
          <a:stretch/>
        </p:blipFill>
        <p:spPr>
          <a:xfrm>
            <a:off x="4716360" y="378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09:35:30Z</dcterms:created>
  <dc:creator>WiZaRd</dc:creator>
  <dc:description/>
  <dc:language>en-US</dc:language>
  <cp:lastModifiedBy>Айгуль</cp:lastModifiedBy>
  <dcterms:modified xsi:type="dcterms:W3CDTF">2014-05-12T12:28:13Z</dcterms:modified>
  <cp:revision>9</cp:revision>
  <dc:subject/>
  <dc:title>Презентация на тему:  «Чудо - овощи»</dc:title>
</cp:coreProperties>
</file>