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C54-8C95-4C04-8E87-F715F821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DA0-E499-4A7E-A56B-BDFBEB9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6BC-C1DB-415F-863A-ECB6D151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984-FA04-45F5-B813-1655E624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1FC10-95EB-442F-8027-983200CE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A8417-BE7A-4096-B3B9-593D20F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9BA7E-BAFF-4D35-9A5F-10C07ED4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EFCBC-01C0-4AFA-BAD4-663BEB6A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3147-A351-429C-A16B-5B43C49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2EC75-D521-4E40-9E0F-8AD61605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4AAD7-9A2F-49D7-B397-48F9AAA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073-FD70-490D-B4D5-7539561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EE04-096A-4E42-9F1E-DEEEC28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1DD95-A4F1-4E5F-8764-B4EB543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EC39D-62C5-44F9-A5A0-4E2AB6D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1F524-D7FB-42A4-A798-395D4574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90037-EA56-46EC-9B1B-78744F6E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700-B52A-40ED-9843-C1D4119B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F7C-D4F6-4252-9D20-FCF3F2C8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970-0DC3-44BB-A567-CA5F28E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102-1239-4200-B17B-698F0EF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17C-2C78-4AAF-870E-39FDA07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2D5-0178-4478-966C-C650BD9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980-33DF-44F8-84BA-19FB168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7D3A-0FBC-4524-A856-B0190FD9C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9A3C-9370-46B3-B774-46C448C47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Презентация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600"/>
                </a:solidFill>
                <a:uFillTx/>
                <a:latin typeface="Tahoma"/>
              </a:rPr>
              <a:t>Река Вити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ff33"/>
                </a:solidFill>
                <a:latin typeface="Tahoma"/>
              </a:rPr>
              <a:t>Витим - одна из крупнейших рек Восточной Сибири, правый приток </a:t>
            </a:r>
            <a:r>
              <a:rPr b="0" i="1" lang="ru-RU" sz="2000" spc="-1" strike="noStrike">
                <a:solidFill>
                  <a:srgbClr val="ccff33"/>
                </a:solidFill>
                <a:latin typeface="Tahoma"/>
              </a:rPr>
              <a:t>Лены</a:t>
            </a:r>
            <a:r>
              <a:rPr b="0" i="1" lang="ru-RU" sz="1800" spc="-1" strike="noStrike">
                <a:solidFill>
                  <a:srgbClr val="ccff33"/>
                </a:solidFill>
                <a:latin typeface="Tahoma"/>
              </a:rPr>
              <a:t>, образуется слиянием Витимкана и Чины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1600200" y="2166840"/>
            <a:ext cx="601992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33"/>
                </a:solidFill>
                <a:latin typeface="Tahoma"/>
              </a:rPr>
              <a:t>Длина реки -  1837 км </a:t>
            </a:r>
            <a:br>
              <a:rPr sz="1600"/>
            </a:br>
            <a:r>
              <a:rPr b="0" i="1" lang="ru-RU" sz="1600" spc="-1" strike="noStrike">
                <a:solidFill>
                  <a:srgbClr val="ccff33"/>
                </a:solidFill>
                <a:latin typeface="Tahoma"/>
              </a:rPr>
              <a:t>Бассейн – 225 000  км2</a:t>
            </a:r>
            <a:br>
              <a:rPr sz="1600"/>
            </a:br>
            <a:r>
              <a:rPr b="0" i="1" lang="ru-RU" sz="1600" spc="-1" strike="noStrike">
                <a:solidFill>
                  <a:srgbClr val="ccff33"/>
                </a:solidFill>
                <a:latin typeface="Tahoma"/>
              </a:rPr>
              <a:t>Расход воды - 1520 м3/с (город Бодайбо)</a:t>
            </a:r>
            <a:br>
              <a:rPr sz="1600"/>
            </a:br>
            <a:r>
              <a:rPr b="0" i="1" lang="ru-RU" sz="1600" spc="-1" strike="noStrike">
                <a:solidFill>
                  <a:srgbClr val="ccff33"/>
                </a:solidFill>
                <a:latin typeface="Tahoma"/>
              </a:rPr>
              <a:t>Исток, слияние рек: Витимкан и Чина.</a:t>
            </a:r>
            <a:br>
              <a:rPr sz="1600"/>
            </a:br>
            <a:r>
              <a:rPr b="0" i="1" lang="ru-RU" sz="1600" spc="-1" strike="noStrike">
                <a:solidFill>
                  <a:srgbClr val="ccff33"/>
                </a:solidFill>
                <a:latin typeface="Tahoma"/>
              </a:rPr>
              <a:t>  Местоположение - Икатский хребет</a:t>
            </a:r>
            <a:br>
              <a:rPr sz="1600"/>
            </a:br>
            <a:r>
              <a:rPr b="0" i="1" lang="ru-RU" sz="1600" spc="-1" strike="noStrike">
                <a:solidFill>
                  <a:srgbClr val="ccff33"/>
                </a:solidFill>
                <a:latin typeface="Tahoma"/>
              </a:rPr>
              <a:t>  Высота: 176 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23880" y="2043000"/>
            <a:ext cx="6172200" cy="35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33"/>
                </a:solidFill>
                <a:latin typeface="Tahoma"/>
              </a:rPr>
              <a:t>Расположение.</a:t>
            </a:r>
            <a:br>
              <a:rPr sz="2400"/>
            </a:br>
            <a:r>
              <a:rPr b="0" i="1" lang="en-US" sz="1800" spc="-1" strike="noStrike">
                <a:solidFill>
                  <a:srgbClr val="ccff33"/>
                </a:solidFill>
                <a:latin typeface="Tahoma"/>
              </a:rPr>
              <a:t>Река</a:t>
            </a:r>
            <a:r>
              <a:rPr b="0" i="1" lang="en-US" sz="24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ccff33"/>
                </a:solidFill>
                <a:latin typeface="Tahoma"/>
              </a:rPr>
              <a:t>Витим</a:t>
            </a:r>
            <a:br>
              <a:rPr sz="1800"/>
            </a:br>
            <a:r>
              <a:rPr b="0" i="1" lang="en-US" sz="1800" spc="-1" strike="noStrike">
                <a:solidFill>
                  <a:srgbClr val="ccff33"/>
                </a:solidFill>
                <a:latin typeface="Tahoma"/>
              </a:rPr>
              <a:t> протекает по территории Бурятии и Иркутской области, а последние 50 км – Республика Саха Яку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381880" cy="41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итание реки Витим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итается она в основном за счет осадков, но и многочисленные притоки, речушки и ручьи, пополняют  ее водные запасы.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сновном спокойный характер реки привлекает любителей водных путешествий и рыбал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Как проходит рыбалка на реке Вит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летнее времена клев особенно хорош в верховь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десь ловятся ленок, хариус, таймень и си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Жители ле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едко можно увидеть медвежье семейство, лосей или изюбрей, пришедших к реке на водоп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4800600" cy="281808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1T13:39:13Z</dcterms:created>
  <dc:creator>яна</dc:creator>
  <dc:description/>
  <dc:language>en-US</dc:language>
  <cp:lastModifiedBy>яна</cp:lastModifiedBy>
  <dcterms:modified xsi:type="dcterms:W3CDTF">2017-12-03T12:49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