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763C-820D-4F6F-B7AD-CE12D794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BD19-ECDC-4EC7-8663-116A7622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5321-768A-43C0-8614-4CDB9996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2D1D-2EE9-4729-A88F-DE33A1E0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B43B-414E-4B3B-9F44-CCEAD217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389F-E7B3-45E3-9CC6-81FEE8B0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B94A-0F2D-4A2B-8FA9-CD723923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69E9-9922-48D7-A530-F55CF033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1783-78F1-4987-9043-28A9989D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AAF-ED9C-4588-B2C0-C478CFB5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3828-2967-4C93-A95D-6D63DCA8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7223-8B9E-442C-8EE5-AABAFB8A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E4F9-4D6A-440F-A7E6-90B340983B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86480" cy="6143400"/>
          </a:xfrm>
          <a:prstGeom prst="rect">
            <a:avLst/>
          </a:prstGeom>
          <a:solidFill>
            <a:srgbClr val="ddd9c3"/>
          </a:solidFill>
          <a:ln w="9360">
            <a:solidFill>
              <a:srgbClr val="63252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ловая игра:</a:t>
            </a:r>
            <a:br>
              <a:rPr sz="4400"/>
            </a:br>
            <a:r>
              <a:rPr b="0" i="1" lang="ru-RU" sz="5400" spc="-1" strike="noStrike">
                <a:solidFill>
                  <a:srgbClr val="000000"/>
                </a:solidFill>
                <a:latin typeface="Calibri"/>
              </a:rPr>
              <a:t>«Я- инвестор»</a:t>
            </a:r>
            <a:br>
              <a:rPr sz="5400"/>
            </a:br>
            <a:r>
              <a:rPr b="0" i="1" lang="ru-RU" sz="5400" spc="-1" strike="noStrike">
                <a:solidFill>
                  <a:srgbClr val="000000"/>
                </a:solidFill>
                <a:latin typeface="Calibri"/>
              </a:rPr>
              <a:t>гр.Т-21</a:t>
            </a:r>
            <a:br>
              <a:rPr sz="54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Преподаватель: Шойдонова Г.Г.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М02. Предоставление услуг по сопровождению туристов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ДК02.02. Организация досуга туристов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solidFill>
            <a:srgbClr val="ddd9c3"/>
          </a:solidFill>
          <a:ln w="9360">
            <a:solidFill>
              <a:srgbClr val="d99694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Отрасли специализации администр.рай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В какой конкретно вид природного ресурса Вас заинтересова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Какую сумму инвестиций Вы вложите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solidFill>
            <a:srgbClr val="ddd9c3"/>
          </a:solidFill>
          <a:ln w="9360">
            <a:solidFill>
              <a:srgbClr val="d99694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м дается 40 минут для обсуждения и написания своих развернутых ответов на предоставленных вам бланках.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Если вы готовы сдать работу ведущему, то оповестите сигнало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500040"/>
            <a:ext cx="8329680" cy="6143760"/>
          </a:xfrm>
          <a:prstGeom prst="rect">
            <a:avLst/>
          </a:prstGeom>
          <a:solidFill>
            <a:srgbClr val="ddd9c3"/>
          </a:solidFill>
          <a:ln w="9360">
            <a:solidFill>
              <a:srgbClr val="d99694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0" lang="ru-RU" sz="2700" spc="-1" strike="noStrike" u="sng">
                <a:solidFill>
                  <a:srgbClr val="c00000"/>
                </a:solidFill>
                <a:uFillTx/>
                <a:latin typeface="Calibri"/>
              </a:rPr>
              <a:t>3 этап: Оценочный лист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манда №1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дание №1:____ баллов, задание №2:___ баллов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манда №2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дание №1:____ баллов, задание №2:___ баллов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c00000"/>
                </a:solidFill>
                <a:uFillTx/>
                <a:latin typeface="Calibri"/>
              </a:rPr>
              <a:t>Баллы: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0-40 баллов  – оценка: 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40-60 баллов  – оценка: 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60-80- 80-100 баллов- оценка:  5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solidFill>
            <a:srgbClr val="ddd9c3"/>
          </a:solidFill>
          <a:ln w="9360">
            <a:solidFill>
              <a:srgbClr val="d99694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 этап: Рефлекс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перь я понял: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научился: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занятии мне было сложно выполнить: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чу чтобы все занятия проходили в форме игр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solidFill>
            <a:srgbClr val="ddd9c3"/>
          </a:solidFill>
          <a:ln w="9360">
            <a:solidFill>
              <a:srgbClr val="d99694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учение грамот победившей команд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играла команда :____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м спасибо за участ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м молодцы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56760" y="142920"/>
            <a:ext cx="8572680" cy="6500880"/>
          </a:xfrm>
          <a:prstGeom prst="rect">
            <a:avLst/>
          </a:prstGeom>
          <a:solidFill>
            <a:srgbClr val="ddd9c3"/>
          </a:solidFill>
          <a:ln w="9360">
            <a:solidFill>
              <a:srgbClr val="e6b9b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c00000"/>
                </a:solidFill>
                <a:uFillTx/>
                <a:latin typeface="Calibri"/>
              </a:rPr>
              <a:t>Цель занятия: 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уализировать  и обобщить знания и умения по теме «История развития досуга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56760" y="142920"/>
            <a:ext cx="8572680" cy="6500880"/>
          </a:xfrm>
          <a:prstGeom prst="rect">
            <a:avLst/>
          </a:prstGeom>
          <a:solidFill>
            <a:srgbClr val="ddd9c3"/>
          </a:solidFill>
          <a:ln w="9360">
            <a:solidFill>
              <a:srgbClr val="e6b9b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 этап: подготовка к занятию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помощью детской считалочки делимся на две команды по 4-5 чел. и садимся на заранее подготовленные рабочие ме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Вас на столах лежат бланки заданий, канцелярские принадлежности которые вы должны будете заполнить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нимательно слушаем задания и стараемся максимально развёрнуто отвечать на вопросы в письменном вид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56760" y="142920"/>
            <a:ext cx="8572680" cy="6500880"/>
          </a:xfrm>
          <a:prstGeom prst="rect">
            <a:avLst/>
          </a:prstGeom>
          <a:solidFill>
            <a:srgbClr val="ddd9c3"/>
          </a:solidFill>
          <a:ln w="9360">
            <a:solidFill>
              <a:srgbClr val="e6b9b8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этап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вы знаете, что необходимо привлекать инвесторов для того чтобы постоянно у нас организовывались походы и различные выезд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Давайте сейчас с вами сядем и сделаем «мозговой штурм» по выявлению в нашей группе потенциального инвестора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НИМАНИЕ!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можете воспользоваться флипчартом для выполнения зад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56760" y="142920"/>
            <a:ext cx="8572680" cy="6500880"/>
          </a:xfrm>
          <a:prstGeom prst="rect">
            <a:avLst/>
          </a:prstGeom>
          <a:solidFill>
            <a:srgbClr val="ddd9c3"/>
          </a:solidFill>
          <a:ln w="9360">
            <a:solidFill>
              <a:srgbClr val="e6b9b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е №1 - Вы- инвестор крупной компа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! Задание: Придумать название, логотип, слоган своей компании «…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ля расширения деловых связей и развития своего бизнеса Вы решили совершить финансовые вливания в экономику какого-либо региона. Выбрали Республику Бурятия. Затем определились с административным районом, вызывающим У Вас положительные  потенциальные возможности и перспектив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56760" y="142920"/>
            <a:ext cx="8572680" cy="6500880"/>
          </a:xfrm>
          <a:prstGeom prst="rect">
            <a:avLst/>
          </a:prstGeom>
          <a:solidFill>
            <a:srgbClr val="ddd9c3"/>
          </a:solidFill>
          <a:ln w="9360">
            <a:solidFill>
              <a:srgbClr val="e6b9b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дание №2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! Почему Вы выбрали именно этот административный район? Аргументируйте свой отве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нимание!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ете воспользоваться флипчартом для визуализации компании и своего отве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400960" cy="6083280"/>
          </a:xfrm>
          <a:prstGeom prst="rect">
            <a:avLst/>
          </a:prstGeom>
          <a:solidFill>
            <a:srgbClr val="ddd9c3"/>
          </a:solidFill>
          <a:ln w="9360">
            <a:solidFill>
              <a:srgbClr val="d9969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Цель действий: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овысить конкурентоспособность данного Вам  административного район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6297480"/>
          </a:xfrm>
          <a:prstGeom prst="rect">
            <a:avLst/>
          </a:prstGeom>
          <a:solidFill>
            <a:srgbClr val="ddd9c3"/>
          </a:solidFill>
          <a:ln w="9360">
            <a:solidFill>
              <a:srgbClr val="95373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br>
              <a:rPr sz="4000"/>
            </a:br>
            <a:r>
              <a:rPr b="0" lang="ru-RU" sz="4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0" lang="ru-RU" sz="4000" spc="-1" strike="noStrike" u="sng">
                <a:solidFill>
                  <a:srgbClr val="c00000"/>
                </a:solidFill>
                <a:uFillTx/>
                <a:latin typeface="Calibri"/>
              </a:rPr>
              <a:t>Задачи: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1.Провести мониторинг природных ресурсов административного района, по плану, который вам выдан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предложить свои пути развития и реализации природных ресурс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9c3"/>
          </a:solidFill>
          <a:ln w="9360">
            <a:solidFill>
              <a:srgbClr val="d9969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 действи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9c3"/>
          </a:solidFill>
          <a:ln w="9360">
            <a:solidFill>
              <a:srgbClr val="d99694"/>
            </a:solidFill>
            <a:miter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кономико-географическое положение райо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 Площадь территор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Транспортная доступность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качество дорожного полотн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протяженность от г.Улан-Удэ- до райцент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транспортная обеспеченнос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стоимость проезда от г.Улан-Удэ- до райцент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) стоимость проезда от г.Улан-Удэ- до места реализации природного ресурс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ина</cp:lastModifiedBy>
  <dcterms:modified xsi:type="dcterms:W3CDTF">2018-02-04T07:29:54Z</dcterms:modified>
  <cp:revision>30</cp:revision>
  <dc:subject/>
  <dc:title>Деловая игра:   «Я- инвестор»</dc:title>
</cp:coreProperties>
</file>