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F0B-B8F4-4907-B153-DF273EE0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A71-0ED2-42B4-ADB0-C10B53D8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E0D07-47A4-4F39-9C6E-D01E7450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201B9-7CD9-435E-A4B3-555BE541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DCD3B-4C28-411A-B958-B866D098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E843A-8885-4C6E-B18C-8A53E72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E7B3D-E61F-4CB5-817C-AFADFCE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AE5B3-7E6F-4613-89F8-3F4E2340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C382D-78A8-41E1-ABF0-10128984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D81C3-DF62-4465-BC1E-C90F084B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FED49-239D-41EC-BB75-8C4DECE4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F62-ED22-4B33-88B4-6D863750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A11-1982-4593-9AAB-20932C1E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9128-AF64-4111-AD75-D51AC85B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9B9D-532F-44A1-9266-2E03CAB0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29B8-5EEB-4F88-825A-B1B1346D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A0C5-3DFA-4A64-8FE2-EC186134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95BC-2CE1-431D-9B49-3E5D106C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A13E-61FD-4CB7-A98E-AF0CC662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A28F-9DAF-4443-B32D-08693F9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805-0533-4A84-8387-AA2C981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BA40-9C29-4F39-ABEF-8BFBB2A9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0217-C181-48A7-AF85-BD673497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ABD3-F263-48BE-91BC-6597F579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E597-126D-4360-852A-FB4C78B7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BD0B-ED53-4B9F-9BA5-DA527124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0C96-C720-4C08-B840-2C020BD1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94CE-C9F2-42F0-9CF7-D51583B8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F8D2-A71B-482B-96DE-FBA6C562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3DB8-F210-4FD8-9303-C1531B9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F61C-F73B-4B06-A01F-2FB957E3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50C-0BBA-4529-8F15-4BFFDE13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C3E6-6FFA-40F7-AA43-D2F487FC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661A-9059-426D-921E-9192CD1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F4F9-7C95-408B-8119-924C9075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FA26-B014-4E2E-B755-4F31D6DA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8A17-AED6-4A8D-9040-1263A83D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F754D-A7D0-45DD-B86C-E093DA08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BDF6-7A8B-4C08-80D2-63B4EC4A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95CB-5CC2-4C99-97A3-171EDC0C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FE91-EBE4-4F9C-B045-2D22E7AE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58AA2-4310-49F9-9D0D-B22CBA84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61C-0674-4C26-B0B8-F069FB57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4C21-6567-4983-9AC6-D63A105A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C226-7EDC-4ADE-997D-75405348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2E82-3D87-4EE6-801D-95D6E57B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313B-476E-4730-8E16-F5C4632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40E12-06F4-4EF1-95AB-25788A5E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9B84B-DA61-485F-94FE-8CD1ED04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4787C-E020-43F7-8107-9E36AD1F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1513-B786-4673-9ED2-B806A03D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A961-6DCC-4A4F-B6A3-8432BB8D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6EF65-4F99-4FE5-82F6-6B5A5318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B17-AB94-4C7C-8678-19E6755F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DB399-1959-4226-8F5B-3C053F41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278B1-83DF-4924-AF13-F2A61AB5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3D460-560F-4CB0-A1C0-FE159515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BA633-C3AA-4B5B-818F-988E86DE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4B27-FACF-4F83-89C7-3F5E1BD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7AB1A-29C6-4300-9FC2-7B7A22F7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0A803-F36D-4432-86C0-0CC89BBC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0E4D7-186C-4B92-BBCE-00562529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AFC33-9402-4B1D-90A9-0B236F34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50EBE-5E85-4A67-9392-4BC1242F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50B-A956-47C1-AB77-DE6B69CC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278EB-E35A-4182-9990-4A78CED8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E6FAF-8751-47BB-B0E9-71A90AF0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E387-492C-4029-89C3-B5EC779D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79F7-9C4A-49A8-BD51-2E2A09BE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9F71D-2BD6-4588-944C-96687BFC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6A2EC-7E9D-46DD-A8E8-422B36D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48D69-E33C-434E-A146-C6DC3B52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305C5-AE28-4455-916E-BAE94496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24629-27DB-4105-B266-3AEDB31F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87951-DC86-4B37-9F0B-598E8982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CD2-7414-4963-839D-27DAC805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8B12-0057-435B-99AA-B57474FB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4EFDC-0A25-4FFA-9BA8-B39F33DF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7D141-7279-4930-95A3-E2C0B38C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380A4-820A-4614-8848-16DC0F56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742E4-401C-429B-B77F-B3F5FAA1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C3834-5A0F-4FE3-BD9B-8BD2BC64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20315-9886-4990-8877-FFB231C0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67E27-6580-4595-8CD3-659674C6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675ED-AC99-42FB-BA0B-47B94DB0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F81D-DC9D-4D28-8829-1784CE8B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8B6-1479-4DAB-AB40-D92B535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38CDE-8657-4477-AA5A-2A80837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C8433-73FF-47FC-98AD-27A24D1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38ECD-9EB7-43A1-BB83-329553CE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6D878-E75A-4D97-B77A-512311E5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97277-DBD1-4295-B25C-E2959E87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62706-B9C1-43F4-9ED0-50BBD878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ACDF6-A95C-45BE-BC25-719FF225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A1C4-6C64-440E-B80B-B77CC11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1E39-D749-4078-918D-53240ECD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B0709-89A5-46A3-B647-3F8FD61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8CE-080D-4D90-851D-344C97B9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EF8E8-38B8-4498-A968-6179C11F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80056-F4F1-488C-B4E5-7EC21150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6A43B-0D17-48AF-9DEC-9033EB4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B02A5-8654-49EC-8F74-B79BFED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D3FCB-A245-4A4D-92E2-57008441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B1BFB-A66C-44FC-92D8-0060E6C0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E4CBA-6B7F-4BFE-BA39-2C53547C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B36F1-40C6-4FBE-8396-0533A198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09EA1-F76D-4238-B375-D3FACC4E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5E815-9389-4C3F-8E7B-EF43180B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98CA-07F4-4D75-9115-926994570F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EFB1-A228-49C1-97B3-F561B36ED0C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BB60-4F77-4A2D-8240-379AF7EE29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4C8F-B715-4F65-A737-ACF685163C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08B-5EA6-450E-A082-E9969BD966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8D35-F824-4F92-B69A-473ADAF76A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206E-F024-47A4-8F6F-E002D2B3A13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2C82-67B3-43A5-A0EB-A0A1AAFDE09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162-3F28-4F35-945A-938A39D883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78000" y="4846680"/>
            <a:ext cx="8467560" cy="1236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57120"/>
            <a:ext cx="84582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3329"/>
                </a:solidFill>
                <a:latin typeface="Franklin Gothic Book"/>
              </a:rPr>
              <a:t>Р/Р. Способы сжатого изложения содержания текст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Цель всегда конкретна, измеряема, достижим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ОБОБЩЕНИЕ  (ПЕРЕВОД  ЧАСТНОГО  В  ОБЩЕЕ, СВЁРТЫВАНИЕ ИСХОДНОЙ ИНФОРМАЦИИ ЗА СЧЁТ ОБОБЩЕНИЯ)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- замена однородных членов обобщающим понятием,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- замена предложения или его части определительным или отрицательным местоимением с обобщающим значением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- обобщение содержа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93560" indent="-4935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ожно ли совершенно одинаково интересоваться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строением вулканов и неправильными глаголами, законами взаимодействия частиц и загадкой библиотеки Ивана Грозного, устройством ЭВМ и натюрмортами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?..(По И. Милославскому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кратите предложение, заменив похожие по смыслу выражения общим понятием (словосочетанием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Можно ли одинаково интересоваться разными отраслями наук?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Я родился и большую часть жизни прожил в Ленинграде. В своём архитектурном облике город связан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с именами Растрелли, Росси, Захарова, Воронихина.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По Д. С. Лихачёву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 можно несколькими словами охарактеризовать архитектурный облик Ленинграда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Я родился и большую часть жизни прожил в Ленинграде, облик которого связан с именами известных архитектор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3.УПРОЩЕНИЕ СИНТАКСИЧЕСКИХ КОНСТРУКЦИЙ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- слияние нескольких предложений в одно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- замена предложения или его части указательным местоимением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- замена сложноподчинённого предложения простым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- замена фрагмента предложения синонимичным выражением (замена придаточного определительного синонимичным определением)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- замена придаточного обстоятельственного деепричастным оборотом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ом Чайковского стоял на пригорке. Леса уходили вниз, в весёлую даль, где лежало среди  зарослей озеро. Там у композитора было любимое место – оно называлось Рудым Яром.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 К. Г. Паустовский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Дом Чайковского стоял на пригорке, с которого был вид на весёлую даль. Там, у озера, было любимое место Чайковского – Рудый Яр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Как же выбрать время, чтобы несколько членов семьи могли сразу собраться за столом? Как выбрать это время? Находится же оно для того, чтобы вместе смотреть телевизор</a:t>
            </a: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!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Разве мы не просиживаем перед ним иногда часами, даже когда ничего особенного не показывают? Страница книги – это огромный экран, который и не снился самому лучшему телевизору! ( По С. Львову) (52 слова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кратить текст  вдво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499680"/>
            <a:ext cx="8686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Методические требования 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</a:t>
            </a: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жатому изложению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-сохранение последовательности в развитии событий;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наличие предложений, выражающих мысль, общую для каждой смысловой части;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-использование по возможности грамматических форм, отличных от предъявленных для восприятия;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-установление смысловой связи между предложениями;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-использование уместных, точных и лаконичных языковых средств обобщенной передачи содержания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Если можно выбрать время для просмотра телевизионных программ, то можно найти время и для совместного чтения. Страница книги – это огромный экран, который и не снился самому лучшему телевизору! (28 слов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 относиться к историческому и культурному наследию своей страны? Всякий ответит, что доставшееся нам наследство надо оберегать. Но жизненный опыт пробуждает в памяти иные, грустные, а порой и горестные картины. ( Д. С. Лихачёв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тройте сложное предложение  с разными видами связи  из 2 и 3  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Как относиться к историческому и культурному наследию своей страны? Каждый ответит, что его  надо оберегать, но  в памяти всё же возникают иные, горестные карти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302680" cy="6825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5720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новую избу навесили хорошую Дверь. Красивую Дверь. И все ее хвалили, потому что Дверь легко открывалась и плотно закрывалась, не пропускала зимнюю стужу. Вообще Дверь не в чем было упрекнуть, и о ней перестали говорить. Зато в избе очень много разговаривали о рамах. И как о них можно было не говорить, когда они были плохими. Они с трудом открывались и закрывались. Набухали. Пропускали холо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мам уделялось много внимания, и это обозлило завистливую Двер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Вот вы как, - сказала она, - я покажу вам, как не замечать меня, - и стала коробиться, кривиться, скрипе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е подстругивали, выпрямляли, утепляли. Нянчились с ней сколько могли. Ее петли часто смазывали маслом, а она не унималась, скрипела. Скрипела с таким остервенением, что это стало невыносимым для окружающих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гда ее сняли с петель и выбросили в дровяник. На ее место навесили другую. Обычную сосновую дверь, которая честно служит в избе до сих пор, зная, что легко открываться и плотно закрываться вовсе не какие-то особенные достоинства, а  ее дверные обязанн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брошенная же в дровяник Дверь вскоре поняла, что вне избы и без избы она ничего собой не представляет. Ровным счетом ничего. Даже скрипеть не может вне изб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акова печальная история одной зазнавшейся Двери, которая осталась в одиночестве.                                                              (198 сл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новую избу навесили хорошую Дверь. Красивую Дверь. И все ее хвалили, потому что Дверь легко открывалась и плотно закрывалась, не пропускала зимнюю стужу. Вообще Дверь не в чем было упрекнуть, и о ней перестали говори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 новую избу навесили хорошую Дверь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Красивую Дверь. И все ее хвалили, потому что)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на легко открывалась и плотно закрывалась,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не пропускала зимнюю стужу)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 ее не в чем было упрекнуть.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Вообще Дверь не в чем было упрекнуть, и о ней перестали говорить.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Зато в избе очень много разговаривали о рамах. И как о них можно было не говорить, когда они были плохими: набухали,  пропускали холод. Они с трудом открывались и закрывалис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Зато в избе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очень)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ного разговаривали о рамах,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И как о них можно было не говорить, когда)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тому что они были плохими: набухали,  пропускали холод.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Они с трудом открывались и закрывались.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Рамам уделялось много внимания, И это обозлило завистливую Дверь. Она стала кривиться и скрипеть, чтобы ее заметил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- Вот вы как, - сказала она, - я покажу вам, как не замечать меня, - и стала коробиться, кривиться, скрипет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Ее подстругивали, выпрямляли, утепляли. Нянчились с ней сколько могли. Ее петли часто смазывали маслом, а она не унималась, скрипела. Скрипела с таким остервенением, что это стало невыносимым для окружающих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Franklin Gothic Book"/>
              </a:rPr>
              <a:t>(Рамам уделялось много внимания,)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И это обозлило завистливую Дверь. Она стала кривиться и скрипеть, чтобы ее заметил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Franklin Gothic Book"/>
              </a:rPr>
              <a:t>(- Вот вы как, - сказала она, - я покажу вам, как не замечать меня, - и стала коробиться, кривиться, скрипет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Franklin Gothic Book"/>
              </a:rPr>
              <a:t>Ее подстругивали, выпрямляли, утепляли. Нянчились с ней сколько могли.)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Ее петли часто смазывали маслом, а она не унималась, скрипела так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c00000"/>
                </a:solidFill>
                <a:latin typeface="Franklin Gothic Book"/>
              </a:rPr>
              <a:t>(Скрипела с таким остервенением)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0" lang="ru-RU" sz="3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что это стало невыносимым для окружающих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ИК2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Сжатие исходного текст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кзаменуемый применил 1 или несколько приёмов сжатия текста, использовав их на протяжении всего текста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ал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кзаменуемый применил 1 или несколько приёмов сжатия текста, использовав их для сжатия 2 микротем текста                                   2 бал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кзаменуемый применил 1 или несколько приёмов сжатия текста, использовав их    для сжатия 1 микротемы текста                                 1 бал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кзаменуемый не использовал приёмов сжатия текста    0 балл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гда ее сняли с петель и выбросили в дровяник. На ее место навесили  другую обычную сосновую дверь, которая честно служит в избе до сих пор, зная, что легко открываться и плотно закрываться  вовсе не какие-то особенные достоинства, а  ее дверные обязан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огда ее сняли с петель и выбросили в дровяник. На ее место навесили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другую)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ычную сосновую дверь, которая честно служит в избе до сих пор, зная, что легко открываться и плотно закрыватьс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вовсе не какие-то особенные достоинства, а)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ее дверные обязан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ыброшенная же в дровяник Дверь вскоре поняла, что вне избы и без избы она ничего собой не представляет. Ровным счетом ничего. Даже скрипеть не может вне изб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акова печальная история одной зазнавшейся Двери, которая осталась в одиночеств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ыброшенная же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в дровяник)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вер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вскоре)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няла, что вне избы и без избы она ничего собой не представляет.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Ровным счетом ничего. Даже скрипеть не может вне изб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Такова печальная история одной зазнавшейся Двери, которая осталась в одиночестве.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новую избу навесили хорошую Дверь.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Она легко открывалась и плотно закрывалась, и ее не в чем было упрекнуть. Зато в избе много разговаривали о рамах, потому что они были плохими: набухали,  пропускали холод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И это обозлило завистливую Дверь. Она стала кривиться и скрипеть, чтобы ее заметили.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е петли часто смазывали маслом, а она не унималась, скрипела так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то это стало невыносимым для окружающи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Тогда ее сняли с петель и выбросили в дровяник. На ее место навесили обычную сосновую дверь, которая честно служит в избе до сих пор, зная, что легко открываться и плотно закрываться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-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е дверные обязанности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ыброшенная же Дверь поняла, что вне избы и без избы она ничего собой не представляет.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12 слов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500040"/>
            <a:ext cx="868680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1. ИСКЛЮЧ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- исключение отдельных слов, словосочетаний, фрагментов предложений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- исключение одного или нескольких синонимов в ряду однородных членов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- исключение вводных, уточняющих и поясняющих конструкций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- исключение одного или нескольких предложе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 самого начала своей научной деятельности М. В. Ломоносов руководствовался принципом сохранения вещества и движения (силы), который составлял неотъемлемую часть его представлений о явлениях, изучающих естественные нау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ключите второстепенную информацию предлож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С самого начала своей научной деятельности М. В. Ломоносов руководствовался принципом сохранения вещества и движения (силы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Любовь к родному краю, к родной культуре, к родной речи начинается с малого – с любви к  своей семье, к своему дому. И ещё – с уважения к таким же чувствам людей, которые тоже любят свою землю, своё – пусть и непонятное тебе – родное слово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Д. С. Лихачёв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кратите текст Д. С. Лихачёв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Любовь к родному краю, культуре начинается с малого – с  любви к своей семье, с уважения к людям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Цель всегда конкретна, измеряема, достижима. Например, целью может быть поступление в     вуз или покупка мотоцикла. В любом случае можно заранее продумать и просчитать, что нужно сделать, чтобы этого достичь.   (По материалам периодической печати)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ключите  второстепенную информаци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8:25:27Z</dcterms:created>
  <dc:creator>SamLab.ws</dc:creator>
  <dc:description/>
  <dc:language>en-US</dc:language>
  <cp:lastModifiedBy>Наська и Лена</cp:lastModifiedBy>
  <dcterms:modified xsi:type="dcterms:W3CDTF">2017-09-12T15:50:18Z</dcterms:modified>
  <cp:revision>30</cp:revision>
  <dc:subject/>
  <dc:title>Слайд 1</dc:title>
</cp:coreProperties>
</file>