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B1B-5299-4958-B48B-670814BB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525-6C2D-4E9D-8F94-CF03C597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652-003A-430D-A2DC-045E28C5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3B0-49F4-45B0-8152-593FDACB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ABE9-A23C-49B1-81C4-97BBB8AF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2B78-F606-4159-B4CF-A124EE88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70F8-D098-4448-B3C1-F09D182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537-98C2-4EEB-9A42-4E7C798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591-548F-456B-9586-3A59901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7703-9596-44DB-A1C6-CF070E31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C8B-C659-4DB8-83DC-5B8F2DD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6D5-A05A-407E-9CBA-D0B3C9F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A8D-5F64-4EC1-ACBA-56979C1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B181-BCE8-4B47-B390-308365E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15B-1272-4530-A4E5-08F3166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8D6B-52AC-4E5B-B249-DA34542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C2A6-AEC5-4E23-B4C3-DCF14845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806-C345-4FA8-A6AB-67AD0BF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D36-CBCF-4E27-9448-C43882C0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134-116E-461F-A54F-55D6C5AF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D3B-F8C2-487B-B500-0F00F64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683-9C12-4E90-B5AA-D6924F1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050-93AD-4F14-8D5A-CD96033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0A8-722F-4613-B03B-C68958E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bf5"/>
            </a:gs>
            <a:gs pos="100000">
              <a:srgbClr val="73aa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3280" y="1300680"/>
            <a:ext cx="6517080" cy="250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-1" strike="noStrike" cap="all">
                <a:solidFill>
                  <a:srgbClr val="000000"/>
                </a:solidFill>
                <a:latin typeface="Tw Cen MT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758920" y="58831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85440" y="5883120"/>
            <a:ext cx="500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885440" y="5883120"/>
            <a:ext cx="57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9053C2-23A8-488E-83C8-CF6FFA51684F}" type="slidenum">
              <a:rPr b="0" lang="ru-RU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 cap="all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ru-RU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 cap="all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ru-RU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 cap="all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ru-RU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bf5"/>
            </a:gs>
            <a:gs pos="100000">
              <a:srgbClr val="73aa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DROBO-FS\QuickDrops\JB\PPTX NG\Droplets\LightingOverlay.pn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758920" y="58831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685440" y="5883120"/>
            <a:ext cx="500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885440" y="5883120"/>
            <a:ext cx="57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51C9A-E7AF-4ECA-B94B-41BFADB79F60}" type="slidenum">
              <a:rPr b="0" lang="ru-RU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 cap="all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ru-RU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 cap="all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ru-RU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 cap="all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ru-RU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 cap="all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ru-RU" sz="2000" spc="-1" strike="noStrike" cap="all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13280" y="1300680"/>
            <a:ext cx="6517080" cy="250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-1" strike="noStrike" cap="all">
                <a:solidFill>
                  <a:srgbClr val="000000"/>
                </a:solidFill>
                <a:latin typeface="Tw Cen MT"/>
              </a:rPr>
              <a:t> </a:t>
            </a:r>
            <a:endParaRPr b="0" lang="ru-RU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13280" y="3886200"/>
            <a:ext cx="6517080" cy="13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200" spc="-1" strike="noStrike" cap="all">
              <a:solidFill>
                <a:srgbClr val="808080"/>
              </a:solidFill>
              <a:latin typeface="Tw Cen MT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899640" y="635040"/>
            <a:ext cx="7857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Tw Cen MT"/>
              </a:rPr>
              <a:t>«Работа педаг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w Cen MT"/>
              </a:rPr>
              <a:t>с родителями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ltnb.jpg"/>
          <p:cNvPicPr/>
          <p:nvPr/>
        </p:nvPicPr>
        <p:blipFill>
          <a:blip r:embed="rId1"/>
          <a:stretch/>
        </p:blipFill>
        <p:spPr>
          <a:xfrm>
            <a:off x="1816920" y="2016360"/>
            <a:ext cx="5509440" cy="3739320"/>
          </a:xfrm>
          <a:prstGeom prst="rect">
            <a:avLst/>
          </a:prstGeom>
          <a:ln cap="sq" w="88900">
            <a:solidFill>
              <a:srgbClr val="53b18f">
                <a:lumMod val="60000"/>
                <a:lumOff val="4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90" name="TextBox 3"/>
          <p:cNvSpPr/>
          <p:nvPr/>
        </p:nvSpPr>
        <p:spPr>
          <a:xfrm>
            <a:off x="4745160" y="5848920"/>
            <a:ext cx="41860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ОПК МБОУ «Рыльская ООШ №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ибова С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Light_green.jpg"/>
          <p:cNvPicPr/>
          <p:nvPr/>
        </p:nvPicPr>
        <p:blipFill>
          <a:blip r:embed="rId1"/>
          <a:stretch/>
        </p:blipFill>
        <p:spPr>
          <a:xfrm>
            <a:off x="0" y="-10080"/>
            <a:ext cx="9143640" cy="6867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2"/>
          <p:cNvSpPr txBox="1"/>
          <p:nvPr/>
        </p:nvSpPr>
        <p:spPr>
          <a:xfrm>
            <a:off x="428760" y="642960"/>
            <a:ext cx="8286480" cy="292860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76966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Рисунок 3" descr="embl.png"/>
          <p:cNvPicPr/>
          <p:nvPr/>
        </p:nvPicPr>
        <p:blipFill>
          <a:blip r:embed="rId2"/>
          <a:stretch/>
        </p:blipFill>
        <p:spPr>
          <a:xfrm>
            <a:off x="1428840" y="1143360"/>
            <a:ext cx="6357600" cy="52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03640" y="1124640"/>
            <a:ext cx="6552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w Cen MT"/>
              </a:rPr>
              <a:t>Самое трудное в работе педагога – это работ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2963880" y="2565000"/>
            <a:ext cx="3431880" cy="29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714240" y="1143000"/>
            <a:ext cx="77148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w Cen MT"/>
              </a:rPr>
              <a:t>Сотрудничество семьи и учителя- становится все более востребованным; педагоги ищут новые точки взаимодействия, инновационные формы работы с родителями, которые бы обеспечивали решение проблемы каждого ребенка и семьи индивидуа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5"/>
          <p:cNvSpPr/>
          <p:nvPr/>
        </p:nvSpPr>
        <p:spPr>
          <a:xfrm>
            <a:off x="1187640" y="548640"/>
            <a:ext cx="757224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1" lang="ru-RU" sz="2800" spc="-1" strike="noStrike">
                <a:solidFill>
                  <a:srgbClr val="ff0000"/>
                </a:solidFill>
                <a:latin typeface="Tw Cen MT"/>
              </a:rPr>
              <a:t>Воспитание родителей </a:t>
            </a: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“ - международный термин, под которым понимается помощь родителям в исполнении функции воспитателей собственных детей, родительски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Содержание работы с родителями состоит в следу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1.Повышение психолого-педагогических знаний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2.Вовлечение родителей в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w Cen MT"/>
              </a:rPr>
              <a:t>3.Участие родителей в управлении шко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827640" y="44640"/>
            <a:ext cx="7920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ные направления сотрудничества семьи и школы проявляются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1. Единство требований к учащим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2. Согласованность действий (законы, защищающие семью и ребенка, знание обеими сторонами психологических особенностей ребе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3. Взаимодополнение влияний (авторитет родителей, личность учителя, единая трактовка влияния улицы, средств массовой информ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4. Преодоление недостатков в формировании личности (работа с детьми, находящимися в особо трудных условиях, психологическая корр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5. Совместная работа по закреплению и развитию успе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6. Повышение педагогической культуры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7. Различные формы сотрудничеств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55640" y="116640"/>
            <a:ext cx="8208720" cy="64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ми направлениями в работе педагога с родителями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чит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педагогическое просвещение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коррекцию семейного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совместную деятельность классного руководителя с семьей по воспита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защиту ребенка от неблагоприятных условий в семье, в школе, в микро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овлечение родителей в учебно-воспитательный процесс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организацию секций, кружков, клубов, студ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совместные творческие 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помощь в укреплении материально-технической ба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работу органов само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- шефство над неблагополучными семьями, подрос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611640" y="312840"/>
            <a:ext cx="82807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преты, нарушение которых рассматривается как нарушение педагогической э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й запр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запрет на установление таких личных отношений педагога с родителями учащихся, которые ведут к искажению педагогического процесса и формируют та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и, когда учитель идет с родителями, а не выступает ведущим. Отношения педагогов с родителями должны носить преимущественно деловой характер и касаться развития ребенка в учебно-воспит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ой запр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запрет на обсуждение с родителями внутришкольных отношений. Должно стать непреложным правилом: все вопросы и претензии, возникающие у родителей, принимаются педагогами, ставятся и рассматриваются совместно с администрацией на педагогических советах, совещаниях, собраниях. О принятых мерах родители непременно извещ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ий запр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запрет на оценку личности ребенка, его семьи. Обсуждаются и оцениваются исключительно поступки ребенка, динамика его развития, эмоциональные реакции и т.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2140920" y="542520"/>
            <a:ext cx="4608000" cy="914040"/>
          </a:xfrm>
          <a:prstGeom prst="rect">
            <a:avLst/>
          </a:prstGeom>
          <a:solidFill>
            <a:srgbClr val="ffffff"/>
          </a:solidFill>
          <a:ln>
            <a:solidFill>
              <a:srgbClr val="274f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тегори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"/>
          <p:cNvSpPr/>
          <p:nvPr/>
        </p:nvSpPr>
        <p:spPr>
          <a:xfrm rot="1839000">
            <a:off x="1513800" y="1814400"/>
            <a:ext cx="268200" cy="141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74fa4"/>
          </a:solidFill>
          <a:ln>
            <a:solidFill>
              <a:srgbClr val="1c3a7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323640" y="3645000"/>
            <a:ext cx="2232000" cy="1151640"/>
          </a:xfrm>
          <a:prstGeom prst="rect">
            <a:avLst/>
          </a:prstGeom>
          <a:solidFill>
            <a:srgbClr val="ffffff"/>
          </a:solidFill>
          <a:ln>
            <a:solidFill>
              <a:srgbClr val="274f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одители - ате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5"/>
          <p:cNvSpPr/>
          <p:nvPr/>
        </p:nvSpPr>
        <p:spPr>
          <a:xfrm>
            <a:off x="4149720" y="1700640"/>
            <a:ext cx="268200" cy="97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74fa4"/>
          </a:solidFill>
          <a:ln>
            <a:solidFill>
              <a:srgbClr val="1c3a7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2988000" y="2853000"/>
            <a:ext cx="2880000" cy="1149120"/>
          </a:xfrm>
          <a:prstGeom prst="rect">
            <a:avLst/>
          </a:prstGeom>
          <a:solidFill>
            <a:srgbClr val="ffffff"/>
          </a:solidFill>
          <a:ln>
            <a:solidFill>
              <a:srgbClr val="274f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рующие родители, посещающие х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низ 7"/>
          <p:cNvSpPr/>
          <p:nvPr/>
        </p:nvSpPr>
        <p:spPr>
          <a:xfrm rot="19922400">
            <a:off x="6738840" y="1825560"/>
            <a:ext cx="315000" cy="1335240"/>
          </a:xfrm>
          <a:prstGeom prst="downArrow">
            <a:avLst>
              <a:gd name="adj1" fmla="val 39675"/>
              <a:gd name="adj2" fmla="val 50000"/>
            </a:avLst>
          </a:prstGeom>
          <a:solidFill>
            <a:srgbClr val="274fa4"/>
          </a:solidFill>
          <a:ln>
            <a:solidFill>
              <a:srgbClr val="1c3a7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6300360" y="3645000"/>
            <a:ext cx="2520000" cy="1151640"/>
          </a:xfrm>
          <a:prstGeom prst="rect">
            <a:avLst/>
          </a:prstGeom>
          <a:solidFill>
            <a:srgbClr val="ffffff"/>
          </a:solidFill>
          <a:ln>
            <a:solidFill>
              <a:srgbClr val="274f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w Cen MT"/>
              </a:rPr>
              <a:t>Родители-крещеные, но «неимеющие времени» вникнуть глубже в правосла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769680" y="1124640"/>
            <a:ext cx="8175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пит опыт человеческих удач и неудач и передает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околения в поколение в рамках одной семьи, группы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цело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55640" y="2590920"/>
            <a:ext cx="7848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́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ризнание чего-либо истинным без предварительной фактической или логической проверки, единственно в силу внутреннего, субъективного непреложного убеждения, которое не нуждается для своего обоснования в доказатель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85160" y="4581000"/>
            <a:ext cx="7514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а – это личное дело каждой семьи, а знать культу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мках которой существует страна, необход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апля">
  <a:themeElements>
    <a:clrScheme name="Капля">
      <a:dk1>
        <a:srgbClr val="000000"/>
      </a:dk1>
      <a:lt1>
        <a:srgbClr val="ffffff"/>
      </a:lt1>
      <a:dk2>
        <a:srgbClr val="1c647b"/>
      </a:dk2>
      <a:lt2>
        <a:srgbClr val="98b7d3"/>
      </a:lt2>
      <a:accent1>
        <a:srgbClr val="274fa4"/>
      </a:accent1>
      <a:accent2>
        <a:srgbClr val="48a8d0"/>
      </a:accent2>
      <a:accent3>
        <a:srgbClr val="53b18f"/>
      </a:accent3>
      <a:accent4>
        <a:srgbClr val="d78d38"/>
      </a:accent4>
      <a:accent5>
        <a:srgbClr val="ba3f51"/>
      </a:accent5>
      <a:accent6>
        <a:srgbClr val="ae52d9"/>
      </a:accent6>
      <a:hlink>
        <a:srgbClr val="2aa2da"/>
      </a:hlink>
      <a:folHlink>
        <a:srgbClr val="76a3b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апля">
  <a:themeElements>
    <a:clrScheme name="Капля">
      <a:dk1>
        <a:srgbClr val="000000"/>
      </a:dk1>
      <a:lt1>
        <a:srgbClr val="ffffff"/>
      </a:lt1>
      <a:dk2>
        <a:srgbClr val="1c647b"/>
      </a:dk2>
      <a:lt2>
        <a:srgbClr val="98b7d3"/>
      </a:lt2>
      <a:accent1>
        <a:srgbClr val="274fa4"/>
      </a:accent1>
      <a:accent2>
        <a:srgbClr val="48a8d0"/>
      </a:accent2>
      <a:accent3>
        <a:srgbClr val="53b18f"/>
      </a:accent3>
      <a:accent4>
        <a:srgbClr val="d78d38"/>
      </a:accent4>
      <a:accent5>
        <a:srgbClr val="ba3f51"/>
      </a:accent5>
      <a:accent6>
        <a:srgbClr val="ae52d9"/>
      </a:accent6>
      <a:hlink>
        <a:srgbClr val="2aa2da"/>
      </a:hlink>
      <a:folHlink>
        <a:srgbClr val="76a3b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Капля</Template>
  <TotalTime>334</TotalTime>
  <Application>LibreOffice/7.4.7.2$Linux_X86_64 LibreOffice_project/40$Build-2</Application>
  <AppVersion>15.0000</AppVersion>
  <Words>550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6:03:26Z</dcterms:created>
  <dc:creator>user</dc:creator>
  <dc:description/>
  <dc:language>en-US</dc:language>
  <cp:lastModifiedBy>РЕТ</cp:lastModifiedBy>
  <dcterms:modified xsi:type="dcterms:W3CDTF">2018-02-04T18:12:15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