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doni MT Black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DB1F-2478-4F76-993D-D5C6FE022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58A4-D013-4557-B588-71A6B0489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 Black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3312-A61F-4512-91A0-EFDD7A7BF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 Black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89AD-779D-41CE-99DC-E7AA0FB6F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54E3-5FD5-4026-A740-CEE7506BF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B429-71F4-461B-8BFE-92C769051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D0F1-161B-46F6-AD0A-789A7A4E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769AD6-00F8-41E7-99A1-C9F02649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4ABDBF-78E4-4BDA-B61F-BA7DD4F0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99559-8E7B-40C7-8A9B-0B9440F0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684E4A-D8FD-4EF1-A9CB-38A56E7D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6E840-DDA2-4F1E-A8C4-579F4278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7AC530-ADDA-4FC6-8D76-75718364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B7EC99-BB43-4090-9863-75F4BBAF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3DF076-110B-4E59-B617-4EC779919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6951E2-10FC-4A9A-8151-9CC26F454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DB2328-A341-4371-A55A-23A75FE79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DD86-5E58-4138-BE46-9C1380A0E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F73B69-299B-40CD-B657-5B10A16D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D97880-7523-45AB-B333-29988749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789F73-9C6C-4905-A0FD-29C8FCBF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3777ED-2210-4904-B048-10756E0A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501763-8F8E-43B4-AD05-DCB8E01C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F1874C-AA42-4693-9FD7-813C62B7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539062-769F-44C8-9831-89C987D3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AA32F8-B922-4A05-9ADB-5E4D7FFE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B16B33-D3B5-4A15-9C2A-ACF87E4A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960066-9E86-4A99-A0A7-A1D7C9D84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C313-A7CB-4422-91D5-C91184F16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2F06B3-6DA3-4C34-B280-8B87E5202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3F3FE8-822B-4F33-B194-128E37AAA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96831-3B4B-4201-84F9-55BA4BA1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5A3BB-5741-470C-93EE-34B33A5C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58CF36-E515-4A34-A388-74073E65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3A7887-3CF4-4038-A9AC-07B0E7DC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A7A44-F9EF-438B-A2B5-32B28BE4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BB902C-5E93-4CC8-AA00-F406293E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DAAEC-ED70-47C3-B5DA-FCE4EE16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38CFE-71F9-4E30-AD9E-5FEA2CE4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ED52-10EB-4F69-BA35-F0AEDC59C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17E715-1C10-427D-B8DF-ACCC4991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B82264-916A-4B80-B597-A5AA66952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B3F3C6-58CA-47EA-AC22-37750AE0E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3608-79A4-43AF-B017-31F92B9E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2F4C5-EA67-4F40-959E-7C427B2A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CD32-97BE-4371-A333-051B2A69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A7D2-7139-462B-A441-EB8C5C92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3D02-192B-41DC-AB56-D346667D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BE4BC-E562-4044-89B6-E09F307E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628D-0E0A-4C6C-B9ED-4C1D74E8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50A0-252F-454A-9660-296DCDCD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EE08-F901-4CFF-8E34-74FBE29D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56A99-7CB2-439F-9AD1-65EBBAEC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1675-6758-4CBC-9611-7108F111C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75A1-2B1F-421A-9EEE-DE887A796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3B8CD-3130-4C73-9C89-A11CF6DCA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38E44-B1E7-4B27-9460-099C42CD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A8BEF-136D-4702-87D8-3FCF8968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30777-2A14-4254-8C3E-8CD6B78F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B1148-CC01-49D8-A31C-2C60BAEF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9571-FAFA-4C05-826E-A4B435A6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ED17F-F79B-477D-9476-9E99A84C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15591-6008-48A4-8BE1-7873B387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FF70B-E5DB-470C-BDA8-679B0349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2FAB6-1C94-4A89-BF16-0386C56D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AF143-4C9A-4694-AE80-DC5B0469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929B5-CB7C-431B-9428-D78F34C19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13D89-8484-4B4C-9144-0AAD70E3F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E555E-82E7-45B7-9210-ED4448846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227B8-EEFD-4807-A926-901B3F32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4343B-B413-4F1C-98A1-CC042EAA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C17A-3074-4787-82F8-B748ABA1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69364-D10D-480E-83A8-886F3BD9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62173-31BB-44BB-A28F-45E77240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5C8BA-E2B4-4994-A7FD-6268F004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481B6-98D3-4916-A6A5-34D900D3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8CC60-9A43-49EF-B91A-989A1056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6CE5E-789B-469A-A502-71D3AF08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BB67A-F960-4FFA-8370-4EA4FB49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E8762-CEA0-4DF3-8381-69E1F3970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1995B-8B97-4852-BC0B-733222D95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4BB6D-B4E1-4913-9076-2538340B4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8D3F-E981-4761-A665-9F052417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3E179-85ED-4ED6-BF77-3671FD56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AD264-06DB-489A-8AE5-07923B56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5A818-ABBB-445B-B9C7-CE4C3A11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B46F4-3A5B-4602-B133-261EC802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0C34F-0D35-4FBB-89AF-39A3CF98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F1871-05E6-4C10-9597-D6F02810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CADCE-09DE-4412-90FF-961DC1E9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E8EF6-D641-4990-A9AE-4B153CC3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9DE01-D83A-40ED-8BE2-D935F0FA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C5401-2D09-463E-A7D2-F837CDCD8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98AD-A64D-4721-B28C-61613DC5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12A8B-EAF9-4FBC-84C0-630317BE5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6E002-1E3C-468B-8E02-81E420F53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D89C8-A8DD-4264-9842-805A94AF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86565-4369-4984-893C-98C4FE94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0731B-4CC7-445F-B8D0-46D59AA0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B0918-73F6-4AC8-AAF4-5AB98BDC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8179B-D799-43E6-BA1F-7E7F8D1C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C4D41-0C8A-4D10-9CB1-BA56AD52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7644E-32D1-4DE9-877E-68EAD2B4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9BF86-EBBF-420C-8EB2-07E0F67F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8FD2-7275-45EE-AD8F-554A0382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6B5AB-0FE7-4853-AF28-483B0DB4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CEE68-269C-4A9F-8D18-E2554596B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1433F-108B-43CE-AD17-50A2AFF70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71BAB-D1CC-4CE3-9CC0-328E0708D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35BC6-CA92-4A1D-B057-6CA2235B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9F7B2-607E-44D9-B7D2-12BCD336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E8392-0A3C-45AD-AD46-78B134FB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B777F-6127-4D07-80E3-18159FB5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8F00E-D3AE-4569-A68A-4D15D6D2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012A3-E778-489F-A7E7-0DCC0400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06AD-26F3-4704-A178-005F0A08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8E7C7-3DCD-4B6B-8A70-8ED958F9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2E213-E40B-4EC0-B792-C646C6FA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05EE9-2A03-46FD-B438-AE7C968C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5880E-7A82-4E48-BBFA-7DBC05252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4E608-95B4-4449-8602-6AA7CF70B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B7450-41EA-4D57-93BD-3834CDAA6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2D0EF-3B39-429F-855C-CD469993A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F26D7-D838-4D4D-BAE3-C70533B4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EE017-B09E-47C1-858E-5FA74CA7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7FB11-2CE3-4B3A-89D9-5FC3619F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B1AD-E2DC-4FD4-B61B-2D2B7A2A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BE0A6-D111-4BC9-BA29-1D8F4C4A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454B4-FFEF-4FD1-B9CA-8319A48E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F510A-E67B-4BBD-B206-AAB45120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621E3-5006-46BC-8127-567CA713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B83F2-D664-472E-BBC4-842F85E0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98889-DD93-4409-910F-469DAD640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FFDD4-F06F-4537-B7A7-43F07B271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3B702-D835-468D-8506-555D8B971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28C1A8-F4DC-4C1A-A7B4-02FAC70F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A6E7CF-4263-40B7-84F1-1EEAD1BD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doni MT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doni MT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E76E-85D1-4377-B588-FC227BB0F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doni MT Black"/>
            </a:endParaRPr>
          </a:p>
        </p:txBody>
      </p:sp>
      <p:grpSp>
        <p:nvGrpSpPr>
          <p:cNvPr id="406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407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Bodoni MT Black"/>
              </a:endParaRPr>
            </a:p>
          </p:txBody>
        </p:sp>
        <p:sp>
          <p:nvSpPr>
            <p:cNvPr id="408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Bodoni MT Black"/>
              </a:endParaRPr>
            </a:p>
          </p:txBody>
        </p:sp>
        <p:sp>
          <p:nvSpPr>
            <p:cNvPr id="409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Bodoni MT Black"/>
              </a:endParaRPr>
            </a:p>
          </p:txBody>
        </p:sp>
        <p:sp>
          <p:nvSpPr>
            <p:cNvPr id="410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Bodoni MT Black"/>
              </a:endParaRPr>
            </a:p>
          </p:txBody>
        </p:sp>
        <p:sp>
          <p:nvSpPr>
            <p:cNvPr id="411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Bodoni MT Black"/>
              </a:endParaRPr>
            </a:p>
          </p:txBody>
        </p:sp>
      </p:grp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8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doni MT Black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9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doni MT Black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0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5CEB-0C64-49CF-9D01-3CD5E0A56CCB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doni MT Black"/>
            </a:endParaRPr>
          </a:p>
        </p:txBody>
      </p:sp>
      <p:grpSp>
        <p:nvGrpSpPr>
          <p:cNvPr id="454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455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Bodoni MT Black"/>
              </a:endParaRPr>
            </a:p>
          </p:txBody>
        </p:sp>
        <p:sp>
          <p:nvSpPr>
            <p:cNvPr id="456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Bodoni MT Black"/>
              </a:endParaRPr>
            </a:p>
          </p:txBody>
        </p:sp>
        <p:sp>
          <p:nvSpPr>
            <p:cNvPr id="457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Bodoni MT Black"/>
              </a:endParaRPr>
            </a:p>
          </p:txBody>
        </p:sp>
        <p:sp>
          <p:nvSpPr>
            <p:cNvPr id="458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Bodoni MT Black"/>
              </a:endParaRPr>
            </a:p>
          </p:txBody>
        </p:sp>
        <p:sp>
          <p:nvSpPr>
            <p:cNvPr id="459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Bodoni MT Black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doni MT Black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doni MT Black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9289-DAE1-4B33-AEA9-AA80BFA72B34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ff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doni MT Blac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doni MT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doni MT Black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936F-B62B-4949-9394-D1A0A655F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doni MT Black"/>
            </a:endParaRPr>
          </a:p>
        </p:txBody>
      </p:sp>
      <p:grpSp>
        <p:nvGrpSpPr>
          <p:cNvPr id="84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85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Bodoni MT Black"/>
              </a:endParaRPr>
            </a:p>
          </p:txBody>
        </p:sp>
        <p:sp>
          <p:nvSpPr>
            <p:cNvPr id="86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Bodoni MT Black"/>
              </a:endParaRPr>
            </a:p>
          </p:txBody>
        </p:sp>
        <p:sp>
          <p:nvSpPr>
            <p:cNvPr id="87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Bodoni MT Black"/>
              </a:endParaRPr>
            </a:p>
          </p:txBody>
        </p:sp>
        <p:sp>
          <p:nvSpPr>
            <p:cNvPr id="88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Bodoni MT Black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Bodoni MT Black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doni MT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doni MT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3A1F-20AF-4F47-A2ED-6915391C2C13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doni MT Blac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doni MT Blac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4773-2AF1-4352-B43B-86AB08793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ff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doni MT Black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doni MT Blac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doni MT Black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9A43-4ED6-441F-9249-353DC2A97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doni MT Black"/>
            </a:endParaRPr>
          </a:p>
        </p:txBody>
      </p:sp>
      <p:grpSp>
        <p:nvGrpSpPr>
          <p:cNvPr id="215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16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Bodoni MT Black"/>
              </a:endParaRPr>
            </a:p>
          </p:txBody>
        </p:sp>
        <p:sp>
          <p:nvSpPr>
            <p:cNvPr id="217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Bodoni MT Black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Bodoni MT Black"/>
              </a:endParaRPr>
            </a:p>
          </p:txBody>
        </p:sp>
        <p:sp>
          <p:nvSpPr>
            <p:cNvPr id="219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Bodoni MT Black"/>
              </a:endParaRPr>
            </a:p>
          </p:txBody>
        </p:sp>
        <p:sp>
          <p:nvSpPr>
            <p:cNvPr id="220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Bodoni MT Black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doni MT Black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doni MT Black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C2B8-4939-4754-A5D7-84E1FFC8C733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doni MT Black"/>
            </a:endParaRPr>
          </a:p>
        </p:txBody>
      </p:sp>
      <p:sp>
        <p:nvSpPr>
          <p:cNvPr id="263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doni MT Black"/>
            </a:endParaRPr>
          </a:p>
        </p:txBody>
      </p:sp>
      <p:sp>
        <p:nvSpPr>
          <p:cNvPr id="264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doni MT Black"/>
            </a:endParaRPr>
          </a:p>
        </p:txBody>
      </p:sp>
      <p:sp>
        <p:nvSpPr>
          <p:cNvPr id="265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doni MT Black"/>
            </a:endParaRPr>
          </a:p>
        </p:txBody>
      </p:sp>
      <p:sp>
        <p:nvSpPr>
          <p:cNvPr id="266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doni MT Black"/>
            </a:endParaRPr>
          </a:p>
        </p:txBody>
      </p:sp>
      <p:sp>
        <p:nvSpPr>
          <p:cNvPr id="267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doni MT Black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doni MT Black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doni MT Black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EE71-7FED-45B4-A528-A82A2A3BA8C5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doni MT Black"/>
            </a:endParaRPr>
          </a:p>
        </p:txBody>
      </p:sp>
      <p:grpSp>
        <p:nvGrpSpPr>
          <p:cNvPr id="310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311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Bodoni MT Black"/>
              </a:endParaRPr>
            </a:p>
          </p:txBody>
        </p:sp>
        <p:sp>
          <p:nvSpPr>
            <p:cNvPr id="312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Bodoni MT Black"/>
              </a:endParaRPr>
            </a:p>
          </p:txBody>
        </p:sp>
        <p:sp>
          <p:nvSpPr>
            <p:cNvPr id="313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Bodoni MT Black"/>
              </a:endParaRPr>
            </a:p>
          </p:txBody>
        </p:sp>
        <p:sp>
          <p:nvSpPr>
            <p:cNvPr id="314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Bodoni MT Black"/>
              </a:endParaRPr>
            </a:p>
          </p:txBody>
        </p:sp>
        <p:sp>
          <p:nvSpPr>
            <p:cNvPr id="315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Bodoni MT Black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doni MT Blac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doni MT Black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EE74-FFB6-41F0-AF31-20C76B0CAC71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doni MT Black"/>
            </a:endParaRPr>
          </a:p>
        </p:txBody>
      </p:sp>
      <p:grpSp>
        <p:nvGrpSpPr>
          <p:cNvPr id="358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5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Bodoni MT Black"/>
              </a:endParaRPr>
            </a:p>
          </p:txBody>
        </p:sp>
        <p:sp>
          <p:nvSpPr>
            <p:cNvPr id="36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Bodoni MT Black"/>
              </a:endParaRPr>
            </a:p>
          </p:txBody>
        </p:sp>
        <p:sp>
          <p:nvSpPr>
            <p:cNvPr id="36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Bodoni MT Black"/>
              </a:endParaRPr>
            </a:p>
          </p:txBody>
        </p:sp>
        <p:sp>
          <p:nvSpPr>
            <p:cNvPr id="36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Bodoni MT Black"/>
              </a:endParaRPr>
            </a:p>
          </p:txBody>
        </p:sp>
        <p:sp>
          <p:nvSpPr>
            <p:cNvPr id="363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Bodoni MT Black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doni MT Blac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doni MT Black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D3F6-DA3A-4AAA-881F-0A918CE771D6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Box 3"/>
          <p:cNvSpPr/>
          <p:nvPr/>
        </p:nvSpPr>
        <p:spPr>
          <a:xfrm>
            <a:off x="682560" y="324000"/>
            <a:ext cx="7916760" cy="9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f0ff"/>
                </a:solidFill>
                <a:latin typeface="Bodoni MT Black"/>
              </a:rPr>
              <a:t>ГБОУ Школа №1161 корпус №6</a:t>
            </a:r>
            <a:endParaRPr b="0" lang="en-US" sz="2400" spc="-1" strike="noStrike">
              <a:solidFill>
                <a:srgbClr val="000000"/>
              </a:solidFill>
              <a:latin typeface="Bodoni MT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doni MT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f0ff"/>
                </a:solidFill>
                <a:latin typeface="Bodoni MT Black"/>
              </a:rPr>
              <a:t>Тема презентации:</a:t>
            </a:r>
            <a:endParaRPr b="0" lang="en-US" sz="3600" spc="-1" strike="noStrike">
              <a:solidFill>
                <a:srgbClr val="000000"/>
              </a:solidFill>
              <a:latin typeface="Bodoni MT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f0ff"/>
                </a:solidFill>
                <a:latin typeface="Bodoni MT Black"/>
              </a:rPr>
              <a:t>«Детско-родительские проекты,</a:t>
            </a:r>
            <a:endParaRPr b="0" lang="en-US" sz="3600" spc="-1" strike="noStrike">
              <a:solidFill>
                <a:srgbClr val="000000"/>
              </a:solidFill>
              <a:latin typeface="Bodoni MT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f0ff"/>
                </a:solidFill>
                <a:latin typeface="Bodoni MT Black"/>
              </a:rPr>
              <a:t> </a:t>
            </a:r>
            <a:r>
              <a:rPr b="1" lang="ru-RU" sz="3600" spc="-1" strike="noStrike">
                <a:solidFill>
                  <a:srgbClr val="d6f0ff"/>
                </a:solidFill>
                <a:latin typeface="Bodoni MT Black"/>
              </a:rPr>
              <a:t>как средство включения родителей в общественную деятельность ДО»</a:t>
            </a:r>
            <a:endParaRPr b="0" lang="en-US" sz="3600" spc="-1" strike="noStrike">
              <a:solidFill>
                <a:srgbClr val="000000"/>
              </a:solidFill>
              <a:latin typeface="Bodoni MT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doni MT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f0ff"/>
                </a:solidFill>
                <a:latin typeface="Bodoni MT Black"/>
              </a:rPr>
              <a:t>Подготовила:</a:t>
            </a:r>
            <a:endParaRPr b="0" lang="en-US" sz="2400" spc="-1" strike="noStrike">
              <a:solidFill>
                <a:srgbClr val="000000"/>
              </a:solidFill>
              <a:latin typeface="Bodoni MT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f0ff"/>
                </a:solidFill>
                <a:latin typeface="Bodoni MT Black"/>
              </a:rPr>
              <a:t>воспитатель 1 категории:</a:t>
            </a:r>
            <a:endParaRPr b="0" lang="en-US" sz="2400" spc="-1" strike="noStrike">
              <a:solidFill>
                <a:srgbClr val="000000"/>
              </a:solidFill>
              <a:latin typeface="Bodoni MT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f0ff"/>
                </a:solidFill>
                <a:latin typeface="Bodoni MT Black"/>
              </a:rPr>
              <a:t>Дякина Ольга Юрьевна</a:t>
            </a:r>
            <a:endParaRPr b="0" lang="en-US" sz="2400" spc="-1" strike="noStrike">
              <a:solidFill>
                <a:srgbClr val="000000"/>
              </a:solidFill>
              <a:latin typeface="Bodoni MT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doni MT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doni MT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doni MT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87d6"/>
                </a:solidFill>
                <a:latin typeface="Bodoni MT Black"/>
              </a:rPr>
              <a:t> </a:t>
            </a:r>
            <a:r>
              <a:rPr b="1" lang="ru-RU" sz="2400" spc="-1" strike="noStrike">
                <a:solidFill>
                  <a:srgbClr val="0b87d6"/>
                </a:solidFill>
                <a:latin typeface="Bodoni MT Black"/>
              </a:rPr>
              <a:t>Москва 2017 г.</a:t>
            </a:r>
            <a:endParaRPr b="0" lang="en-US" sz="2400" spc="-1" strike="noStrike">
              <a:solidFill>
                <a:srgbClr val="000000"/>
              </a:solidFill>
              <a:latin typeface="Bodoni MT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doni MT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MT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MT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MT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MT Black"/>
            </a:endParaRPr>
          </a:p>
        </p:txBody>
      </p:sp>
      <p:pic>
        <p:nvPicPr>
          <p:cNvPr id="509" name="Рисунок 2" descr="1.png"/>
          <p:cNvPicPr/>
          <p:nvPr/>
        </p:nvPicPr>
        <p:blipFill>
          <a:blip r:embed="rId1"/>
          <a:stretch/>
        </p:blipFill>
        <p:spPr>
          <a:xfrm>
            <a:off x="682560" y="3336840"/>
            <a:ext cx="2449440" cy="3265560"/>
          </a:xfrm>
          <a:prstGeom prst="rect">
            <a:avLst/>
          </a:prstGeom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Box 3"/>
          <p:cNvSpPr/>
          <p:nvPr/>
        </p:nvSpPr>
        <p:spPr>
          <a:xfrm>
            <a:off x="581040" y="419040"/>
            <a:ext cx="75913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комендуемая литература:</a:t>
            </a:r>
            <a:endParaRPr b="0" lang="en-US" sz="2800" spc="-1" strike="noStrike">
              <a:solidFill>
                <a:srgbClr val="000000"/>
              </a:solidFill>
              <a:latin typeface="Bodoni MT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doni MT Black"/>
            </a:endParaRPr>
          </a:p>
          <a:p>
            <a:pPr>
              <a:lnSpc>
                <a:spcPct val="100000"/>
              </a:lnSpc>
              <a:buClr>
                <a:srgbClr val="06436b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436b"/>
                </a:solidFill>
                <a:latin typeface="Times New Roman"/>
                <a:ea typeface="Times New Roman"/>
              </a:rPr>
              <a:t>Маркова Т.А. Воспитание дошкольника в семье[Текст] /Т.А. Маркова. - М. 2001. - 318 с</a:t>
            </a:r>
            <a:endParaRPr b="0" lang="en-US" sz="2400" spc="-1" strike="noStrike">
              <a:solidFill>
                <a:srgbClr val="000000"/>
              </a:solidFill>
              <a:latin typeface="Bodoni MT Black"/>
            </a:endParaRPr>
          </a:p>
          <a:p>
            <a:pPr>
              <a:lnSpc>
                <a:spcPct val="100000"/>
              </a:lnSpc>
              <a:buClr>
                <a:srgbClr val="06436b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436b"/>
                </a:solidFill>
                <a:latin typeface="Times New Roman"/>
                <a:ea typeface="Times New Roman"/>
              </a:rPr>
              <a:t>Веракса Н.Е, Веракса А.Н. Проектная деятельность дошкольников [Текст] / Пособие для педагогов дошкольных учреждений.-М.: Мозаика – Синтез, 2014.- 235 с.</a:t>
            </a:r>
            <a:endParaRPr b="0" lang="en-US" sz="2400" spc="-1" strike="noStrike">
              <a:solidFill>
                <a:srgbClr val="000000"/>
              </a:solidFill>
              <a:latin typeface="Bodoni MT Black"/>
            </a:endParaRPr>
          </a:p>
          <a:p>
            <a:pPr>
              <a:lnSpc>
                <a:spcPct val="100000"/>
              </a:lnSpc>
              <a:buClr>
                <a:srgbClr val="06436b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436b"/>
                </a:solidFill>
                <a:latin typeface="Times New Roman"/>
                <a:ea typeface="Times New Roman"/>
              </a:rPr>
              <a:t>Зверева О.Л. Современные формы взаимодействия ДОУ и семьи [Текст] / О.Л. Зверева // Воспитатель ДОУ. - 2009. - №4. - С. 74-83.Я – компетентный родитель. Программа работы с родителями дошкольников.</a:t>
            </a:r>
            <a:endParaRPr b="0" lang="en-US" sz="2400" spc="-1" strike="noStrike">
              <a:solidFill>
                <a:srgbClr val="000000"/>
              </a:solidFill>
              <a:latin typeface="Bodoni MT Black"/>
            </a:endParaRPr>
          </a:p>
          <a:p>
            <a:pPr>
              <a:lnSpc>
                <a:spcPct val="100000"/>
              </a:lnSpc>
              <a:buClr>
                <a:srgbClr val="06436b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436b"/>
                </a:solidFill>
                <a:latin typeface="Times New Roman"/>
                <a:ea typeface="Times New Roman"/>
              </a:rPr>
              <a:t>Социальное партнёрство детского сада с родителями. Сборник материалов.</a:t>
            </a:r>
            <a:endParaRPr b="0" lang="en-US" sz="2400" spc="-1" strike="noStrike">
              <a:solidFill>
                <a:srgbClr val="000000"/>
              </a:solidFill>
              <a:latin typeface="Bodoni MT Black"/>
            </a:endParaRPr>
          </a:p>
          <a:p>
            <a:pPr>
              <a:lnSpc>
                <a:spcPct val="100000"/>
              </a:lnSpc>
              <a:buClr>
                <a:srgbClr val="06436b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436b"/>
                </a:solidFill>
                <a:latin typeface="Times New Roman"/>
                <a:ea typeface="Times New Roman"/>
              </a:rPr>
              <a:t>А.В. Козлова, Р.П. Дешеулина Работа ДОУ с семьёй. Методические рекомендации. 2009.</a:t>
            </a:r>
            <a:endParaRPr b="0" lang="en-US" sz="2400" spc="-1" strike="noStrike">
              <a:solidFill>
                <a:srgbClr val="000000"/>
              </a:solidFill>
              <a:latin typeface="Bodoni MT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871560" y="2674440"/>
            <a:ext cx="7408800" cy="345132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4560" y="265248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6436b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485280" y="798120"/>
            <a:ext cx="5992920" cy="22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6edcc"/>
                </a:solidFill>
                <a:uFillTx/>
                <a:latin typeface="Times New Roman"/>
                <a:ea typeface="Times New Roman"/>
              </a:rPr>
              <a:t>Цель семинара-практикума:</a:t>
            </a:r>
            <a:r>
              <a:rPr b="1" lang="ru-RU" sz="3200" spc="-1" strike="noStrike">
                <a:solidFill>
                  <a:srgbClr val="f6ed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овышение профессиональной компетентности и систематизация  знаний педагогов  о детско-родительских проектах, как средстве  включения родителей  в общественную деятельность  ДО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6436b"/>
                </a:solidFill>
                <a:uFillTx/>
                <a:latin typeface="Times New Roman"/>
                <a:ea typeface="Times New Roman"/>
              </a:rPr>
              <a:t>Планируемый результат: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Детско-родительские педагогические проекты способствовали установлению партнерских взаимоотношений с семьями дошкольников, решению актуальных проблем воспитания детей в союзе родителей и педагогов.</a:t>
            </a:r>
            <a:r>
              <a:rPr b="1" lang="ru-RU" sz="2400" spc="-1" strike="noStrike">
                <a:solidFill>
                  <a:srgbClr val="06436b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38120" y="59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512" name="Picture 4" descr="C:\Users\Ольга\Desktop\15.jpg"/>
          <p:cNvPicPr/>
          <p:nvPr/>
        </p:nvPicPr>
        <p:blipFill>
          <a:blip r:embed="rId1"/>
          <a:stretch/>
        </p:blipFill>
        <p:spPr>
          <a:xfrm>
            <a:off x="6615000" y="1654200"/>
            <a:ext cx="220824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Объект 3" descr=""/>
          <p:cNvPicPr/>
          <p:nvPr/>
        </p:nvPicPr>
        <p:blipFill>
          <a:blip r:embed="rId1"/>
          <a:stretch/>
        </p:blipFill>
        <p:spPr>
          <a:xfrm>
            <a:off x="171360" y="414360"/>
            <a:ext cx="8674200" cy="626112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1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Box 3"/>
          <p:cNvSpPr/>
          <p:nvPr/>
        </p:nvSpPr>
        <p:spPr>
          <a:xfrm>
            <a:off x="682560" y="324000"/>
            <a:ext cx="7916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MT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MT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MT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MT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Bodoni MT Black"/>
              </a:rPr>
              <a:t>“</a:t>
            </a:r>
            <a:endParaRPr b="0" lang="en-US" sz="2800" spc="-1" strike="noStrike">
              <a:solidFill>
                <a:srgbClr val="000000"/>
              </a:solidFill>
              <a:latin typeface="Bodoni MT Black"/>
            </a:endParaRPr>
          </a:p>
        </p:txBody>
      </p:sp>
      <p:pic>
        <p:nvPicPr>
          <p:cNvPr id="516" name="Схема 1" descr=""/>
          <p:cNvPicPr/>
          <p:nvPr/>
        </p:nvPicPr>
        <p:blipFill>
          <a:blip r:embed="rId1"/>
          <a:stretch/>
        </p:blipFill>
        <p:spPr>
          <a:xfrm>
            <a:off x="444600" y="1262160"/>
            <a:ext cx="6662520" cy="5692680"/>
          </a:xfrm>
          <a:prstGeom prst="rect">
            <a:avLst/>
          </a:prstGeom>
          <a:ln w="0">
            <a:noFill/>
          </a:ln>
        </p:spPr>
      </p:pic>
      <p:sp>
        <p:nvSpPr>
          <p:cNvPr id="517" name="Прямоугольник 2"/>
          <p:cNvSpPr/>
          <p:nvPr/>
        </p:nvSpPr>
        <p:spPr>
          <a:xfrm>
            <a:off x="1031760" y="293760"/>
            <a:ext cx="582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апы:</a:t>
            </a:r>
            <a:endParaRPr b="0" lang="en-US" sz="4800" spc="-1" strike="noStrike">
              <a:solidFill>
                <a:srgbClr val="000000"/>
              </a:solidFill>
              <a:latin typeface="Bodoni MT Black"/>
            </a:endParaRPr>
          </a:p>
        </p:txBody>
      </p:sp>
      <p:pic>
        <p:nvPicPr>
          <p:cNvPr id="518" name="Picture 3" descr="C:\Users\Ольга\Desktop\114.png"/>
          <p:cNvPicPr/>
          <p:nvPr/>
        </p:nvPicPr>
        <p:blipFill>
          <a:blip r:embed="rId2"/>
          <a:stretch/>
        </p:blipFill>
        <p:spPr>
          <a:xfrm>
            <a:off x="6656400" y="3699000"/>
            <a:ext cx="2487600" cy="3159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136080" y="506520"/>
            <a:ext cx="8852040" cy="64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6436b"/>
                </a:solidFill>
                <a:uFillTx/>
                <a:latin typeface="Times New Roman"/>
                <a:ea typeface="Times New Roman"/>
              </a:rPr>
              <a:t>Проект </a:t>
            </a:r>
            <a:r>
              <a:rPr b="0" lang="ru-RU" sz="2400" spc="-1" strike="noStrike">
                <a:solidFill>
                  <a:srgbClr val="06436b"/>
                </a:solidFill>
                <a:latin typeface="Times New Roman"/>
                <a:ea typeface="Times New Roman"/>
              </a:rPr>
              <a:t>– это совокупность определенных действий, документов, предварительных текстов, мероприятий, работ,  замысел для создания реального объекта, предмета, создания уникального продукта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dc9f0c"/>
                </a:solidFill>
                <a:uFillTx/>
                <a:latin typeface="Times New Roman"/>
                <a:ea typeface="Times New Roman"/>
              </a:rPr>
              <a:t>Деятельность</a:t>
            </a:r>
            <a:r>
              <a:rPr b="0" lang="ru-RU" sz="2400" spc="-1" strike="noStrike">
                <a:solidFill>
                  <a:srgbClr val="dc9f0c"/>
                </a:solidFill>
                <a:latin typeface="Times New Roman"/>
                <a:ea typeface="Times New Roman"/>
              </a:rPr>
              <a:t> – специфически человеческая форма активного отношения к окружающему  миру,  содержание   которой   составляет   его   целесообразное изменение и образование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2ae51"/>
                </a:solidFill>
                <a:uFillTx/>
                <a:latin typeface="Times New Roman"/>
                <a:ea typeface="Times New Roman"/>
              </a:rPr>
              <a:t>Проектная деятельность </a:t>
            </a:r>
            <a:r>
              <a:rPr b="0" lang="ru-RU" sz="2400" spc="-1" strike="noStrike">
                <a:solidFill>
                  <a:srgbClr val="32ae51"/>
                </a:solidFill>
                <a:latin typeface="Times New Roman"/>
                <a:ea typeface="Times New Roman"/>
              </a:rPr>
              <a:t>- система обучения, при которой воспитанники приобретают знания и умения в процессе планирования и выполнения постепенно усложняющихся практические заданий (проектов)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ектная деятельность способствует также развитию разнообразной игровой деятельности, формированию и укреплению дружеского взаимодействия между детьми, развитию и совершенствованию детско – родительских отношений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68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Объект 3" descr=""/>
          <p:cNvPicPr/>
          <p:nvPr/>
        </p:nvPicPr>
        <p:blipFill>
          <a:blip r:embed="rId1"/>
          <a:stretch/>
        </p:blipFill>
        <p:spPr>
          <a:xfrm>
            <a:off x="-6480" y="328680"/>
            <a:ext cx="10412640" cy="652932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93640" y="182520"/>
            <a:ext cx="822960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ормы совместной деятельност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Box 3"/>
          <p:cNvSpPr/>
          <p:nvPr/>
        </p:nvSpPr>
        <p:spPr>
          <a:xfrm>
            <a:off x="250920" y="31680"/>
            <a:ext cx="8485200" cy="71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1b4171"/>
                </a:solidFill>
                <a:latin typeface="Times New Roman"/>
                <a:ea typeface="Times New Roman"/>
              </a:rPr>
              <a:t>Особенность детского - родительского проекта заключается в том, что в проекте принимают участие дети, родители, педагоги. </a:t>
            </a:r>
            <a:r>
              <a:rPr b="0" lang="ru-RU" sz="24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Совместный сбор материалов, изготовление атрибутов, игры, конкурсы, презентации раскрывают творческие способности детей, вовлекают родителей в воспитательный процесс, что, естественно, сказывается на результатах. В ходе осуществления проекта между родителями и детьми происходит одновременно и взаимодействие, и творческое соревнование. Атмосфера игры и фантазии позволяет сбросить механизмы самоконтроля и показать себя с неожиданной стороны. Лучше узнавая своих родных, дети и родители становятся ближе друг к другу.</a:t>
            </a:r>
            <a:endParaRPr b="0" lang="en-US" sz="2400" spc="-1" strike="noStrike">
              <a:solidFill>
                <a:srgbClr val="000000"/>
              </a:solidFill>
              <a:latin typeface="Bodoni MT Black"/>
            </a:endParaRPr>
          </a:p>
          <a:p>
            <a:pPr>
              <a:lnSpc>
                <a:spcPct val="100000"/>
              </a:lnSpc>
              <a:buClr>
                <a:srgbClr val="052e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doni MT Black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Box 4"/>
          <p:cNvSpPr/>
          <p:nvPr/>
        </p:nvSpPr>
        <p:spPr>
          <a:xfrm>
            <a:off x="1041480" y="914400"/>
            <a:ext cx="71308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doni MT Black"/>
            </a:endParaRPr>
          </a:p>
        </p:txBody>
      </p:sp>
      <p:pic>
        <p:nvPicPr>
          <p:cNvPr id="525" name="Рисунок 5" descr="2.png"/>
          <p:cNvPicPr/>
          <p:nvPr/>
        </p:nvPicPr>
        <p:blipFill>
          <a:blip r:embed="rId1"/>
          <a:stretch/>
        </p:blipFill>
        <p:spPr>
          <a:xfrm>
            <a:off x="5070600" y="3286080"/>
            <a:ext cx="4073400" cy="3571920"/>
          </a:xfrm>
          <a:prstGeom prst="rect">
            <a:avLst/>
          </a:prstGeom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</p:pic>
      <p:sp>
        <p:nvSpPr>
          <p:cNvPr id="526" name="Прямоугольник 1"/>
          <p:cNvSpPr/>
          <p:nvPr/>
        </p:nvSpPr>
        <p:spPr>
          <a:xfrm>
            <a:off x="700200" y="563400"/>
            <a:ext cx="7680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Доказано, что семья и детский сад, интегрируя свои усилия в процессе социализации ребенка, способны обеспечить полноту и целостность социально-педагогической и культурно-образовательной среды, в которой ребенок живет, развивается и само реализуется. При этом успешность заключается не в дублировании и не в замене функций одного </a:t>
            </a:r>
            <a:endParaRPr b="0" lang="en-US" sz="2400" spc="-1" strike="noStrike">
              <a:solidFill>
                <a:srgbClr val="000000"/>
              </a:solidFill>
              <a:latin typeface="Bodoni MT Blac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института воспитания другим, </a:t>
            </a:r>
            <a:endParaRPr b="0" lang="en-US" sz="2400" spc="-1" strike="noStrike">
              <a:solidFill>
                <a:srgbClr val="000000"/>
              </a:solidFill>
              <a:latin typeface="Bodoni MT Blac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а в их гармоничном </a:t>
            </a:r>
            <a:endParaRPr b="0" lang="en-US" sz="2400" spc="-1" strike="noStrike">
              <a:solidFill>
                <a:srgbClr val="000000"/>
              </a:solidFill>
              <a:latin typeface="Bodoni MT Blac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дополнении друг друга.</a:t>
            </a:r>
            <a:endParaRPr b="0" lang="en-US" sz="2400" spc="-1" strike="noStrike">
              <a:solidFill>
                <a:srgbClr val="000000"/>
              </a:solidFill>
              <a:latin typeface="Bodoni MT Black"/>
            </a:endParaRPr>
          </a:p>
        </p:txBody>
      </p:sp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Box 3"/>
          <p:cNvSpPr/>
          <p:nvPr/>
        </p:nvSpPr>
        <p:spPr>
          <a:xfrm>
            <a:off x="152280" y="193680"/>
            <a:ext cx="868068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6436b"/>
                </a:solidFill>
                <a:latin typeface="Times New Roman"/>
                <a:ea typeface="Times New Roman"/>
              </a:rPr>
              <a:t>Создание дружелюбного партнерства</a:t>
            </a:r>
            <a:endParaRPr b="0" lang="en-US" sz="2400" spc="-1" strike="noStrike">
              <a:solidFill>
                <a:srgbClr val="000000"/>
              </a:solidFill>
              <a:latin typeface="Bodoni MT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6436b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6436b"/>
                </a:solidFill>
                <a:latin typeface="Times New Roman"/>
                <a:ea typeface="Times New Roman"/>
              </a:rPr>
              <a:t>между детским садом и семьей. Рекомендации для педагогов:</a:t>
            </a:r>
            <a:endParaRPr b="0" lang="en-US" sz="2400" spc="-1" strike="noStrike">
              <a:solidFill>
                <a:srgbClr val="000000"/>
              </a:solidFill>
              <a:latin typeface="Bodoni MT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6436b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Bodoni MT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оставляем всем членам семьи возможность для ак­тивного участия в групповой деятельности, делаем все, чтобы родители при этом чувствовали себя комфортно.</a:t>
            </a:r>
            <a:endParaRPr b="0" lang="en-US" sz="2400" spc="-1" strike="noStrike">
              <a:solidFill>
                <a:srgbClr val="000000"/>
              </a:solidFill>
              <a:latin typeface="Bodoni MT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6436b"/>
                </a:solidFill>
                <a:latin typeface="Times New Roman"/>
                <a:ea typeface="Times New Roman"/>
              </a:rPr>
              <a:t>Даем родителям возможность участвовать в принятии ре­шений, касающихся проведения мероприятий в группе.</a:t>
            </a:r>
            <a:endParaRPr b="0" lang="en-US" sz="2400" spc="-1" strike="noStrike">
              <a:solidFill>
                <a:srgbClr val="000000"/>
              </a:solidFill>
              <a:latin typeface="Bodoni MT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Готовы принимать родителей в своей группе и в детс­ком саду в любое время на протяжении всего дня.</a:t>
            </a:r>
            <a:endParaRPr b="0" lang="en-US" sz="2400" spc="-1" strike="noStrike">
              <a:solidFill>
                <a:srgbClr val="000000"/>
              </a:solidFill>
              <a:latin typeface="Bodoni MT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6436b"/>
                </a:solidFill>
                <a:latin typeface="Times New Roman"/>
                <a:ea typeface="Times New Roman"/>
              </a:rPr>
              <a:t>Помогаем семьям в поиске других общественных услуг, в которых они нуждаются.</a:t>
            </a:r>
            <a:endParaRPr b="0" lang="en-US" sz="2400" spc="-1" strike="noStrike">
              <a:solidFill>
                <a:srgbClr val="000000"/>
              </a:solidFill>
              <a:latin typeface="Bodoni MT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c9f0c"/>
                </a:solidFill>
                <a:latin typeface="Times New Roman"/>
                <a:ea typeface="Times New Roman"/>
              </a:rPr>
              <a:t>Принимаем и уважаем мнения и чувства родителей, даже если они не совпадают с нашими собственными.</a:t>
            </a:r>
            <a:endParaRPr b="0" lang="en-US" sz="2400" spc="-1" strike="noStrike">
              <a:solidFill>
                <a:srgbClr val="000000"/>
              </a:solidFill>
              <a:latin typeface="Bodoni MT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6436b"/>
                </a:solidFill>
                <a:latin typeface="Times New Roman"/>
                <a:ea typeface="Times New Roman"/>
              </a:rPr>
              <a:t>Стараемся выработать у себя понимание культурных ценностей семей, с которыми работаем.</a:t>
            </a:r>
            <a:endParaRPr b="0" lang="en-US" sz="2400" spc="-1" strike="noStrike">
              <a:solidFill>
                <a:srgbClr val="000000"/>
              </a:solidFill>
              <a:latin typeface="Bodoni MT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нимаем ценности семей, даже если они входят в конфликт с нашими собственными.</a:t>
            </a:r>
            <a:endParaRPr b="0" lang="en-US" sz="2400" spc="-1" strike="noStrike">
              <a:solidFill>
                <a:srgbClr val="000000"/>
              </a:solidFill>
              <a:latin typeface="Bodoni MT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doni MT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7T03:41:13Z</dcterms:created>
  <dc:creator>User</dc:creator>
  <dc:description/>
  <dc:language>en-US</dc:language>
  <cp:lastModifiedBy>Ольга</cp:lastModifiedBy>
  <dcterms:modified xsi:type="dcterms:W3CDTF">2018-02-04T14:04:42Z</dcterms:modified>
  <cp:revision>83</cp:revision>
  <dc:subject/>
  <dc:title>Слайд 1</dc:title>
</cp:coreProperties>
</file>