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246-86FC-471F-8A1A-7A1FEEE88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DDA-EBDD-4E91-A67B-1AC889D78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9E02-5E52-4DF3-A32A-84B816E52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A01-A18B-4713-AFD9-96AFCE6B8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304-C615-4DC7-9577-3320B02B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CFC-5CE4-4AC4-A91E-C0675AB9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8B4-BC46-4BC0-9AAF-43E29078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6DC-768B-47F1-B254-40859EDD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E54C-DE29-4B65-91C9-3A283073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1413-BA37-4FF2-A6FF-7AFA312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4C09-6564-41B5-BA21-1912ADFE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A0AD-7D5E-4DDE-8BB1-069F6DC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9826-ED78-43BF-BBC5-8AC37C8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E4F-5B34-4BAB-8F38-3380D68C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222-7E74-4050-90A8-4433611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DF4-AB58-4384-8434-C9BA87F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B9C-9BF5-4F4B-9B6E-AD91F6B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2FB0-C44E-4410-B965-5F66592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5D2-8FB0-4FC6-BA4E-FAEDEED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84C-FF51-4F32-A9BD-C2407B8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E73-72D1-45DC-A2B4-B91CC45F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D52-5B08-493D-801C-FA541A2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093-F9D6-49DC-A547-82FE30E0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E9C-99AC-4AFE-9855-81482C3F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B89-3A5C-41D5-B5EC-15715E8A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D9B-085F-441E-B3A5-DFAE4DB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E9F-5A68-4625-A283-78179CA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272-9B2D-46DA-80EA-42AEBAD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FC6-5499-480F-87E5-42819B488A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460-C863-4427-B2E3-1FDF30B8D3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90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11"/>
          <p:cNvSpPr txBox="1"/>
          <p:nvPr/>
        </p:nvSpPr>
        <p:spPr>
          <a:xfrm>
            <a:off x="762120" y="2590920"/>
            <a:ext cx="7543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фера и шар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53"/>
          <p:cNvSpPr/>
          <p:nvPr/>
        </p:nvSpPr>
        <p:spPr>
          <a:xfrm>
            <a:off x="304920" y="2171880"/>
            <a:ext cx="5727600" cy="1428480"/>
          </a:xfrm>
          <a:custGeom>
            <a:avLst/>
            <a:gdLst>
              <a:gd name="textAreaLeft" fmla="*/ 0 w 5727600"/>
              <a:gd name="textAreaRight" fmla="*/ 5727960 w 572760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3608" h="900">
                <a:moveTo>
                  <a:pt x="2096" y="192"/>
                </a:moveTo>
                <a:lnTo>
                  <a:pt x="3608" y="0"/>
                </a:lnTo>
                <a:lnTo>
                  <a:pt x="1960" y="900"/>
                </a:lnTo>
                <a:lnTo>
                  <a:pt x="0" y="480"/>
                </a:lnTo>
              </a:path>
            </a:pathLst>
          </a:custGeom>
          <a:solidFill>
            <a:srgbClr val="0066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35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11"/>
          <p:cNvSpPr/>
          <p:nvPr/>
        </p:nvSpPr>
        <p:spPr>
          <a:xfrm>
            <a:off x="990720" y="2362320"/>
            <a:ext cx="3886200" cy="3809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12"/>
          <p:cNvSpPr/>
          <p:nvPr/>
        </p:nvSpPr>
        <p:spPr>
          <a:xfrm flipV="1">
            <a:off x="993600" y="3535200"/>
            <a:ext cx="3880080" cy="741600"/>
          </a:xfrm>
          <a:custGeom>
            <a:avLst/>
            <a:gdLst>
              <a:gd name="textAreaLeft" fmla="*/ 0 w 3880080"/>
              <a:gd name="textAreaRight" fmla="*/ 3880440 w 38800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13"/>
          <p:cNvSpPr/>
          <p:nvPr/>
        </p:nvSpPr>
        <p:spPr>
          <a:xfrm>
            <a:off x="1012680" y="4159080"/>
            <a:ext cx="3857760" cy="7416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8"/>
          <p:cNvSpPr/>
          <p:nvPr/>
        </p:nvSpPr>
        <p:spPr>
          <a:xfrm>
            <a:off x="2895480" y="2997360"/>
            <a:ext cx="25560" cy="1193760"/>
          </a:xfrm>
          <a:custGeom>
            <a:avLst/>
            <a:gdLst>
              <a:gd name="textAreaLeft" fmla="*/ 0 w 25560"/>
              <a:gd name="textAreaRight" fmla="*/ 25920 w 255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6" h="752">
                <a:moveTo>
                  <a:pt x="16" y="7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2972880" y="4114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 rot="375600">
            <a:off x="2863440" y="4133520"/>
            <a:ext cx="13176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8"/>
          <p:cNvSpPr/>
          <p:nvPr/>
        </p:nvSpPr>
        <p:spPr>
          <a:xfrm>
            <a:off x="6566040" y="452124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9"/>
          <p:cNvSpPr/>
          <p:nvPr/>
        </p:nvSpPr>
        <p:spPr>
          <a:xfrm>
            <a:off x="4952880" y="4038480"/>
            <a:ext cx="3924360" cy="1816200"/>
          </a:xfrm>
          <a:custGeom>
            <a:avLst/>
            <a:gdLst>
              <a:gd name="textAreaLeft" fmla="*/ 0 w 3924360"/>
              <a:gd name="textAreaRight" fmla="*/ 3924720 w 39243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472" h="1144">
                <a:moveTo>
                  <a:pt x="16" y="640"/>
                </a:moveTo>
                <a:lnTo>
                  <a:pt x="2472" y="0"/>
                </a:lnTo>
                <a:lnTo>
                  <a:pt x="1536" y="1144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0"/>
          <p:cNvSpPr/>
          <p:nvPr/>
        </p:nvSpPr>
        <p:spPr>
          <a:xfrm rot="375600">
            <a:off x="6946560" y="4508640"/>
            <a:ext cx="777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61"/>
          <p:cNvSpPr/>
          <p:nvPr/>
        </p:nvSpPr>
        <p:spPr>
          <a:xfrm rot="375600">
            <a:off x="7619760" y="548640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2"/>
          <p:cNvSpPr/>
          <p:nvPr/>
        </p:nvSpPr>
        <p:spPr>
          <a:xfrm rot="375600">
            <a:off x="6883200" y="5651640"/>
            <a:ext cx="777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6"/>
          <p:cNvSpPr/>
          <p:nvPr/>
        </p:nvSpPr>
        <p:spPr>
          <a:xfrm>
            <a:off x="8624880" y="3718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796080" y="4140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7710480" y="5435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7253280" y="5864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664416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4916520" y="5054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8"/>
          <p:cNvSpPr/>
          <p:nvPr/>
        </p:nvSpPr>
        <p:spPr>
          <a:xfrm>
            <a:off x="1523880" y="294156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9"/>
          <p:cNvSpPr/>
          <p:nvPr/>
        </p:nvSpPr>
        <p:spPr>
          <a:xfrm flipV="1">
            <a:off x="1523880" y="262800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5"/>
          <p:cNvSpPr/>
          <p:nvPr/>
        </p:nvSpPr>
        <p:spPr>
          <a:xfrm>
            <a:off x="304920" y="2743200"/>
            <a:ext cx="1447560" cy="1904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912" h="120">
                <a:moveTo>
                  <a:pt x="912" y="0"/>
                </a:moveTo>
                <a:lnTo>
                  <a:pt x="0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2850480" y="269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7"/>
          <p:cNvSpPr/>
          <p:nvPr/>
        </p:nvSpPr>
        <p:spPr>
          <a:xfrm rot="375600">
            <a:off x="2857320" y="294624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5"/>
          <p:cNvSpPr/>
          <p:nvPr/>
        </p:nvSpPr>
        <p:spPr>
          <a:xfrm>
            <a:off x="3354120" y="3629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54"/>
          <p:cNvSpPr/>
          <p:nvPr/>
        </p:nvSpPr>
        <p:spPr>
          <a:xfrm>
            <a:off x="1714680" y="2476440"/>
            <a:ext cx="1904760" cy="26676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" h="168">
                <a:moveTo>
                  <a:pt x="0" y="168"/>
                </a:moveTo>
                <a:lnTo>
                  <a:pt x="120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77"/>
          <p:cNvGrpSpPr/>
          <p:nvPr/>
        </p:nvGrpSpPr>
        <p:grpSpPr>
          <a:xfrm>
            <a:off x="2287440" y="2257560"/>
            <a:ext cx="392400" cy="412920"/>
            <a:chOff x="2287440" y="2257560"/>
            <a:chExt cx="392400" cy="412920"/>
          </a:xfrm>
        </p:grpSpPr>
        <p:sp>
          <p:nvSpPr>
            <p:cNvPr id="392" name="Text Box 16"/>
            <p:cNvSpPr/>
            <p:nvPr/>
          </p:nvSpPr>
          <p:spPr>
            <a:xfrm>
              <a:off x="2287440" y="22575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 rot="375600">
              <a:off x="2514240" y="2590560"/>
              <a:ext cx="7776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63"/>
          <p:cNvSpPr/>
          <p:nvPr/>
        </p:nvSpPr>
        <p:spPr>
          <a:xfrm>
            <a:off x="153720" y="2562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4"/>
          <p:cNvSpPr/>
          <p:nvPr/>
        </p:nvSpPr>
        <p:spPr>
          <a:xfrm>
            <a:off x="5945040" y="1952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2"/>
          <p:cNvSpPr/>
          <p:nvPr/>
        </p:nvSpPr>
        <p:spPr>
          <a:xfrm>
            <a:off x="1521000" y="2355840"/>
            <a:ext cx="2838240" cy="1023840"/>
          </a:xfrm>
          <a:custGeom>
            <a:avLst/>
            <a:gdLst>
              <a:gd name="textAreaLeft" fmla="*/ 0 w 2838240"/>
              <a:gd name="textAreaRight" fmla="*/ 2838600 w 2838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788" h="645">
                <a:moveTo>
                  <a:pt x="36" y="346"/>
                </a:moveTo>
                <a:cubicBezTo>
                  <a:pt x="73" y="311"/>
                  <a:pt x="141" y="247"/>
                  <a:pt x="226" y="198"/>
                </a:cubicBezTo>
                <a:cubicBezTo>
                  <a:pt x="311" y="149"/>
                  <a:pt x="425" y="82"/>
                  <a:pt x="548" y="50"/>
                </a:cubicBezTo>
                <a:cubicBezTo>
                  <a:pt x="671" y="18"/>
                  <a:pt x="837" y="0"/>
                  <a:pt x="962" y="4"/>
                </a:cubicBezTo>
                <a:cubicBezTo>
                  <a:pt x="1087" y="8"/>
                  <a:pt x="1201" y="45"/>
                  <a:pt x="1296" y="74"/>
                </a:cubicBezTo>
                <a:cubicBezTo>
                  <a:pt x="1391" y="103"/>
                  <a:pt x="1455" y="133"/>
                  <a:pt x="1530" y="180"/>
                </a:cubicBezTo>
                <a:cubicBezTo>
                  <a:pt x="1605" y="227"/>
                  <a:pt x="1709" y="308"/>
                  <a:pt x="1748" y="354"/>
                </a:cubicBezTo>
                <a:cubicBezTo>
                  <a:pt x="1787" y="400"/>
                  <a:pt x="1788" y="423"/>
                  <a:pt x="1762" y="456"/>
                </a:cubicBezTo>
                <a:cubicBezTo>
                  <a:pt x="1736" y="489"/>
                  <a:pt x="1677" y="524"/>
                  <a:pt x="1592" y="550"/>
                </a:cubicBezTo>
                <a:cubicBezTo>
                  <a:pt x="1507" y="576"/>
                  <a:pt x="1367" y="596"/>
                  <a:pt x="1250" y="612"/>
                </a:cubicBezTo>
                <a:cubicBezTo>
                  <a:pt x="1133" y="628"/>
                  <a:pt x="1006" y="643"/>
                  <a:pt x="890" y="644"/>
                </a:cubicBezTo>
                <a:cubicBezTo>
                  <a:pt x="774" y="645"/>
                  <a:pt x="666" y="636"/>
                  <a:pt x="554" y="620"/>
                </a:cubicBezTo>
                <a:cubicBezTo>
                  <a:pt x="442" y="604"/>
                  <a:pt x="304" y="573"/>
                  <a:pt x="218" y="548"/>
                </a:cubicBezTo>
                <a:cubicBezTo>
                  <a:pt x="132" y="523"/>
                  <a:pt x="72" y="491"/>
                  <a:pt x="36" y="468"/>
                </a:cubicBezTo>
                <a:cubicBezTo>
                  <a:pt x="0" y="445"/>
                  <a:pt x="4" y="432"/>
                  <a:pt x="4" y="412"/>
                </a:cubicBezTo>
                <a:cubicBezTo>
                  <a:pt x="4" y="392"/>
                  <a:pt x="29" y="360"/>
                  <a:pt x="36" y="346"/>
                </a:cubicBezTo>
                <a:close/>
              </a:path>
            </a:pathLst>
          </a:cu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0"/>
          <p:cNvGrpSpPr/>
          <p:nvPr/>
        </p:nvGrpSpPr>
        <p:grpSpPr>
          <a:xfrm>
            <a:off x="1754280" y="3019320"/>
            <a:ext cx="2879280" cy="655920"/>
            <a:chOff x="1754280" y="3019320"/>
            <a:chExt cx="2879280" cy="655920"/>
          </a:xfrm>
        </p:grpSpPr>
        <p:grpSp>
          <p:nvGrpSpPr>
            <p:cNvPr id="398" name="Group 78"/>
            <p:cNvGrpSpPr/>
            <p:nvPr/>
          </p:nvGrpSpPr>
          <p:grpSpPr>
            <a:xfrm>
              <a:off x="4237560" y="3019320"/>
              <a:ext cx="396000" cy="398880"/>
              <a:chOff x="4237560" y="3019320"/>
              <a:chExt cx="396000" cy="398880"/>
            </a:xfrm>
          </p:grpSpPr>
          <p:sp>
            <p:nvSpPr>
              <p:cNvPr id="399" name="Text Box 19"/>
              <p:cNvSpPr/>
              <p:nvPr/>
            </p:nvSpPr>
            <p:spPr>
              <a:xfrm>
                <a:off x="4268520" y="3019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8"/>
              <p:cNvSpPr/>
              <p:nvPr/>
            </p:nvSpPr>
            <p:spPr>
              <a:xfrm rot="375600">
                <a:off x="4241160" y="3085920"/>
                <a:ext cx="78120" cy="7632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79"/>
            <p:cNvGrpSpPr/>
            <p:nvPr/>
          </p:nvGrpSpPr>
          <p:grpSpPr>
            <a:xfrm>
              <a:off x="1754280" y="3247200"/>
              <a:ext cx="349920" cy="428040"/>
              <a:chOff x="1754280" y="3247200"/>
              <a:chExt cx="349920" cy="428040"/>
            </a:xfrm>
          </p:grpSpPr>
          <p:sp>
            <p:nvSpPr>
              <p:cNvPr id="402" name="Oval 15"/>
              <p:cNvSpPr/>
              <p:nvPr/>
            </p:nvSpPr>
            <p:spPr>
              <a:xfrm rot="375600">
                <a:off x="1968120" y="3251160"/>
                <a:ext cx="77760" cy="7596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74"/>
              <p:cNvSpPr/>
              <p:nvPr/>
            </p:nvSpPr>
            <p:spPr>
              <a:xfrm>
                <a:off x="1754280" y="32763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81"/>
          <p:cNvSpPr/>
          <p:nvPr/>
        </p:nvSpPr>
        <p:spPr>
          <a:xfrm>
            <a:off x="609480" y="3049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84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стороны треугольника АВС касаются сферы радиуса 5 см. Найдите расстояние от центра сферы до плоскости треугольника, если АВ=13см, ВС=14см, СА=15с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val 2"/>
          <p:cNvSpPr/>
          <p:nvPr/>
        </p:nvSpPr>
        <p:spPr>
          <a:xfrm rot="375600">
            <a:off x="2857320" y="294624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1179360" y="2430360"/>
            <a:ext cx="3103560" cy="6494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955" h="409">
                <a:moveTo>
                  <a:pt x="0" y="409"/>
                </a:moveTo>
                <a:lnTo>
                  <a:pt x="417" y="182"/>
                </a:lnTo>
                <a:lnTo>
                  <a:pt x="932" y="0"/>
                </a:lnTo>
                <a:lnTo>
                  <a:pt x="1955" y="220"/>
                </a:lnTo>
              </a:path>
            </a:pathLst>
          </a:custGeom>
          <a:solidFill>
            <a:srgbClr val="3399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4"/>
          <p:cNvSpPr/>
          <p:nvPr/>
        </p:nvSpPr>
        <p:spPr>
          <a:xfrm>
            <a:off x="1219320" y="2768760"/>
            <a:ext cx="3517920" cy="888840"/>
          </a:xfrm>
          <a:custGeom>
            <a:avLst/>
            <a:gdLst>
              <a:gd name="textAreaLeft" fmla="*/ 0 w 3517920"/>
              <a:gd name="textAreaRight" fmla="*/ 3518280 w 35179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216" h="560">
                <a:moveTo>
                  <a:pt x="1832" y="0"/>
                </a:moveTo>
                <a:lnTo>
                  <a:pt x="2216" y="80"/>
                </a:lnTo>
                <a:lnTo>
                  <a:pt x="1312" y="560"/>
                </a:lnTo>
                <a:lnTo>
                  <a:pt x="0" y="192"/>
                </a:lnTo>
              </a:path>
            </a:pathLst>
          </a:custGeom>
          <a:solidFill>
            <a:srgbClr val="0066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09" name="Freeform 6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Oval 14"/>
          <p:cNvSpPr/>
          <p:nvPr/>
        </p:nvSpPr>
        <p:spPr>
          <a:xfrm>
            <a:off x="990720" y="2362320"/>
            <a:ext cx="3886200" cy="3809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rc 15"/>
          <p:cNvSpPr/>
          <p:nvPr/>
        </p:nvSpPr>
        <p:spPr>
          <a:xfrm flipV="1">
            <a:off x="993600" y="3535200"/>
            <a:ext cx="3880080" cy="741600"/>
          </a:xfrm>
          <a:custGeom>
            <a:avLst/>
            <a:gdLst>
              <a:gd name="textAreaLeft" fmla="*/ 0 w 3880080"/>
              <a:gd name="textAreaRight" fmla="*/ 3880440 w 38800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rc 16"/>
          <p:cNvSpPr/>
          <p:nvPr/>
        </p:nvSpPr>
        <p:spPr>
          <a:xfrm>
            <a:off x="1012680" y="4159080"/>
            <a:ext cx="3857760" cy="7416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7"/>
          <p:cNvSpPr/>
          <p:nvPr/>
        </p:nvSpPr>
        <p:spPr>
          <a:xfrm>
            <a:off x="2895480" y="2997360"/>
            <a:ext cx="25560" cy="1193760"/>
          </a:xfrm>
          <a:custGeom>
            <a:avLst/>
            <a:gdLst>
              <a:gd name="textAreaLeft" fmla="*/ 0 w 25560"/>
              <a:gd name="textAreaRight" fmla="*/ 25920 w 255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6" h="752">
                <a:moveTo>
                  <a:pt x="16" y="7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2972880" y="4114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 rot="375600">
            <a:off x="2863440" y="4133520"/>
            <a:ext cx="13176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>
            <a:off x="6566040" y="452124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1"/>
          <p:cNvSpPr/>
          <p:nvPr/>
        </p:nvSpPr>
        <p:spPr>
          <a:xfrm>
            <a:off x="6058080" y="4432320"/>
            <a:ext cx="2222280" cy="1409760"/>
          </a:xfrm>
          <a:custGeom>
            <a:avLst/>
            <a:gdLst>
              <a:gd name="textAreaLeft" fmla="*/ 0 w 2222280"/>
              <a:gd name="textAreaRight" fmla="*/ 2222640 w 222228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1400" h="888">
                <a:moveTo>
                  <a:pt x="24" y="624"/>
                </a:moveTo>
                <a:lnTo>
                  <a:pt x="560" y="0"/>
                </a:lnTo>
                <a:lnTo>
                  <a:pt x="1400" y="192"/>
                </a:lnTo>
                <a:lnTo>
                  <a:pt x="840" y="888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2"/>
          <p:cNvSpPr/>
          <p:nvPr/>
        </p:nvSpPr>
        <p:spPr>
          <a:xfrm rot="375600">
            <a:off x="7314840" y="449568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3"/>
          <p:cNvSpPr/>
          <p:nvPr/>
        </p:nvSpPr>
        <p:spPr>
          <a:xfrm rot="375600">
            <a:off x="7619760" y="548640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4"/>
          <p:cNvSpPr/>
          <p:nvPr/>
        </p:nvSpPr>
        <p:spPr>
          <a:xfrm rot="375600">
            <a:off x="6883200" y="5651640"/>
            <a:ext cx="777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678312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6"/>
          <p:cNvSpPr/>
          <p:nvPr/>
        </p:nvSpPr>
        <p:spPr>
          <a:xfrm>
            <a:off x="7710480" y="5435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7"/>
          <p:cNvSpPr/>
          <p:nvPr/>
        </p:nvSpPr>
        <p:spPr>
          <a:xfrm>
            <a:off x="7253280" y="5864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8"/>
          <p:cNvSpPr/>
          <p:nvPr/>
        </p:nvSpPr>
        <p:spPr>
          <a:xfrm>
            <a:off x="664416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571644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rc 30"/>
          <p:cNvSpPr/>
          <p:nvPr/>
        </p:nvSpPr>
        <p:spPr>
          <a:xfrm flipV="1">
            <a:off x="1523880" y="262800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"/>
          <p:cNvSpPr/>
          <p:nvPr/>
        </p:nvSpPr>
        <p:spPr>
          <a:xfrm>
            <a:off x="1206360" y="2806560"/>
            <a:ext cx="482760" cy="254160"/>
          </a:xfrm>
          <a:custGeom>
            <a:avLst/>
            <a:gdLst>
              <a:gd name="textAreaLeft" fmla="*/ 0 w 482760"/>
              <a:gd name="textAreaRight" fmla="*/ 483120 w 4827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2850480" y="269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4725720" y="266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4"/>
          <p:cNvSpPr/>
          <p:nvPr/>
        </p:nvSpPr>
        <p:spPr>
          <a:xfrm>
            <a:off x="1660680" y="2417760"/>
            <a:ext cx="2466720" cy="38592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554" h="243">
                <a:moveTo>
                  <a:pt x="0" y="243"/>
                </a:moveTo>
                <a:lnTo>
                  <a:pt x="629" y="0"/>
                </a:lnTo>
                <a:lnTo>
                  <a:pt x="1554" y="21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2744640" y="205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6"/>
          <p:cNvSpPr/>
          <p:nvPr/>
        </p:nvSpPr>
        <p:spPr>
          <a:xfrm rot="375600">
            <a:off x="3822480" y="2666880"/>
            <a:ext cx="77760" cy="763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7"/>
          <p:cNvSpPr/>
          <p:nvPr/>
        </p:nvSpPr>
        <p:spPr>
          <a:xfrm>
            <a:off x="839520" y="2819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8"/>
          <p:cNvSpPr/>
          <p:nvPr/>
        </p:nvSpPr>
        <p:spPr>
          <a:xfrm>
            <a:off x="312552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9"/>
          <p:cNvSpPr/>
          <p:nvPr/>
        </p:nvSpPr>
        <p:spPr>
          <a:xfrm>
            <a:off x="609480" y="3049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стороны ромба, диагонали которого равны 15см и 20см, касаются сферы радиуса 10см. Найдите расстояние о плоскости сферы до плоскости ромб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0"/>
          <p:cNvSpPr/>
          <p:nvPr/>
        </p:nvSpPr>
        <p:spPr>
          <a:xfrm rot="375600">
            <a:off x="1828440" y="2717640"/>
            <a:ext cx="77760" cy="763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1"/>
          <p:cNvSpPr/>
          <p:nvPr/>
        </p:nvSpPr>
        <p:spPr>
          <a:xfrm>
            <a:off x="3811320" y="2286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2"/>
          <p:cNvSpPr/>
          <p:nvPr/>
        </p:nvSpPr>
        <p:spPr>
          <a:xfrm>
            <a:off x="160164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3"/>
          <p:cNvSpPr/>
          <p:nvPr/>
        </p:nvSpPr>
        <p:spPr>
          <a:xfrm rot="375600">
            <a:off x="6629040" y="474984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4"/>
          <p:cNvSpPr/>
          <p:nvPr/>
        </p:nvSpPr>
        <p:spPr>
          <a:xfrm>
            <a:off x="823104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5"/>
          <p:cNvSpPr/>
          <p:nvPr/>
        </p:nvSpPr>
        <p:spPr>
          <a:xfrm>
            <a:off x="1521000" y="2355840"/>
            <a:ext cx="2838240" cy="1023840"/>
          </a:xfrm>
          <a:custGeom>
            <a:avLst/>
            <a:gdLst>
              <a:gd name="textAreaLeft" fmla="*/ 0 w 2838240"/>
              <a:gd name="textAreaRight" fmla="*/ 2838600 w 2838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788" h="645">
                <a:moveTo>
                  <a:pt x="36" y="346"/>
                </a:moveTo>
                <a:cubicBezTo>
                  <a:pt x="73" y="311"/>
                  <a:pt x="141" y="247"/>
                  <a:pt x="226" y="198"/>
                </a:cubicBezTo>
                <a:cubicBezTo>
                  <a:pt x="311" y="149"/>
                  <a:pt x="425" y="82"/>
                  <a:pt x="548" y="50"/>
                </a:cubicBezTo>
                <a:cubicBezTo>
                  <a:pt x="671" y="18"/>
                  <a:pt x="837" y="0"/>
                  <a:pt x="962" y="4"/>
                </a:cubicBezTo>
                <a:cubicBezTo>
                  <a:pt x="1087" y="8"/>
                  <a:pt x="1201" y="45"/>
                  <a:pt x="1296" y="74"/>
                </a:cubicBezTo>
                <a:cubicBezTo>
                  <a:pt x="1391" y="103"/>
                  <a:pt x="1455" y="133"/>
                  <a:pt x="1530" y="180"/>
                </a:cubicBezTo>
                <a:cubicBezTo>
                  <a:pt x="1605" y="227"/>
                  <a:pt x="1709" y="308"/>
                  <a:pt x="1748" y="354"/>
                </a:cubicBezTo>
                <a:cubicBezTo>
                  <a:pt x="1787" y="400"/>
                  <a:pt x="1788" y="423"/>
                  <a:pt x="1762" y="456"/>
                </a:cubicBezTo>
                <a:cubicBezTo>
                  <a:pt x="1736" y="489"/>
                  <a:pt x="1677" y="524"/>
                  <a:pt x="1592" y="550"/>
                </a:cubicBezTo>
                <a:cubicBezTo>
                  <a:pt x="1507" y="576"/>
                  <a:pt x="1367" y="596"/>
                  <a:pt x="1250" y="612"/>
                </a:cubicBezTo>
                <a:cubicBezTo>
                  <a:pt x="1133" y="628"/>
                  <a:pt x="1006" y="643"/>
                  <a:pt x="890" y="644"/>
                </a:cubicBezTo>
                <a:cubicBezTo>
                  <a:pt x="774" y="645"/>
                  <a:pt x="666" y="636"/>
                  <a:pt x="554" y="620"/>
                </a:cubicBezTo>
                <a:cubicBezTo>
                  <a:pt x="442" y="604"/>
                  <a:pt x="304" y="573"/>
                  <a:pt x="218" y="548"/>
                </a:cubicBezTo>
                <a:cubicBezTo>
                  <a:pt x="132" y="523"/>
                  <a:pt x="72" y="491"/>
                  <a:pt x="36" y="468"/>
                </a:cubicBezTo>
                <a:cubicBezTo>
                  <a:pt x="0" y="445"/>
                  <a:pt x="4" y="432"/>
                  <a:pt x="4" y="412"/>
                </a:cubicBezTo>
                <a:cubicBezTo>
                  <a:pt x="4" y="392"/>
                  <a:pt x="29" y="360"/>
                  <a:pt x="36" y="346"/>
                </a:cubicBezTo>
                <a:close/>
              </a:path>
            </a:pathLst>
          </a:custGeom>
          <a:solidFill>
            <a:srgbClr val="ff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46"/>
          <p:cNvSpPr/>
          <p:nvPr/>
        </p:nvSpPr>
        <p:spPr>
          <a:xfrm>
            <a:off x="1523880" y="294156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7"/>
          <p:cNvGrpSpPr/>
          <p:nvPr/>
        </p:nvGrpSpPr>
        <p:grpSpPr>
          <a:xfrm>
            <a:off x="1754280" y="3019320"/>
            <a:ext cx="2879280" cy="655920"/>
            <a:chOff x="1754280" y="3019320"/>
            <a:chExt cx="2879280" cy="655920"/>
          </a:xfrm>
        </p:grpSpPr>
        <p:grpSp>
          <p:nvGrpSpPr>
            <p:cNvPr id="451" name="Group 48"/>
            <p:cNvGrpSpPr/>
            <p:nvPr/>
          </p:nvGrpSpPr>
          <p:grpSpPr>
            <a:xfrm>
              <a:off x="4237560" y="3019320"/>
              <a:ext cx="396000" cy="398880"/>
              <a:chOff x="4237560" y="3019320"/>
              <a:chExt cx="396000" cy="398880"/>
            </a:xfrm>
          </p:grpSpPr>
          <p:sp>
            <p:nvSpPr>
              <p:cNvPr id="452" name="Text Box 49"/>
              <p:cNvSpPr/>
              <p:nvPr/>
            </p:nvSpPr>
            <p:spPr>
              <a:xfrm>
                <a:off x="4268520" y="3019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50"/>
              <p:cNvSpPr/>
              <p:nvPr/>
            </p:nvSpPr>
            <p:spPr>
              <a:xfrm rot="375600">
                <a:off x="4241160" y="3085920"/>
                <a:ext cx="78120" cy="7632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1"/>
            <p:cNvGrpSpPr/>
            <p:nvPr/>
          </p:nvGrpSpPr>
          <p:grpSpPr>
            <a:xfrm>
              <a:off x="1754280" y="3247200"/>
              <a:ext cx="349920" cy="428040"/>
              <a:chOff x="1754280" y="3247200"/>
              <a:chExt cx="349920" cy="428040"/>
            </a:xfrm>
          </p:grpSpPr>
          <p:sp>
            <p:nvSpPr>
              <p:cNvPr id="455" name="Oval 52"/>
              <p:cNvSpPr/>
              <p:nvPr/>
            </p:nvSpPr>
            <p:spPr>
              <a:xfrm rot="375600">
                <a:off x="1968120" y="3251160"/>
                <a:ext cx="77760" cy="7596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53"/>
              <p:cNvSpPr/>
              <p:nvPr/>
            </p:nvSpPr>
            <p:spPr>
              <a:xfrm>
                <a:off x="1754280" y="32763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6"/>
          <p:cNvSpPr/>
          <p:nvPr/>
        </p:nvSpPr>
        <p:spPr>
          <a:xfrm>
            <a:off x="735120" y="1765440"/>
            <a:ext cx="2666880" cy="34290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680" h="2160">
                <a:moveTo>
                  <a:pt x="576" y="240"/>
                </a:moveTo>
                <a:lnTo>
                  <a:pt x="0" y="2160"/>
                </a:lnTo>
                <a:lnTo>
                  <a:pt x="1104" y="2016"/>
                </a:lnTo>
                <a:lnTo>
                  <a:pt x="1680" y="0"/>
                </a:lnTo>
                <a:lnTo>
                  <a:pt x="576" y="240"/>
                </a:lnTo>
                <a:close/>
              </a:path>
            </a:pathLst>
          </a:custGeom>
          <a:solidFill>
            <a:srgbClr val="0066ff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5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11"/>
          <p:cNvSpPr/>
          <p:nvPr/>
        </p:nvSpPr>
        <p:spPr>
          <a:xfrm>
            <a:off x="2576520" y="2751120"/>
            <a:ext cx="1440" cy="19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rc 12"/>
          <p:cNvSpPr/>
          <p:nvPr/>
        </p:nvSpPr>
        <p:spPr>
          <a:xfrm flipV="1">
            <a:off x="1498680" y="3326760"/>
            <a:ext cx="2157480" cy="409320"/>
          </a:xfrm>
          <a:custGeom>
            <a:avLst/>
            <a:gdLst>
              <a:gd name="textAreaLeft" fmla="*/ 0 w 2157480"/>
              <a:gd name="textAreaRight" fmla="*/ 2157840 w 2157480"/>
              <a:gd name="textAreaTop" fmla="*/ -360 h 409320"/>
              <a:gd name="textAreaBottom" fmla="*/ 409320 h 40932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13"/>
          <p:cNvSpPr/>
          <p:nvPr/>
        </p:nvSpPr>
        <p:spPr>
          <a:xfrm>
            <a:off x="1509840" y="3672000"/>
            <a:ext cx="2144520" cy="40932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4"/>
          <p:cNvSpPr/>
          <p:nvPr/>
        </p:nvSpPr>
        <p:spPr>
          <a:xfrm>
            <a:off x="1496880" y="2679840"/>
            <a:ext cx="2160720" cy="2103120"/>
          </a:xfrm>
          <a:prstGeom prst="ellipse">
            <a:avLst/>
          </a:prstGeom>
          <a:solidFill>
            <a:srgbClr val="ffff00">
              <a:alpha val="74000"/>
            </a:srgbClr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5"/>
          <p:cNvSpPr/>
          <p:nvPr/>
        </p:nvSpPr>
        <p:spPr>
          <a:xfrm rot="375600">
            <a:off x="2543040" y="2700360"/>
            <a:ext cx="73080" cy="73080"/>
          </a:xfrm>
          <a:prstGeom prst="ellipse">
            <a:avLst/>
          </a:prstGeom>
          <a:solidFill>
            <a:srgbClr val="ffff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7"/>
          <p:cNvSpPr/>
          <p:nvPr/>
        </p:nvSpPr>
        <p:spPr>
          <a:xfrm>
            <a:off x="692280" y="2127240"/>
            <a:ext cx="2036520" cy="4121280"/>
          </a:xfrm>
          <a:custGeom>
            <a:avLst/>
            <a:gdLst>
              <a:gd name="textAreaLeft" fmla="*/ 0 w 2036520"/>
              <a:gd name="textAreaRight" fmla="*/ 2036880 w 2036520"/>
              <a:gd name="textAreaTop" fmla="*/ 0 h 4121280"/>
              <a:gd name="textAreaBottom" fmla="*/ 4121640 h 4121280"/>
            </a:gdLst>
            <a:ahLst/>
            <a:rect l="textAreaLeft" t="textAreaTop" r="textAreaRight" b="textAreaBottom"/>
            <a:pathLst>
              <a:path w="1283" h="2596">
                <a:moveTo>
                  <a:pt x="1283" y="604"/>
                </a:moveTo>
                <a:lnTo>
                  <a:pt x="651" y="2596"/>
                </a:lnTo>
                <a:lnTo>
                  <a:pt x="0" y="2005"/>
                </a:lnTo>
                <a:lnTo>
                  <a:pt x="613" y="0"/>
                </a:lnTo>
                <a:lnTo>
                  <a:pt x="1267" y="596"/>
                </a:lnTo>
                <a:lnTo>
                  <a:pt x="1283" y="604"/>
                </a:lnTo>
                <a:close/>
              </a:path>
            </a:pathLst>
          </a:custGeom>
          <a:solidFill>
            <a:srgbClr val="0066ff">
              <a:alpha val="2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rc 19"/>
          <p:cNvSpPr/>
          <p:nvPr/>
        </p:nvSpPr>
        <p:spPr>
          <a:xfrm flipV="1">
            <a:off x="5183280" y="3314160"/>
            <a:ext cx="2157480" cy="409320"/>
          </a:xfrm>
          <a:custGeom>
            <a:avLst/>
            <a:gdLst>
              <a:gd name="textAreaLeft" fmla="*/ 0 w 2157480"/>
              <a:gd name="textAreaRight" fmla="*/ 2157840 w 2157480"/>
              <a:gd name="textAreaTop" fmla="*/ -360 h 409320"/>
              <a:gd name="textAreaBottom" fmla="*/ 409320 h 40932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rc 20"/>
          <p:cNvSpPr/>
          <p:nvPr/>
        </p:nvSpPr>
        <p:spPr>
          <a:xfrm>
            <a:off x="5194440" y="3659040"/>
            <a:ext cx="2144520" cy="40968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1"/>
          <p:cNvSpPr/>
          <p:nvPr/>
        </p:nvSpPr>
        <p:spPr>
          <a:xfrm>
            <a:off x="5181480" y="2666880"/>
            <a:ext cx="2160720" cy="2103480"/>
          </a:xfrm>
          <a:prstGeom prst="ellipse">
            <a:avLst/>
          </a:prstGeom>
          <a:solidFill>
            <a:srgbClr val="ffff00">
              <a:alpha val="41000"/>
            </a:srgbClr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3"/>
          <p:cNvSpPr/>
          <p:nvPr/>
        </p:nvSpPr>
        <p:spPr>
          <a:xfrm>
            <a:off x="3873600" y="2281320"/>
            <a:ext cx="2377800" cy="1719360"/>
          </a:xfrm>
          <a:custGeom>
            <a:avLst/>
            <a:gdLst>
              <a:gd name="textAreaLeft" fmla="*/ 0 w 2377800"/>
              <a:gd name="textAreaRight" fmla="*/ 2378160 w 237780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1498" h="1083">
                <a:moveTo>
                  <a:pt x="1498" y="194"/>
                </a:moveTo>
                <a:lnTo>
                  <a:pt x="0" y="1083"/>
                </a:lnTo>
                <a:lnTo>
                  <a:pt x="88" y="827"/>
                </a:lnTo>
                <a:lnTo>
                  <a:pt x="1489" y="0"/>
                </a:lnTo>
                <a:lnTo>
                  <a:pt x="1498" y="194"/>
                </a:lnTo>
                <a:close/>
              </a:path>
            </a:pathLst>
          </a:custGeom>
          <a:solidFill>
            <a:srgbClr val="0066ff">
              <a:alpha val="46000"/>
            </a:srgbClr>
          </a:solidFill>
          <a:ln w="9360">
            <a:solidFill>
              <a:srgbClr val="0066ff">
                <a:alpha val="8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6237360" y="2289240"/>
            <a:ext cx="2475000" cy="1571400"/>
          </a:xfrm>
          <a:custGeom>
            <a:avLst/>
            <a:gdLst>
              <a:gd name="textAreaLeft" fmla="*/ 0 w 2475000"/>
              <a:gd name="textAreaRight" fmla="*/ 2475360 w 247500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1559" h="990">
                <a:moveTo>
                  <a:pt x="9" y="186"/>
                </a:moveTo>
                <a:lnTo>
                  <a:pt x="1559" y="990"/>
                </a:lnTo>
                <a:lnTo>
                  <a:pt x="1391" y="702"/>
                </a:lnTo>
                <a:lnTo>
                  <a:pt x="0" y="0"/>
                </a:lnTo>
                <a:lnTo>
                  <a:pt x="9" y="186"/>
                </a:lnTo>
                <a:close/>
              </a:path>
            </a:pathLst>
          </a:custGeom>
          <a:solidFill>
            <a:srgbClr val="0066ff">
              <a:alpha val="46000"/>
            </a:srgbClr>
          </a:solidFill>
          <a:ln w="9360">
            <a:solidFill>
              <a:srgbClr val="0066ff">
                <a:alpha val="8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4"/>
          <p:cNvSpPr/>
          <p:nvPr/>
        </p:nvSpPr>
        <p:spPr>
          <a:xfrm>
            <a:off x="609480" y="304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91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фера касается граней двугранного угла в 12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айдите радиус сферы и расстояние между точками касания, если расстояние от центра сферы до ребра двугранного угла равн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5"/>
          <p:cNvSpPr/>
          <p:nvPr/>
        </p:nvSpPr>
        <p:spPr>
          <a:xfrm>
            <a:off x="146196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8"/>
          <p:cNvGrpSpPr/>
          <p:nvPr/>
        </p:nvGrpSpPr>
        <p:grpSpPr>
          <a:xfrm>
            <a:off x="5524560" y="2396880"/>
            <a:ext cx="1485720" cy="1375200"/>
            <a:chOff x="5524560" y="2396880"/>
            <a:chExt cx="1485720" cy="1375200"/>
          </a:xfrm>
        </p:grpSpPr>
        <p:sp>
          <p:nvSpPr>
            <p:cNvPr id="481" name="Freeform 28"/>
            <p:cNvSpPr/>
            <p:nvPr/>
          </p:nvSpPr>
          <p:spPr>
            <a:xfrm>
              <a:off x="6261120" y="2971800"/>
              <a:ext cx="673200" cy="774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24" h="488">
                  <a:moveTo>
                    <a:pt x="0" y="488"/>
                  </a:moveTo>
                  <a:lnTo>
                    <a:pt x="4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9"/>
            <p:cNvSpPr/>
            <p:nvPr/>
          </p:nvSpPr>
          <p:spPr>
            <a:xfrm flipH="1">
              <a:off x="5575320" y="2959200"/>
              <a:ext cx="673200" cy="774720"/>
            </a:xfrm>
            <a:custGeom>
              <a:avLst/>
              <a:gdLst>
                <a:gd name="textAreaLeft" fmla="*/ 360 w 673200"/>
                <a:gd name="textAreaRight" fmla="*/ 673920 w 6732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24" h="488">
                  <a:moveTo>
                    <a:pt x="0" y="488"/>
                  </a:moveTo>
                  <a:lnTo>
                    <a:pt x="4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2"/>
            <p:cNvSpPr/>
            <p:nvPr/>
          </p:nvSpPr>
          <p:spPr>
            <a:xfrm>
              <a:off x="6261120" y="2438280"/>
              <a:ext cx="711360" cy="47016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448" h="296">
                  <a:moveTo>
                    <a:pt x="0" y="0"/>
                  </a:moveTo>
                  <a:lnTo>
                    <a:pt x="448" y="2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30"/>
            <p:cNvSpPr/>
            <p:nvPr/>
          </p:nvSpPr>
          <p:spPr>
            <a:xfrm>
              <a:off x="6934320" y="28954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3"/>
            <p:cNvSpPr/>
            <p:nvPr/>
          </p:nvSpPr>
          <p:spPr>
            <a:xfrm>
              <a:off x="5562720" y="2425680"/>
              <a:ext cx="698400" cy="4698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0" h="296">
                  <a:moveTo>
                    <a:pt x="440" y="0"/>
                  </a:moveTo>
                  <a:lnTo>
                    <a:pt x="0" y="2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31"/>
            <p:cNvSpPr/>
            <p:nvPr/>
          </p:nvSpPr>
          <p:spPr>
            <a:xfrm>
              <a:off x="5524560" y="2895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2"/>
            <p:cNvSpPr/>
            <p:nvPr/>
          </p:nvSpPr>
          <p:spPr>
            <a:xfrm rot="375600">
              <a:off x="6210360" y="2400480"/>
              <a:ext cx="730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36"/>
            <p:cNvSpPr/>
            <p:nvPr/>
          </p:nvSpPr>
          <p:spPr>
            <a:xfrm>
              <a:off x="6174000" y="289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"/>
            <p:cNvSpPr/>
            <p:nvPr/>
          </p:nvSpPr>
          <p:spPr>
            <a:xfrm>
              <a:off x="6248520" y="2438280"/>
              <a:ext cx="25200" cy="130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16" h="824">
                  <a:moveTo>
                    <a:pt x="16" y="8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27"/>
            <p:cNvSpPr/>
            <p:nvPr/>
          </p:nvSpPr>
          <p:spPr>
            <a:xfrm>
              <a:off x="6222960" y="36957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2"/>
          <p:cNvGrpSpPr/>
          <p:nvPr/>
        </p:nvGrpSpPr>
        <p:grpSpPr>
          <a:xfrm>
            <a:off x="304920" y="2254320"/>
            <a:ext cx="4487400" cy="4603320"/>
            <a:chOff x="304920" y="2254320"/>
            <a:chExt cx="4487400" cy="4603320"/>
          </a:xfrm>
        </p:grpSpPr>
        <p:sp>
          <p:nvSpPr>
            <p:cNvPr id="492" name="Oval 13"/>
            <p:cNvSpPr/>
            <p:nvPr/>
          </p:nvSpPr>
          <p:spPr>
            <a:xfrm>
              <a:off x="304920" y="2254320"/>
              <a:ext cx="4487400" cy="4603320"/>
            </a:xfrm>
            <a:prstGeom prst="ellipse">
              <a:avLst/>
            </a:prstGeom>
            <a:noFill/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14"/>
            <p:cNvGrpSpPr/>
            <p:nvPr/>
          </p:nvGrpSpPr>
          <p:grpSpPr>
            <a:xfrm>
              <a:off x="308520" y="3947760"/>
              <a:ext cx="4479840" cy="1159920"/>
              <a:chOff x="308520" y="3947760"/>
              <a:chExt cx="4479840" cy="1159920"/>
            </a:xfrm>
          </p:grpSpPr>
          <p:sp>
            <p:nvSpPr>
              <p:cNvPr id="494" name="Arc 15"/>
              <p:cNvSpPr/>
              <p:nvPr/>
            </p:nvSpPr>
            <p:spPr>
              <a:xfrm flipV="1">
                <a:off x="308520" y="3947760"/>
                <a:ext cx="4479840" cy="630000"/>
              </a:xfrm>
              <a:custGeom>
                <a:avLst/>
                <a:gdLst>
                  <a:gd name="textAreaLeft" fmla="*/ 0 w 4479840"/>
                  <a:gd name="textAreaRight" fmla="*/ 4480200 w 4479840"/>
                  <a:gd name="textAreaTop" fmla="*/ 360 h 630000"/>
                  <a:gd name="textAreaBottom" fmla="*/ 630720 h 630000"/>
                </a:gdLst>
                <a:ahLst/>
                <a:rect l="textAreaLeft" t="textAreaTop" r="textAreaRight" b="textAreaBottom"/>
                <a:pathLst>
                  <a:path fill="none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</a:path>
                  <a:path stroke="0" w="43121" h="21600">
                    <a:moveTo>
                      <a:pt x="43120" y="1599"/>
                    </a:moveTo>
                    <a:cubicBezTo>
                      <a:pt x="42282" y="12877"/>
                      <a:pt x="32888" y="21599"/>
                      <a:pt x="21580" y="21600"/>
                    </a:cubicBezTo>
                    <a:cubicBezTo>
                      <a:pt x="10010" y="21600"/>
                      <a:pt x="494" y="12483"/>
                      <a:pt x="-1" y="924"/>
                    </a:cubicBezTo>
                    <a:lnTo>
                      <a:pt x="21580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rc 16"/>
              <p:cNvSpPr/>
              <p:nvPr/>
            </p:nvSpPr>
            <p:spPr>
              <a:xfrm>
                <a:off x="330480" y="4477680"/>
                <a:ext cx="4454280" cy="630000"/>
              </a:xfrm>
              <a:custGeom>
                <a:avLst/>
                <a:gdLst>
                  <a:gd name="textAreaLeft" fmla="*/ 0 w 4454280"/>
                  <a:gd name="textAreaRight" fmla="*/ 4454640 w 4454280"/>
                  <a:gd name="textAreaTop" fmla="*/ 0 h 630000"/>
                  <a:gd name="textAreaBottom" fmla="*/ 630360 h 630000"/>
                </a:gdLst>
                <a:ahLst/>
                <a:rect l="textAreaLeft" t="textAreaTop" r="textAreaRight" b="textAreaBottom"/>
                <a:pathLst>
                  <a:path fill="none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</a:path>
                  <a:path stroke="0" w="42859" h="21600">
                    <a:moveTo>
                      <a:pt x="-22677" y="2301"/>
                    </a:moveTo>
                    <a:cubicBezTo>
                      <a:pt x="-23853" y="13276"/>
                      <a:pt x="32420" y="21599"/>
                      <a:pt x="21382" y="21600"/>
                    </a:cubicBezTo>
                    <a:cubicBezTo>
                      <a:pt x="10635" y="21600"/>
                      <a:pt x="1523" y="13699"/>
                      <a:pt x="0" y="3061"/>
                    </a:cubicBezTo>
                    <a:lnTo>
                      <a:pt x="21382" y="0"/>
                    </a:lnTo>
                    <a:close/>
                  </a:path>
                </a:pathLst>
              </a:custGeom>
              <a:noFill/>
              <a:ln w="1908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Oval 17"/>
            <p:cNvSpPr/>
            <p:nvPr/>
          </p:nvSpPr>
          <p:spPr>
            <a:xfrm rot="375600">
              <a:off x="2467440" y="4394520"/>
              <a:ext cx="151920" cy="159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8"/>
            <p:cNvSpPr/>
            <p:nvPr/>
          </p:nvSpPr>
          <p:spPr>
            <a:xfrm>
              <a:off x="304920" y="2254320"/>
              <a:ext cx="4487400" cy="460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3137"/>
                  </a:srgbClr>
                </a:gs>
                <a:gs pos="100000">
                  <a:srgbClr val="bbe0e3">
                    <a:alpha val="2235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47"/>
          <p:cNvGrpSpPr/>
          <p:nvPr/>
        </p:nvGrpSpPr>
        <p:grpSpPr>
          <a:xfrm>
            <a:off x="2590920" y="2044800"/>
            <a:ext cx="1866960" cy="2374920"/>
            <a:chOff x="2590920" y="2044800"/>
            <a:chExt cx="1866960" cy="2374920"/>
          </a:xfrm>
        </p:grpSpPr>
        <p:sp>
          <p:nvSpPr>
            <p:cNvPr id="499" name="Freeform 45"/>
            <p:cNvSpPr/>
            <p:nvPr/>
          </p:nvSpPr>
          <p:spPr>
            <a:xfrm>
              <a:off x="3911760" y="2044800"/>
              <a:ext cx="546120" cy="685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44" h="432">
                  <a:moveTo>
                    <a:pt x="344" y="0"/>
                  </a:moveTo>
                  <a:lnTo>
                    <a:pt x="0" y="4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6"/>
            <p:cNvSpPr/>
            <p:nvPr/>
          </p:nvSpPr>
          <p:spPr>
            <a:xfrm>
              <a:off x="2590920" y="2730600"/>
              <a:ext cx="1307880" cy="16891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824" h="1064">
                  <a:moveTo>
                    <a:pt x="824" y="0"/>
                  </a:moveTo>
                  <a:lnTo>
                    <a:pt x="0" y="10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37"/>
          <p:cNvGrpSpPr/>
          <p:nvPr/>
        </p:nvGrpSpPr>
        <p:grpSpPr>
          <a:xfrm>
            <a:off x="1600200" y="2314440"/>
            <a:ext cx="1292040" cy="2201760"/>
            <a:chOff x="1600200" y="2314440"/>
            <a:chExt cx="1292040" cy="2201760"/>
          </a:xfrm>
        </p:grpSpPr>
        <p:sp>
          <p:nvSpPr>
            <p:cNvPr id="502" name="Freeform 34"/>
            <p:cNvSpPr/>
            <p:nvPr/>
          </p:nvSpPr>
          <p:spPr>
            <a:xfrm>
              <a:off x="2541960" y="2314440"/>
              <a:ext cx="3240" cy="2201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201760"/>
                <a:gd name="textAreaBottom" fmla="*/ 2202120 h 2201760"/>
              </a:gdLst>
              <a:ahLst/>
              <a:rect l="textAreaLeft" t="textAreaTop" r="textAreaRight" b="textAreaBottom"/>
              <a:pathLst>
                <a:path w="1" h="736">
                  <a:moveTo>
                    <a:pt x="0" y="73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35"/>
            <p:cNvSpPr/>
            <p:nvPr/>
          </p:nvSpPr>
          <p:spPr>
            <a:xfrm>
              <a:off x="1600200" y="3089160"/>
              <a:ext cx="1292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2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505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Freeform 2"/>
          <p:cNvSpPr/>
          <p:nvPr/>
        </p:nvSpPr>
        <p:spPr>
          <a:xfrm>
            <a:off x="304920" y="1905120"/>
            <a:ext cx="5410080" cy="52524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2744" h="402">
                <a:moveTo>
                  <a:pt x="387" y="0"/>
                </a:moveTo>
                <a:lnTo>
                  <a:pt x="2744" y="15"/>
                </a:lnTo>
                <a:lnTo>
                  <a:pt x="2300" y="402"/>
                </a:lnTo>
                <a:lnTo>
                  <a:pt x="0" y="402"/>
                </a:lnTo>
                <a:lnTo>
                  <a:pt x="387" y="0"/>
                </a:lnTo>
                <a:close/>
              </a:path>
            </a:pathLst>
          </a:custGeom>
          <a:solidFill>
            <a:srgbClr val="ff0066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2"/>
          <p:cNvSpPr/>
          <p:nvPr/>
        </p:nvSpPr>
        <p:spPr>
          <a:xfrm>
            <a:off x="60948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92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ус сферы равен 112 см. Точка, лежащая на плоскости, касательной к сфере, удалена от точки касания на 15 см. Найдите расстояние от этой точки до ближайшей к ней точки сферы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6"/>
          <p:cNvSpPr/>
          <p:nvPr/>
        </p:nvSpPr>
        <p:spPr>
          <a:xfrm>
            <a:off x="2540160" y="2209680"/>
            <a:ext cx="284040" cy="330480"/>
          </a:xfrm>
          <a:custGeom>
            <a:avLst/>
            <a:gdLst>
              <a:gd name="textAreaLeft" fmla="*/ 0 w 284040"/>
              <a:gd name="textAreaRight" fmla="*/ 284400 w 28404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79" h="208">
                <a:moveTo>
                  <a:pt x="0" y="208"/>
                </a:moveTo>
                <a:lnTo>
                  <a:pt x="179" y="178"/>
                </a:lnTo>
                <a:lnTo>
                  <a:pt x="1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4"/>
          <p:cNvGrpSpPr/>
          <p:nvPr/>
        </p:nvGrpSpPr>
        <p:grpSpPr>
          <a:xfrm>
            <a:off x="2565360" y="1841400"/>
            <a:ext cx="2332800" cy="459720"/>
            <a:chOff x="2565360" y="1841400"/>
            <a:chExt cx="2332800" cy="459720"/>
          </a:xfrm>
        </p:grpSpPr>
        <p:sp>
          <p:nvSpPr>
            <p:cNvPr id="517" name="Rectangle 41"/>
            <p:cNvSpPr/>
            <p:nvPr/>
          </p:nvSpPr>
          <p:spPr>
            <a:xfrm>
              <a:off x="3062520" y="184140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40"/>
            <p:cNvGrpSpPr/>
            <p:nvPr/>
          </p:nvGrpSpPr>
          <p:grpSpPr>
            <a:xfrm>
              <a:off x="4444920" y="1841400"/>
              <a:ext cx="453240" cy="459720"/>
              <a:chOff x="4444920" y="1841400"/>
              <a:chExt cx="453240" cy="459720"/>
            </a:xfrm>
          </p:grpSpPr>
          <p:sp>
            <p:nvSpPr>
              <p:cNvPr id="519" name="Oval 38"/>
              <p:cNvSpPr/>
              <p:nvPr/>
            </p:nvSpPr>
            <p:spPr>
              <a:xfrm>
                <a:off x="4444920" y="199404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39"/>
              <p:cNvSpPr/>
              <p:nvPr/>
            </p:nvSpPr>
            <p:spPr>
              <a:xfrm>
                <a:off x="4497840" y="1841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Freeform 43"/>
            <p:cNvSpPr/>
            <p:nvPr/>
          </p:nvSpPr>
          <p:spPr>
            <a:xfrm>
              <a:off x="2565360" y="2044800"/>
              <a:ext cx="1892520" cy="203040"/>
            </a:xfrm>
            <a:custGeom>
              <a:avLst/>
              <a:gdLst>
                <a:gd name="textAreaLeft" fmla="*/ 0 w 1892520"/>
                <a:gd name="textAreaRight" fmla="*/ 1892880 w 1892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92" h="128">
                  <a:moveTo>
                    <a:pt x="1192" y="0"/>
                  </a:moveTo>
                  <a:lnTo>
                    <a:pt x="0" y="1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7"/>
          <p:cNvSpPr/>
          <p:nvPr/>
        </p:nvSpPr>
        <p:spPr>
          <a:xfrm>
            <a:off x="2161080" y="191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28"/>
          <p:cNvSpPr/>
          <p:nvPr/>
        </p:nvSpPr>
        <p:spPr>
          <a:xfrm rot="375600">
            <a:off x="2501640" y="2222640"/>
            <a:ext cx="777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8"/>
          <p:cNvSpPr/>
          <p:nvPr/>
        </p:nvSpPr>
        <p:spPr>
          <a:xfrm>
            <a:off x="1906920" y="30862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1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9"/>
          <p:cNvSpPr/>
          <p:nvPr/>
        </p:nvSpPr>
        <p:spPr>
          <a:xfrm>
            <a:off x="2559240" y="425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1"/>
          <p:cNvGrpSpPr/>
          <p:nvPr/>
        </p:nvGrpSpPr>
        <p:grpSpPr>
          <a:xfrm>
            <a:off x="3873600" y="2540160"/>
            <a:ext cx="478440" cy="459720"/>
            <a:chOff x="3873600" y="2540160"/>
            <a:chExt cx="478440" cy="459720"/>
          </a:xfrm>
        </p:grpSpPr>
        <p:sp>
          <p:nvSpPr>
            <p:cNvPr id="527" name="Oval 49"/>
            <p:cNvSpPr/>
            <p:nvPr/>
          </p:nvSpPr>
          <p:spPr>
            <a:xfrm>
              <a:off x="3873600" y="269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0"/>
            <p:cNvSpPr/>
            <p:nvPr/>
          </p:nvSpPr>
          <p:spPr>
            <a:xfrm>
              <a:off x="3951720" y="2540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52"/>
          <p:cNvSpPr/>
          <p:nvPr/>
        </p:nvSpPr>
        <p:spPr>
          <a:xfrm>
            <a:off x="5259960" y="2438280"/>
            <a:ext cx="352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комое расстояни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3"/>
              <p:cNvSpPr txBox="1"/>
              <p:nvPr/>
            </p:nvSpPr>
            <p:spPr>
              <a:xfrm>
                <a:off x="5029200" y="3048120"/>
                <a:ext cx="36576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⊥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54"/>
              <p:cNvSpPr txBox="1"/>
              <p:nvPr/>
            </p:nvSpPr>
            <p:spPr>
              <a:xfrm>
                <a:off x="609480" y="2133720"/>
                <a:ext cx="373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55"/>
              <p:cNvSpPr txBox="1"/>
              <p:nvPr/>
            </p:nvSpPr>
            <p:spPr>
              <a:xfrm>
                <a:off x="6083280" y="3530520"/>
                <a:ext cx="1643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0.07969 0.00231 L 0.14219 0.05602 E">
                                      <p:cBhvr>
                                        <p:cTn id="357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838080" y="609480"/>
            <a:ext cx="75438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пект (ЗНАЕМ ВСЕ!!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фер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: центра сферы, радиуса сферы, диаметра сфер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ша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: центра сферы, радиуса сферы, диаметра ша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еорема об уравнении сфер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расположение сферы и плоскости (условия без доказательств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Определение касательной плоскости к сфере, опр точки касания плоскости и сферы п.6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Свойство касательной плоскости к сфере (доказательство - назначенные) п.6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того, что плоскость является касательной к сфере (доказательство - назначенные) п.6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роб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сательная плоскост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сфер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м уст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300600" y="762120"/>
            <a:ext cx="31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войство касатель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06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1"/>
          <p:cNvSpPr/>
          <p:nvPr/>
        </p:nvSpPr>
        <p:spPr>
          <a:xfrm>
            <a:off x="457200" y="480060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Arial"/>
              </a:rPr>
              <a:t>Касательная к окружности перпендикулярна к радиусу, проведенному в точку каса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5"/>
              <p:cNvSpPr txBox="1"/>
              <p:nvPr/>
            </p:nvSpPr>
            <p:spPr>
              <a:xfrm>
                <a:off x="457200" y="3733920"/>
                <a:ext cx="3214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 - касательная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⊥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Text Box 27"/>
          <p:cNvSpPr/>
          <p:nvPr/>
        </p:nvSpPr>
        <p:spPr>
          <a:xfrm>
            <a:off x="608040" y="2286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лани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6018120" y="30492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терео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4876920" y="914400"/>
            <a:ext cx="3581280" cy="2792160"/>
            <a:chOff x="4876920" y="914400"/>
            <a:chExt cx="3581280" cy="2792160"/>
          </a:xfrm>
        </p:grpSpPr>
        <p:grpSp>
          <p:nvGrpSpPr>
            <p:cNvPr id="119" name="Group 30"/>
            <p:cNvGrpSpPr/>
            <p:nvPr/>
          </p:nvGrpSpPr>
          <p:grpSpPr>
            <a:xfrm>
              <a:off x="4876920" y="1054080"/>
              <a:ext cx="3581280" cy="2652480"/>
              <a:chOff x="4876920" y="1054080"/>
              <a:chExt cx="3581280" cy="2652480"/>
            </a:xfrm>
          </p:grpSpPr>
          <p:grpSp>
            <p:nvGrpSpPr>
              <p:cNvPr id="120" name="Group 31"/>
              <p:cNvGrpSpPr/>
              <p:nvPr/>
            </p:nvGrpSpPr>
            <p:grpSpPr>
              <a:xfrm>
                <a:off x="5409360" y="1262880"/>
                <a:ext cx="2380320" cy="2443680"/>
                <a:chOff x="5409360" y="1262880"/>
                <a:chExt cx="2380320" cy="2443680"/>
              </a:xfrm>
            </p:grpSpPr>
            <p:sp>
              <p:nvSpPr>
                <p:cNvPr id="121" name="Oval 32"/>
                <p:cNvSpPr/>
                <p:nvPr/>
              </p:nvSpPr>
              <p:spPr>
                <a:xfrm>
                  <a:off x="5409360" y="1262880"/>
                  <a:ext cx="2380320" cy="2443680"/>
                </a:xfrm>
                <a:prstGeom prst="ellipse">
                  <a:avLst/>
                </a:prstGeom>
                <a:noFill/>
                <a:ln w="1260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33"/>
                <p:cNvGrpSpPr/>
                <p:nvPr/>
              </p:nvGrpSpPr>
              <p:grpSpPr>
                <a:xfrm>
                  <a:off x="5411160" y="2161440"/>
                  <a:ext cx="2376360" cy="615960"/>
                  <a:chOff x="5411160" y="2161440"/>
                  <a:chExt cx="2376360" cy="615960"/>
                </a:xfrm>
              </p:grpSpPr>
              <p:sp>
                <p:nvSpPr>
                  <p:cNvPr id="123" name="Arc 34"/>
                  <p:cNvSpPr/>
                  <p:nvPr/>
                </p:nvSpPr>
                <p:spPr>
                  <a:xfrm flipV="1">
                    <a:off x="5411160" y="2161080"/>
                    <a:ext cx="2376360" cy="334440"/>
                  </a:xfrm>
                  <a:custGeom>
                    <a:avLst/>
                    <a:gdLst>
                      <a:gd name="textAreaLeft" fmla="*/ 0 w 2376360"/>
                      <a:gd name="textAreaRight" fmla="*/ 2376720 w 2376360"/>
                      <a:gd name="textAreaTop" fmla="*/ -360 h 334440"/>
                      <a:gd name="textAreaBottom" fmla="*/ 334440 h 334440"/>
                    </a:gdLst>
                    <a:ahLst/>
                    <a:rect l="textAreaLeft" t="textAreaTop" r="textAreaRight" b="textAreaBottom"/>
                    <a:pathLst>
                      <a:path fill="none" w="43121" h="21600">
                        <a:moveTo>
                          <a:pt x="43120" y="1599"/>
                        </a:moveTo>
                        <a:cubicBezTo>
                          <a:pt x="42282" y="12877"/>
                          <a:pt x="32888" y="21599"/>
                          <a:pt x="21580" y="21600"/>
                        </a:cubicBezTo>
                        <a:cubicBezTo>
                          <a:pt x="10010" y="21600"/>
                          <a:pt x="494" y="12483"/>
                          <a:pt x="-1" y="924"/>
                        </a:cubicBezTo>
                      </a:path>
                      <a:path stroke="0" w="43121" h="21600">
                        <a:moveTo>
                          <a:pt x="43120" y="1599"/>
                        </a:moveTo>
                        <a:cubicBezTo>
                          <a:pt x="42282" y="12877"/>
                          <a:pt x="32888" y="21599"/>
                          <a:pt x="21580" y="21600"/>
                        </a:cubicBezTo>
                        <a:cubicBezTo>
                          <a:pt x="10010" y="21600"/>
                          <a:pt x="494" y="12483"/>
                          <a:pt x="-1" y="924"/>
                        </a:cubicBezTo>
                        <a:lnTo>
                          <a:pt x="2158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1c1c1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rc 35"/>
                  <p:cNvSpPr/>
                  <p:nvPr/>
                </p:nvSpPr>
                <p:spPr>
                  <a:xfrm>
                    <a:off x="5422680" y="2442960"/>
                    <a:ext cx="2362680" cy="334440"/>
                  </a:xfrm>
                  <a:custGeom>
                    <a:avLst/>
                    <a:gdLst>
                      <a:gd name="textAreaLeft" fmla="*/ 0 w 2362680"/>
                      <a:gd name="textAreaRight" fmla="*/ 2363040 w 2362680"/>
                      <a:gd name="textAreaTop" fmla="*/ 0 h 334440"/>
                      <a:gd name="textAreaBottom" fmla="*/ 334800 h 334440"/>
                    </a:gdLst>
                    <a:ahLst/>
                    <a:rect l="textAreaLeft" t="textAreaTop" r="textAreaRight" b="textAreaBottom"/>
                    <a:pathLst>
                      <a:path fill="none" w="42859" h="21600">
                        <a:moveTo>
                          <a:pt x="-22677" y="2301"/>
                        </a:moveTo>
                        <a:cubicBezTo>
                          <a:pt x="-23853" y="13276"/>
                          <a:pt x="32420" y="21599"/>
                          <a:pt x="21382" y="21600"/>
                        </a:cubicBezTo>
                        <a:cubicBezTo>
                          <a:pt x="10635" y="21600"/>
                          <a:pt x="1523" y="13699"/>
                          <a:pt x="0" y="3061"/>
                        </a:cubicBezTo>
                      </a:path>
                      <a:path stroke="0" w="42859" h="21600">
                        <a:moveTo>
                          <a:pt x="-22677" y="2301"/>
                        </a:moveTo>
                        <a:cubicBezTo>
                          <a:pt x="-23853" y="13276"/>
                          <a:pt x="32420" y="21599"/>
                          <a:pt x="21382" y="21600"/>
                        </a:cubicBezTo>
                        <a:cubicBezTo>
                          <a:pt x="10635" y="21600"/>
                          <a:pt x="1523" y="13699"/>
                          <a:pt x="0" y="3061"/>
                        </a:cubicBezTo>
                        <a:lnTo>
                          <a:pt x="21382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Oval 36"/>
                <p:cNvSpPr/>
                <p:nvPr/>
              </p:nvSpPr>
              <p:spPr>
                <a:xfrm rot="375600">
                  <a:off x="6556320" y="2398680"/>
                  <a:ext cx="80640" cy="84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37"/>
                <p:cNvSpPr/>
                <p:nvPr/>
              </p:nvSpPr>
              <p:spPr>
                <a:xfrm>
                  <a:off x="5409360" y="1262880"/>
                  <a:ext cx="2380320" cy="244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6078"/>
                      </a:srgbClr>
                    </a:gs>
                    <a:gs pos="100000">
                      <a:srgbClr val="bbe0e3">
                        <a:alpha val="55294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Freeform 38"/>
              <p:cNvSpPr/>
              <p:nvPr/>
            </p:nvSpPr>
            <p:spPr>
              <a:xfrm>
                <a:off x="4876920" y="1054080"/>
                <a:ext cx="3581280" cy="524880"/>
              </a:xfrm>
              <a:custGeom>
                <a:avLst/>
                <a:gdLst>
                  <a:gd name="textAreaLeft" fmla="*/ 0 w 3581280"/>
                  <a:gd name="textAreaRight" fmla="*/ 3581640 w 358128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2744" h="402">
                    <a:moveTo>
                      <a:pt x="387" y="0"/>
                    </a:moveTo>
                    <a:lnTo>
                      <a:pt x="2744" y="15"/>
                    </a:lnTo>
                    <a:lnTo>
                      <a:pt x="2300" y="402"/>
                    </a:lnTo>
                    <a:lnTo>
                      <a:pt x="0" y="402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0066">
                  <a:alpha val="2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39"/>
            <p:cNvSpPr/>
            <p:nvPr/>
          </p:nvSpPr>
          <p:spPr>
            <a:xfrm>
              <a:off x="6224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 rot="375600">
              <a:off x="6565320" y="1219320"/>
              <a:ext cx="7740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1"/>
            <p:cNvSpPr/>
            <p:nvPr/>
          </p:nvSpPr>
          <p:spPr>
            <a:xfrm>
              <a:off x="6604920" y="2324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2"/>
          <p:cNvSpPr/>
          <p:nvPr/>
        </p:nvSpPr>
        <p:spPr>
          <a:xfrm>
            <a:off x="547560" y="1636560"/>
            <a:ext cx="2516400" cy="3996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032" h="32">
                <a:moveTo>
                  <a:pt x="0" y="32"/>
                </a:moveTo>
                <a:lnTo>
                  <a:pt x="2032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685800" y="1676520"/>
            <a:ext cx="1962000" cy="1903320"/>
            <a:chOff x="685800" y="1676520"/>
            <a:chExt cx="1962000" cy="1903320"/>
          </a:xfrm>
        </p:grpSpPr>
        <p:sp>
          <p:nvSpPr>
            <p:cNvPr id="133" name="Oval 14"/>
            <p:cNvSpPr/>
            <p:nvPr/>
          </p:nvSpPr>
          <p:spPr>
            <a:xfrm>
              <a:off x="685800" y="1676520"/>
              <a:ext cx="1962000" cy="190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1636920" y="2568600"/>
              <a:ext cx="59040" cy="5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1369440" y="2568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502200" y="116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710080" y="1146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1289880" y="1650960"/>
            <a:ext cx="598680" cy="918360"/>
            <a:chOff x="1289880" y="1650960"/>
            <a:chExt cx="598680" cy="918360"/>
          </a:xfrm>
        </p:grpSpPr>
        <p:sp>
          <p:nvSpPr>
            <p:cNvPr id="139" name="Freeform 18"/>
            <p:cNvSpPr/>
            <p:nvPr/>
          </p:nvSpPr>
          <p:spPr>
            <a:xfrm>
              <a:off x="1663200" y="1670400"/>
              <a:ext cx="3960" cy="898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4" h="728">
                  <a:moveTo>
                    <a:pt x="4" y="72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1289880" y="180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9"/>
            <p:cNvSpPr/>
            <p:nvPr/>
          </p:nvSpPr>
          <p:spPr>
            <a:xfrm>
              <a:off x="1654920" y="1650960"/>
              <a:ext cx="233640" cy="2883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2" h="127">
                  <a:moveTo>
                    <a:pt x="0" y="127"/>
                  </a:moveTo>
                  <a:lnTo>
                    <a:pt x="102" y="124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22"/>
          <p:cNvSpPr/>
          <p:nvPr/>
        </p:nvSpPr>
        <p:spPr>
          <a:xfrm>
            <a:off x="1606680" y="1600200"/>
            <a:ext cx="112680" cy="112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4"/>
          <p:cNvGrpSpPr/>
          <p:nvPr/>
        </p:nvGrpSpPr>
        <p:grpSpPr>
          <a:xfrm>
            <a:off x="6248520" y="1257480"/>
            <a:ext cx="365040" cy="1168200"/>
            <a:chOff x="6248520" y="1257480"/>
            <a:chExt cx="365040" cy="1168200"/>
          </a:xfrm>
        </p:grpSpPr>
        <p:sp>
          <p:nvSpPr>
            <p:cNvPr id="144" name="Freeform 44"/>
            <p:cNvSpPr/>
            <p:nvPr/>
          </p:nvSpPr>
          <p:spPr>
            <a:xfrm>
              <a:off x="6603840" y="1257480"/>
              <a:ext cx="1800" cy="1168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1" h="736">
                  <a:moveTo>
                    <a:pt x="0" y="73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5"/>
            <p:cNvSpPr/>
            <p:nvPr/>
          </p:nvSpPr>
          <p:spPr>
            <a:xfrm>
              <a:off x="6248520" y="1523880"/>
              <a:ext cx="36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Object 53"/>
              <p:cNvSpPr txBox="1"/>
              <p:nvPr/>
            </p:nvSpPr>
            <p:spPr>
              <a:xfrm>
                <a:off x="5105520" y="3733920"/>
                <a:ext cx="36576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⊥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Text Box 56"/>
          <p:cNvSpPr/>
          <p:nvPr/>
        </p:nvSpPr>
        <p:spPr>
          <a:xfrm>
            <a:off x="4876920" y="480060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Arial"/>
              </a:rPr>
              <a:t>Радиус сферы, проведенный в точку касания сферы и плоскости, перпендикулярен к касательной плоск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02040" y="76212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изнак касатель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0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608040" y="2286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лани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018120" y="30492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терео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4876920" y="1066680"/>
            <a:ext cx="3581280" cy="2792160"/>
            <a:chOff x="4876920" y="1066680"/>
            <a:chExt cx="3581280" cy="2792160"/>
          </a:xfrm>
        </p:grpSpPr>
        <p:grpSp>
          <p:nvGrpSpPr>
            <p:cNvPr id="161" name="Group 17"/>
            <p:cNvGrpSpPr/>
            <p:nvPr/>
          </p:nvGrpSpPr>
          <p:grpSpPr>
            <a:xfrm>
              <a:off x="4876920" y="1206360"/>
              <a:ext cx="3581280" cy="2652480"/>
              <a:chOff x="4876920" y="1206360"/>
              <a:chExt cx="3581280" cy="2652480"/>
            </a:xfrm>
          </p:grpSpPr>
          <p:grpSp>
            <p:nvGrpSpPr>
              <p:cNvPr id="162" name="Group 18"/>
              <p:cNvGrpSpPr/>
              <p:nvPr/>
            </p:nvGrpSpPr>
            <p:grpSpPr>
              <a:xfrm>
                <a:off x="5409360" y="1415160"/>
                <a:ext cx="2380320" cy="2443680"/>
                <a:chOff x="5409360" y="1415160"/>
                <a:chExt cx="2380320" cy="2443680"/>
              </a:xfrm>
            </p:grpSpPr>
            <p:sp>
              <p:nvSpPr>
                <p:cNvPr id="163" name="Oval 19"/>
                <p:cNvSpPr/>
                <p:nvPr/>
              </p:nvSpPr>
              <p:spPr>
                <a:xfrm>
                  <a:off x="5409360" y="1415160"/>
                  <a:ext cx="2380320" cy="2443680"/>
                </a:xfrm>
                <a:prstGeom prst="ellipse">
                  <a:avLst/>
                </a:prstGeom>
                <a:noFill/>
                <a:ln w="1260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Group 20"/>
                <p:cNvGrpSpPr/>
                <p:nvPr/>
              </p:nvGrpSpPr>
              <p:grpSpPr>
                <a:xfrm>
                  <a:off x="5411160" y="2313720"/>
                  <a:ext cx="2376360" cy="615960"/>
                  <a:chOff x="5411160" y="2313720"/>
                  <a:chExt cx="2376360" cy="615960"/>
                </a:xfrm>
              </p:grpSpPr>
              <p:sp>
                <p:nvSpPr>
                  <p:cNvPr id="165" name="Arc 21"/>
                  <p:cNvSpPr/>
                  <p:nvPr/>
                </p:nvSpPr>
                <p:spPr>
                  <a:xfrm flipV="1">
                    <a:off x="5411160" y="2313360"/>
                    <a:ext cx="2376360" cy="334440"/>
                  </a:xfrm>
                  <a:custGeom>
                    <a:avLst/>
                    <a:gdLst>
                      <a:gd name="textAreaLeft" fmla="*/ 0 w 2376360"/>
                      <a:gd name="textAreaRight" fmla="*/ 2376720 w 2376360"/>
                      <a:gd name="textAreaTop" fmla="*/ -360 h 334440"/>
                      <a:gd name="textAreaBottom" fmla="*/ 334440 h 334440"/>
                    </a:gdLst>
                    <a:ahLst/>
                    <a:rect l="textAreaLeft" t="textAreaTop" r="textAreaRight" b="textAreaBottom"/>
                    <a:pathLst>
                      <a:path fill="none" w="43121" h="21600">
                        <a:moveTo>
                          <a:pt x="43120" y="1599"/>
                        </a:moveTo>
                        <a:cubicBezTo>
                          <a:pt x="42282" y="12877"/>
                          <a:pt x="32888" y="21599"/>
                          <a:pt x="21580" y="21600"/>
                        </a:cubicBezTo>
                        <a:cubicBezTo>
                          <a:pt x="10010" y="21600"/>
                          <a:pt x="494" y="12483"/>
                          <a:pt x="-1" y="924"/>
                        </a:cubicBezTo>
                      </a:path>
                      <a:path stroke="0" w="43121" h="21600">
                        <a:moveTo>
                          <a:pt x="43120" y="1599"/>
                        </a:moveTo>
                        <a:cubicBezTo>
                          <a:pt x="42282" y="12877"/>
                          <a:pt x="32888" y="21599"/>
                          <a:pt x="21580" y="21600"/>
                        </a:cubicBezTo>
                        <a:cubicBezTo>
                          <a:pt x="10010" y="21600"/>
                          <a:pt x="494" y="12483"/>
                          <a:pt x="-1" y="924"/>
                        </a:cubicBezTo>
                        <a:lnTo>
                          <a:pt x="2158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1c1c1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rc 22"/>
                  <p:cNvSpPr/>
                  <p:nvPr/>
                </p:nvSpPr>
                <p:spPr>
                  <a:xfrm>
                    <a:off x="5422680" y="2595240"/>
                    <a:ext cx="2362680" cy="334440"/>
                  </a:xfrm>
                  <a:custGeom>
                    <a:avLst/>
                    <a:gdLst>
                      <a:gd name="textAreaLeft" fmla="*/ 0 w 2362680"/>
                      <a:gd name="textAreaRight" fmla="*/ 2363040 w 2362680"/>
                      <a:gd name="textAreaTop" fmla="*/ 0 h 334440"/>
                      <a:gd name="textAreaBottom" fmla="*/ 334800 h 334440"/>
                    </a:gdLst>
                    <a:ahLst/>
                    <a:rect l="textAreaLeft" t="textAreaTop" r="textAreaRight" b="textAreaBottom"/>
                    <a:pathLst>
                      <a:path fill="none" w="42859" h="21600">
                        <a:moveTo>
                          <a:pt x="-22677" y="2301"/>
                        </a:moveTo>
                        <a:cubicBezTo>
                          <a:pt x="-23853" y="13276"/>
                          <a:pt x="32420" y="21599"/>
                          <a:pt x="21382" y="21600"/>
                        </a:cubicBezTo>
                        <a:cubicBezTo>
                          <a:pt x="10635" y="21600"/>
                          <a:pt x="1523" y="13699"/>
                          <a:pt x="0" y="3061"/>
                        </a:cubicBezTo>
                      </a:path>
                      <a:path stroke="0" w="42859" h="21600">
                        <a:moveTo>
                          <a:pt x="-22677" y="2301"/>
                        </a:moveTo>
                        <a:cubicBezTo>
                          <a:pt x="-23853" y="13276"/>
                          <a:pt x="32420" y="21599"/>
                          <a:pt x="21382" y="21600"/>
                        </a:cubicBezTo>
                        <a:cubicBezTo>
                          <a:pt x="10635" y="21600"/>
                          <a:pt x="1523" y="13699"/>
                          <a:pt x="0" y="3061"/>
                        </a:cubicBezTo>
                        <a:lnTo>
                          <a:pt x="21382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Oval 23"/>
                <p:cNvSpPr/>
                <p:nvPr/>
              </p:nvSpPr>
              <p:spPr>
                <a:xfrm rot="375600">
                  <a:off x="6556320" y="2550960"/>
                  <a:ext cx="80640" cy="84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24"/>
                <p:cNvSpPr/>
                <p:nvPr/>
              </p:nvSpPr>
              <p:spPr>
                <a:xfrm>
                  <a:off x="5409360" y="1415160"/>
                  <a:ext cx="2380320" cy="244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6078"/>
                      </a:srgbClr>
                    </a:gs>
                    <a:gs pos="100000">
                      <a:srgbClr val="bbe0e3">
                        <a:alpha val="55294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4876920" y="1206360"/>
                <a:ext cx="3581280" cy="524880"/>
              </a:xfrm>
              <a:custGeom>
                <a:avLst/>
                <a:gdLst>
                  <a:gd name="textAreaLeft" fmla="*/ 0 w 3581280"/>
                  <a:gd name="textAreaRight" fmla="*/ 3581640 w 358128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2744" h="402">
                    <a:moveTo>
                      <a:pt x="387" y="0"/>
                    </a:moveTo>
                    <a:lnTo>
                      <a:pt x="2744" y="15"/>
                    </a:lnTo>
                    <a:lnTo>
                      <a:pt x="2300" y="402"/>
                    </a:lnTo>
                    <a:lnTo>
                      <a:pt x="0" y="402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0066">
                  <a:alpha val="2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26"/>
            <p:cNvSpPr/>
            <p:nvPr/>
          </p:nvSpPr>
          <p:spPr>
            <a:xfrm>
              <a:off x="622476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 rot="375600">
              <a:off x="6565320" y="1371600"/>
              <a:ext cx="7740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>
              <a:off x="6604920" y="24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0"/>
          <p:cNvGrpSpPr/>
          <p:nvPr/>
        </p:nvGrpSpPr>
        <p:grpSpPr>
          <a:xfrm>
            <a:off x="719280" y="1825560"/>
            <a:ext cx="1962000" cy="1903320"/>
            <a:chOff x="719280" y="1825560"/>
            <a:chExt cx="1962000" cy="1903320"/>
          </a:xfrm>
        </p:grpSpPr>
        <p:sp>
          <p:nvSpPr>
            <p:cNvPr id="174" name="Oval 31"/>
            <p:cNvSpPr/>
            <p:nvPr/>
          </p:nvSpPr>
          <p:spPr>
            <a:xfrm>
              <a:off x="719280" y="1825560"/>
              <a:ext cx="1962000" cy="190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1670400" y="2717640"/>
              <a:ext cx="59040" cy="5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3"/>
            <p:cNvSpPr/>
            <p:nvPr/>
          </p:nvSpPr>
          <p:spPr>
            <a:xfrm>
              <a:off x="1402920" y="2717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37"/>
          <p:cNvSpPr/>
          <p:nvPr/>
        </p:nvSpPr>
        <p:spPr>
          <a:xfrm>
            <a:off x="1697040" y="1819440"/>
            <a:ext cx="3240" cy="900000"/>
          </a:xfrm>
          <a:custGeom>
            <a:avLst/>
            <a:gdLst>
              <a:gd name="textAreaLeft" fmla="*/ 0 w 3240"/>
              <a:gd name="textAreaRight" fmla="*/ 3600 w 324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4" h="728">
                <a:moveTo>
                  <a:pt x="4" y="72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1323720" y="1959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9"/>
          <p:cNvSpPr/>
          <p:nvPr/>
        </p:nvSpPr>
        <p:spPr>
          <a:xfrm>
            <a:off x="1689120" y="1800360"/>
            <a:ext cx="233280" cy="288720"/>
          </a:xfrm>
          <a:custGeom>
            <a:avLst/>
            <a:gdLst>
              <a:gd name="textAreaLeft" fmla="*/ 0 w 233280"/>
              <a:gd name="textAreaRight" fmla="*/ 233640 w 233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02" h="127">
                <a:moveTo>
                  <a:pt x="0" y="127"/>
                </a:moveTo>
                <a:lnTo>
                  <a:pt x="102" y="124"/>
                </a:lnTo>
                <a:lnTo>
                  <a:pt x="9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7"/>
          <p:cNvGrpSpPr/>
          <p:nvPr/>
        </p:nvGrpSpPr>
        <p:grpSpPr>
          <a:xfrm>
            <a:off x="535680" y="1295280"/>
            <a:ext cx="2591280" cy="567000"/>
            <a:chOff x="535680" y="1295280"/>
            <a:chExt cx="2591280" cy="567000"/>
          </a:xfrm>
        </p:grpSpPr>
        <p:sp>
          <p:nvSpPr>
            <p:cNvPr id="181" name="Freeform 29"/>
            <p:cNvSpPr/>
            <p:nvPr/>
          </p:nvSpPr>
          <p:spPr>
            <a:xfrm>
              <a:off x="581040" y="1785960"/>
              <a:ext cx="2516040" cy="3960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32" h="32">
                  <a:moveTo>
                    <a:pt x="0" y="32"/>
                  </a:moveTo>
                  <a:lnTo>
                    <a:pt x="2032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535680" y="131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5"/>
            <p:cNvSpPr/>
            <p:nvPr/>
          </p:nvSpPr>
          <p:spPr>
            <a:xfrm>
              <a:off x="2743560" y="129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0"/>
            <p:cNvSpPr/>
            <p:nvPr/>
          </p:nvSpPr>
          <p:spPr>
            <a:xfrm>
              <a:off x="1639800" y="1749600"/>
              <a:ext cx="112680" cy="112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41"/>
          <p:cNvGrpSpPr/>
          <p:nvPr/>
        </p:nvGrpSpPr>
        <p:grpSpPr>
          <a:xfrm>
            <a:off x="6248520" y="1409760"/>
            <a:ext cx="365040" cy="1168200"/>
            <a:chOff x="6248520" y="1409760"/>
            <a:chExt cx="365040" cy="1168200"/>
          </a:xfrm>
        </p:grpSpPr>
        <p:sp>
          <p:nvSpPr>
            <p:cNvPr id="186" name="Freeform 42"/>
            <p:cNvSpPr/>
            <p:nvPr/>
          </p:nvSpPr>
          <p:spPr>
            <a:xfrm>
              <a:off x="6603840" y="1409760"/>
              <a:ext cx="1800" cy="1168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1" h="736">
                  <a:moveTo>
                    <a:pt x="0" y="73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3"/>
            <p:cNvSpPr/>
            <p:nvPr/>
          </p:nvSpPr>
          <p:spPr>
            <a:xfrm>
              <a:off x="6248520" y="1676160"/>
              <a:ext cx="36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5"/>
          <p:cNvSpPr/>
          <p:nvPr/>
        </p:nvSpPr>
        <p:spPr>
          <a:xfrm>
            <a:off x="4800600" y="472428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Arial"/>
              </a:rPr>
              <a:t>Если радиус сферы перпендикулярен к плоскости, проходящей через его конец, лежащий на сфере, то эта плоскость является касательно к сфе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380880" y="472428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Arial"/>
              </a:rPr>
              <a:t>Если прямая проходит через конец радиуса, лежащий на окружности, и перпендикулярна к этому радиусу, то она является касатель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968400" y="14860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касательна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9"/>
              <p:cNvSpPr txBox="1"/>
              <p:nvPr/>
            </p:nvSpPr>
            <p:spPr>
              <a:xfrm>
                <a:off x="533520" y="3733920"/>
                <a:ext cx="2801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⊥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 - касательна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0"/>
              <p:cNvSpPr txBox="1"/>
              <p:nvPr/>
            </p:nvSpPr>
            <p:spPr>
              <a:xfrm>
                <a:off x="4800600" y="3657600"/>
                <a:ext cx="32544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⊥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Text Box 51"/>
          <p:cNvSpPr/>
          <p:nvPr/>
        </p:nvSpPr>
        <p:spPr>
          <a:xfrm>
            <a:off x="6707880" y="9144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касательная п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е задач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6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97" name="Freeform 7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Oval 20"/>
          <p:cNvSpPr/>
          <p:nvPr/>
        </p:nvSpPr>
        <p:spPr>
          <a:xfrm>
            <a:off x="609480" y="2209680"/>
            <a:ext cx="221004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1"/>
          <p:cNvSpPr/>
          <p:nvPr/>
        </p:nvSpPr>
        <p:spPr>
          <a:xfrm flipH="1" flipV="1" rot="5400000">
            <a:off x="1040400" y="2628360"/>
            <a:ext cx="1346040" cy="2184120"/>
          </a:xfrm>
          <a:custGeom>
            <a:avLst/>
            <a:gdLst>
              <a:gd name="textAreaLeft" fmla="*/ 0 w 1346040"/>
              <a:gd name="textAreaRight" fmla="*/ 1346040 w 1346040"/>
              <a:gd name="textAreaTop" fmla="*/ -360 h 2184120"/>
              <a:gd name="textAreaBottom" fmla="*/ 2184120 h 2184120"/>
            </a:gdLst>
            <a:ahLst/>
            <a:rect l="textAreaLeft" t="textAreaTop" r="textAreaRight" b="textAreaBottom"/>
            <a:pathLst>
              <a:path w="848" h="1376">
                <a:moveTo>
                  <a:pt x="16" y="528"/>
                </a:moveTo>
                <a:lnTo>
                  <a:pt x="784" y="0"/>
                </a:lnTo>
                <a:lnTo>
                  <a:pt x="848" y="1376"/>
                </a:lnTo>
                <a:lnTo>
                  <a:pt x="0" y="528"/>
                </a:lnTo>
              </a:path>
            </a:pathLst>
          </a:custGeom>
          <a:solidFill>
            <a:srgbClr val="66ffff">
              <a:alpha val="6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2"/>
          <p:cNvSpPr/>
          <p:nvPr/>
        </p:nvSpPr>
        <p:spPr>
          <a:xfrm rot="375600">
            <a:off x="1434600" y="434340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"/>
          <p:cNvSpPr/>
          <p:nvPr/>
        </p:nvSpPr>
        <p:spPr>
          <a:xfrm rot="375600">
            <a:off x="2755440" y="302256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4"/>
          <p:cNvSpPr/>
          <p:nvPr/>
        </p:nvSpPr>
        <p:spPr>
          <a:xfrm rot="375600">
            <a:off x="596520" y="311148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300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144440" y="4495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819520" y="281952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60948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овторение (устно)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ие центра описанной около треугольника окружност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9"/>
          <p:cNvGrpSpPr/>
          <p:nvPr/>
        </p:nvGrpSpPr>
        <p:grpSpPr>
          <a:xfrm>
            <a:off x="1672560" y="3200400"/>
            <a:ext cx="383760" cy="398880"/>
            <a:chOff x="1672560" y="3200400"/>
            <a:chExt cx="383760" cy="398880"/>
          </a:xfrm>
        </p:grpSpPr>
        <p:sp>
          <p:nvSpPr>
            <p:cNvPr id="215" name="Oval 47"/>
            <p:cNvSpPr/>
            <p:nvPr/>
          </p:nvSpPr>
          <p:spPr>
            <a:xfrm rot="375600">
              <a:off x="1676160" y="3276360"/>
              <a:ext cx="7776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8"/>
            <p:cNvSpPr/>
            <p:nvPr/>
          </p:nvSpPr>
          <p:spPr>
            <a:xfrm>
              <a:off x="1677600" y="3200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Oval 50"/>
          <p:cNvSpPr/>
          <p:nvPr/>
        </p:nvSpPr>
        <p:spPr>
          <a:xfrm>
            <a:off x="3352680" y="3124080"/>
            <a:ext cx="221004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1"/>
          <p:cNvSpPr/>
          <p:nvPr/>
        </p:nvSpPr>
        <p:spPr>
          <a:xfrm>
            <a:off x="3365640" y="4064040"/>
            <a:ext cx="2184120" cy="102852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376" h="648">
                <a:moveTo>
                  <a:pt x="232" y="648"/>
                </a:moveTo>
                <a:lnTo>
                  <a:pt x="0" y="0"/>
                </a:lnTo>
                <a:lnTo>
                  <a:pt x="1376" y="200"/>
                </a:lnTo>
                <a:lnTo>
                  <a:pt x="232" y="640"/>
                </a:lnTo>
              </a:path>
            </a:pathLst>
          </a:custGeom>
          <a:solidFill>
            <a:srgbClr val="66ffff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2"/>
          <p:cNvSpPr/>
          <p:nvPr/>
        </p:nvSpPr>
        <p:spPr>
          <a:xfrm rot="375600">
            <a:off x="3695400" y="502920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3"/>
          <p:cNvSpPr/>
          <p:nvPr/>
        </p:nvSpPr>
        <p:spPr>
          <a:xfrm rot="375600">
            <a:off x="5511600" y="434016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4"/>
          <p:cNvSpPr/>
          <p:nvPr/>
        </p:nvSpPr>
        <p:spPr>
          <a:xfrm rot="375600">
            <a:off x="3339720" y="402588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5"/>
          <p:cNvSpPr/>
          <p:nvPr/>
        </p:nvSpPr>
        <p:spPr>
          <a:xfrm>
            <a:off x="297324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6"/>
          <p:cNvSpPr/>
          <p:nvPr/>
        </p:nvSpPr>
        <p:spPr>
          <a:xfrm>
            <a:off x="3405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5575320" y="413712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8"/>
          <p:cNvGrpSpPr/>
          <p:nvPr/>
        </p:nvGrpSpPr>
        <p:grpSpPr>
          <a:xfrm>
            <a:off x="4415760" y="4114800"/>
            <a:ext cx="383760" cy="398880"/>
            <a:chOff x="4415760" y="4114800"/>
            <a:chExt cx="383760" cy="398880"/>
          </a:xfrm>
        </p:grpSpPr>
        <p:sp>
          <p:nvSpPr>
            <p:cNvPr id="226" name="Oval 59"/>
            <p:cNvSpPr/>
            <p:nvPr/>
          </p:nvSpPr>
          <p:spPr>
            <a:xfrm rot="375600">
              <a:off x="4419360" y="4190760"/>
              <a:ext cx="7776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0"/>
            <p:cNvSpPr/>
            <p:nvPr/>
          </p:nvSpPr>
          <p:spPr>
            <a:xfrm>
              <a:off x="4420800" y="4114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Oval 61"/>
          <p:cNvSpPr/>
          <p:nvPr/>
        </p:nvSpPr>
        <p:spPr>
          <a:xfrm>
            <a:off x="6095880" y="3962520"/>
            <a:ext cx="221004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2"/>
          <p:cNvSpPr/>
          <p:nvPr/>
        </p:nvSpPr>
        <p:spPr>
          <a:xfrm>
            <a:off x="6311880" y="5092560"/>
            <a:ext cx="1994040" cy="1054080"/>
          </a:xfrm>
          <a:custGeom>
            <a:avLst/>
            <a:gdLst/>
            <a:ahLst/>
            <a:rect l="l" t="t" r="r" b="b"/>
            <a:pathLst>
              <a:path w="1256" h="664">
                <a:moveTo>
                  <a:pt x="400" y="648"/>
                </a:moveTo>
                <a:lnTo>
                  <a:pt x="0" y="408"/>
                </a:lnTo>
                <a:lnTo>
                  <a:pt x="1256" y="0"/>
                </a:lnTo>
                <a:lnTo>
                  <a:pt x="400" y="664"/>
                </a:lnTo>
              </a:path>
            </a:pathLst>
          </a:custGeom>
          <a:solidFill>
            <a:srgbClr val="66ffff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3"/>
          <p:cNvSpPr/>
          <p:nvPr/>
        </p:nvSpPr>
        <p:spPr>
          <a:xfrm rot="375600">
            <a:off x="6921000" y="609588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64"/>
          <p:cNvSpPr/>
          <p:nvPr/>
        </p:nvSpPr>
        <p:spPr>
          <a:xfrm rot="375600">
            <a:off x="8267400" y="5064120"/>
            <a:ext cx="777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5"/>
          <p:cNvSpPr/>
          <p:nvPr/>
        </p:nvSpPr>
        <p:spPr>
          <a:xfrm rot="375600">
            <a:off x="6298920" y="5702400"/>
            <a:ext cx="777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6"/>
          <p:cNvSpPr/>
          <p:nvPr/>
        </p:nvSpPr>
        <p:spPr>
          <a:xfrm>
            <a:off x="59324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7"/>
          <p:cNvSpPr/>
          <p:nvPr/>
        </p:nvSpPr>
        <p:spPr>
          <a:xfrm>
            <a:off x="6630840" y="624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8"/>
          <p:cNvSpPr/>
          <p:nvPr/>
        </p:nvSpPr>
        <p:spPr>
          <a:xfrm>
            <a:off x="8331120" y="486108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9"/>
          <p:cNvGrpSpPr/>
          <p:nvPr/>
        </p:nvGrpSpPr>
        <p:grpSpPr>
          <a:xfrm>
            <a:off x="7158960" y="4952880"/>
            <a:ext cx="383760" cy="398880"/>
            <a:chOff x="7158960" y="4952880"/>
            <a:chExt cx="383760" cy="398880"/>
          </a:xfrm>
        </p:grpSpPr>
        <p:sp>
          <p:nvSpPr>
            <p:cNvPr id="237" name="Oval 70"/>
            <p:cNvSpPr/>
            <p:nvPr/>
          </p:nvSpPr>
          <p:spPr>
            <a:xfrm rot="375600">
              <a:off x="7162560" y="502920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1"/>
            <p:cNvSpPr/>
            <p:nvPr/>
          </p:nvSpPr>
          <p:spPr>
            <a:xfrm>
              <a:off x="7164000" y="49528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72"/>
          <p:cNvSpPr/>
          <p:nvPr/>
        </p:nvSpPr>
        <p:spPr>
          <a:xfrm>
            <a:off x="380880" y="11430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о внутренней области (для остроугольного треугольник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3"/>
          <p:cNvSpPr/>
          <p:nvPr/>
        </p:nvSpPr>
        <p:spPr>
          <a:xfrm>
            <a:off x="3276720" y="21337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а середине гипотенузы (для прямоугольного треугольник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4"/>
          <p:cNvSpPr/>
          <p:nvPr/>
        </p:nvSpPr>
        <p:spPr>
          <a:xfrm>
            <a:off x="6172200" y="29718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о внешней области (для тупоугольного треугольник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71"/>
          <p:cNvSpPr/>
          <p:nvPr/>
        </p:nvSpPr>
        <p:spPr>
          <a:xfrm>
            <a:off x="2895480" y="2971800"/>
            <a:ext cx="1219320" cy="1168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768" h="736">
                <a:moveTo>
                  <a:pt x="8" y="728"/>
                </a:moveTo>
                <a:lnTo>
                  <a:pt x="24" y="736"/>
                </a:lnTo>
                <a:lnTo>
                  <a:pt x="768" y="144"/>
                </a:lnTo>
                <a:lnTo>
                  <a:pt x="0" y="0"/>
                </a:lnTo>
                <a:lnTo>
                  <a:pt x="8" y="728"/>
                </a:lnTo>
                <a:close/>
              </a:path>
            </a:pathLst>
          </a:custGeom>
          <a:solidFill>
            <a:srgbClr val="ff33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6"/>
          <p:cNvSpPr/>
          <p:nvPr/>
        </p:nvSpPr>
        <p:spPr>
          <a:xfrm>
            <a:off x="1714680" y="2793960"/>
            <a:ext cx="2463480" cy="380880"/>
          </a:xfrm>
          <a:custGeom>
            <a:avLst/>
            <a:gdLst>
              <a:gd name="textAreaLeft" fmla="*/ 0 w 2463480"/>
              <a:gd name="textAreaRight" fmla="*/ 2463840 w 2463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52" h="240">
                <a:moveTo>
                  <a:pt x="0" y="0"/>
                </a:moveTo>
                <a:lnTo>
                  <a:pt x="1552" y="240"/>
                </a:lnTo>
              </a:path>
            </a:pathLst>
          </a:custGeom>
          <a:noFill/>
          <a:ln w="1908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29"/>
          <p:cNvSpPr/>
          <p:nvPr/>
        </p:nvSpPr>
        <p:spPr>
          <a:xfrm>
            <a:off x="1523880" y="294156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solidFill>
            <a:srgbClr val="bbe0e3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rc 30"/>
          <p:cNvSpPr/>
          <p:nvPr/>
        </p:nvSpPr>
        <p:spPr>
          <a:xfrm flipV="1">
            <a:off x="1531800" y="2626920"/>
            <a:ext cx="2797200" cy="380880"/>
          </a:xfrm>
          <a:custGeom>
            <a:avLst/>
            <a:gdLst>
              <a:gd name="textAreaLeft" fmla="*/ 0 w 2797200"/>
              <a:gd name="textAreaRight" fmla="*/ 2797200 w 27972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fill="none" w="42891" h="21600">
                <a:moveTo>
                  <a:pt x="42890" y="3084"/>
                </a:moveTo>
                <a:cubicBezTo>
                  <a:pt x="41357" y="13712"/>
                  <a:pt x="32249" y="21599"/>
                  <a:pt x="21512" y="21600"/>
                </a:cubicBezTo>
                <a:cubicBezTo>
                  <a:pt x="10337" y="21600"/>
                  <a:pt x="1007" y="13076"/>
                  <a:pt x="-1" y="1947"/>
                </a:cubicBezTo>
              </a:path>
              <a:path stroke="0" w="42891" h="21600">
                <a:moveTo>
                  <a:pt x="42890" y="3084"/>
                </a:moveTo>
                <a:cubicBezTo>
                  <a:pt x="41357" y="13712"/>
                  <a:pt x="32249" y="21599"/>
                  <a:pt x="21512" y="21600"/>
                </a:cubicBezTo>
                <a:cubicBezTo>
                  <a:pt x="10337" y="21600"/>
                  <a:pt x="1007" y="13076"/>
                  <a:pt x="-1" y="1947"/>
                </a:cubicBezTo>
                <a:lnTo>
                  <a:pt x="21512" y="0"/>
                </a:lnTo>
                <a:close/>
              </a:path>
            </a:pathLst>
          </a:custGeom>
          <a:solidFill>
            <a:srgbClr val="bbe0e3">
              <a:alpha val="63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47" name="Freeform 4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12"/>
          <p:cNvSpPr/>
          <p:nvPr/>
        </p:nvSpPr>
        <p:spPr>
          <a:xfrm>
            <a:off x="990720" y="2362320"/>
            <a:ext cx="3886200" cy="3809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13"/>
          <p:cNvSpPr/>
          <p:nvPr/>
        </p:nvSpPr>
        <p:spPr>
          <a:xfrm flipV="1">
            <a:off x="993600" y="3535200"/>
            <a:ext cx="3880080" cy="741600"/>
          </a:xfrm>
          <a:custGeom>
            <a:avLst/>
            <a:gdLst>
              <a:gd name="textAreaLeft" fmla="*/ 0 w 3880080"/>
              <a:gd name="textAreaRight" fmla="*/ 3880440 w 38800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4"/>
          <p:cNvSpPr/>
          <p:nvPr/>
        </p:nvSpPr>
        <p:spPr>
          <a:xfrm>
            <a:off x="1012680" y="4159080"/>
            <a:ext cx="3857760" cy="7416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2972880" y="4114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 rot="375600">
            <a:off x="2863440" y="4133520"/>
            <a:ext cx="13176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2"/>
          <p:cNvGrpSpPr/>
          <p:nvPr/>
        </p:nvGrpSpPr>
        <p:grpSpPr>
          <a:xfrm>
            <a:off x="2850480" y="2692440"/>
            <a:ext cx="461160" cy="1498680"/>
            <a:chOff x="2850480" y="2692440"/>
            <a:chExt cx="461160" cy="1498680"/>
          </a:xfrm>
        </p:grpSpPr>
        <p:sp>
          <p:nvSpPr>
            <p:cNvPr id="261" name="Freeform 15"/>
            <p:cNvSpPr/>
            <p:nvPr/>
          </p:nvSpPr>
          <p:spPr>
            <a:xfrm>
              <a:off x="2895480" y="2997360"/>
              <a:ext cx="25560" cy="1193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" h="752">
                  <a:moveTo>
                    <a:pt x="16" y="7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2"/>
            <p:cNvSpPr/>
            <p:nvPr/>
          </p:nvSpPr>
          <p:spPr>
            <a:xfrm>
              <a:off x="2850480" y="269244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 rot="375600">
              <a:off x="2857320" y="294624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reeform 2"/>
          <p:cNvSpPr/>
          <p:nvPr/>
        </p:nvSpPr>
        <p:spPr>
          <a:xfrm>
            <a:off x="2362320" y="2781360"/>
            <a:ext cx="1650960" cy="57132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40" h="360">
                <a:moveTo>
                  <a:pt x="1040" y="0"/>
                </a:moveTo>
                <a:lnTo>
                  <a:pt x="0" y="360"/>
                </a:lnTo>
              </a:path>
            </a:pathLst>
          </a:custGeom>
          <a:solidFill>
            <a:srgbClr val="0066ff">
              <a:alpha val="33000"/>
            </a:srgbClr>
          </a:solidFill>
          <a:ln w="1908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1"/>
          <p:cNvSpPr/>
          <p:nvPr/>
        </p:nvSpPr>
        <p:spPr>
          <a:xfrm>
            <a:off x="1739880" y="2832120"/>
            <a:ext cx="647640" cy="533520"/>
          </a:xfrm>
          <a:custGeom>
            <a:avLst/>
            <a:gdLst>
              <a:gd name="textAreaLeft" fmla="*/ 0 w 647640"/>
              <a:gd name="textAreaRight" fmla="*/ 648000 w 647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08" h="336">
                <a:moveTo>
                  <a:pt x="0" y="0"/>
                </a:moveTo>
                <a:lnTo>
                  <a:pt x="408" y="336"/>
                </a:lnTo>
              </a:path>
            </a:pathLst>
          </a:custGeom>
          <a:noFill/>
          <a:ln w="1908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5"/>
          <p:cNvSpPr/>
          <p:nvPr/>
        </p:nvSpPr>
        <p:spPr>
          <a:xfrm>
            <a:off x="1727280" y="2755800"/>
            <a:ext cx="2298600" cy="5076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448" h="32">
                <a:moveTo>
                  <a:pt x="0" y="32"/>
                </a:moveTo>
                <a:lnTo>
                  <a:pt x="1448" y="0"/>
                </a:lnTo>
              </a:path>
            </a:pathLst>
          </a:custGeom>
          <a:noFill/>
          <a:ln w="1908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6"/>
          <p:cNvGrpSpPr/>
          <p:nvPr/>
        </p:nvGrpSpPr>
        <p:grpSpPr>
          <a:xfrm>
            <a:off x="1474560" y="2438280"/>
            <a:ext cx="365040" cy="413640"/>
            <a:chOff x="1474560" y="2438280"/>
            <a:chExt cx="365040" cy="413640"/>
          </a:xfrm>
        </p:grpSpPr>
        <p:sp>
          <p:nvSpPr>
            <p:cNvPr id="268" name="Text Box 37"/>
            <p:cNvSpPr/>
            <p:nvPr/>
          </p:nvSpPr>
          <p:spPr>
            <a:xfrm>
              <a:off x="1474560" y="2438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38"/>
            <p:cNvSpPr/>
            <p:nvPr/>
          </p:nvSpPr>
          <p:spPr>
            <a:xfrm rot="375600">
              <a:off x="1701360" y="2771640"/>
              <a:ext cx="7776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3"/>
          <p:cNvGrpSpPr/>
          <p:nvPr/>
        </p:nvGrpSpPr>
        <p:grpSpPr>
          <a:xfrm>
            <a:off x="2307600" y="3251160"/>
            <a:ext cx="395640" cy="398880"/>
            <a:chOff x="2307600" y="3251160"/>
            <a:chExt cx="395640" cy="398880"/>
          </a:xfrm>
        </p:grpSpPr>
        <p:sp>
          <p:nvSpPr>
            <p:cNvPr id="271" name="Text Box 44"/>
            <p:cNvSpPr/>
            <p:nvPr/>
          </p:nvSpPr>
          <p:spPr>
            <a:xfrm>
              <a:off x="2338200" y="325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5"/>
            <p:cNvSpPr/>
            <p:nvPr/>
          </p:nvSpPr>
          <p:spPr>
            <a:xfrm rot="375600">
              <a:off x="2311200" y="3317760"/>
              <a:ext cx="7776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49"/>
          <p:cNvSpPr/>
          <p:nvPr/>
        </p:nvSpPr>
        <p:spPr>
          <a:xfrm>
            <a:off x="457200" y="3049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81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шины треугольника АВС лежат на сфере радиуса 13 см. Найдите расстояние от центра сферы до плоскости треугольника, если АВ=6см, ВС=8см, АС=10с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483840" y="1523880"/>
            <a:ext cx="139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4"/>
              <p:cNvSpPr txBox="1"/>
              <p:nvPr/>
            </p:nvSpPr>
            <p:spPr>
              <a:xfrm>
                <a:off x="1862280" y="1523880"/>
                <a:ext cx="3929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ямоугольный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Group 63"/>
          <p:cNvGrpSpPr/>
          <p:nvPr/>
        </p:nvGrpSpPr>
        <p:grpSpPr>
          <a:xfrm>
            <a:off x="5310000" y="2362320"/>
            <a:ext cx="2970360" cy="2329200"/>
            <a:chOff x="5310000" y="2362320"/>
            <a:chExt cx="2970360" cy="2329200"/>
          </a:xfrm>
        </p:grpSpPr>
        <p:grpSp>
          <p:nvGrpSpPr>
            <p:cNvPr id="277" name="Group 60"/>
            <p:cNvGrpSpPr/>
            <p:nvPr/>
          </p:nvGrpSpPr>
          <p:grpSpPr>
            <a:xfrm>
              <a:off x="5310000" y="2362320"/>
              <a:ext cx="2970360" cy="2329200"/>
              <a:chOff x="5310000" y="2362320"/>
              <a:chExt cx="2970360" cy="2329200"/>
            </a:xfrm>
          </p:grpSpPr>
          <p:sp>
            <p:nvSpPr>
              <p:cNvPr id="278" name="Oval 18"/>
              <p:cNvSpPr/>
              <p:nvPr/>
            </p:nvSpPr>
            <p:spPr>
              <a:xfrm>
                <a:off x="5638680" y="2362320"/>
                <a:ext cx="2210040" cy="22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5649840" y="3301920"/>
                <a:ext cx="2198880" cy="1079640"/>
              </a:xfrm>
              <a:custGeom>
                <a:avLst/>
                <a:gdLst>
                  <a:gd name="textAreaLeft" fmla="*/ 0 w 2198880"/>
                  <a:gd name="textAreaRight" fmla="*/ 2198880 w 219888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385" h="680">
                    <a:moveTo>
                      <a:pt x="289" y="680"/>
                    </a:moveTo>
                    <a:lnTo>
                      <a:pt x="0" y="0"/>
                    </a:lnTo>
                    <a:lnTo>
                      <a:pt x="1385" y="192"/>
                    </a:lnTo>
                    <a:lnTo>
                      <a:pt x="289" y="680"/>
                    </a:lnTo>
                  </a:path>
                </a:pathLst>
              </a:custGeom>
              <a:solidFill>
                <a:srgbClr val="66ffff">
                  <a:alpha val="3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0"/>
              <p:cNvSpPr/>
              <p:nvPr/>
            </p:nvSpPr>
            <p:spPr>
              <a:xfrm rot="375600">
                <a:off x="6070320" y="4330800"/>
                <a:ext cx="77760" cy="75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1"/>
              <p:cNvSpPr/>
              <p:nvPr/>
            </p:nvSpPr>
            <p:spPr>
              <a:xfrm rot="375600">
                <a:off x="7797600" y="3565440"/>
                <a:ext cx="77760" cy="76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2"/>
              <p:cNvSpPr/>
              <p:nvPr/>
            </p:nvSpPr>
            <p:spPr>
              <a:xfrm rot="375600">
                <a:off x="5625720" y="3263760"/>
                <a:ext cx="77760" cy="76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24"/>
              <p:cNvSpPr/>
              <p:nvPr/>
            </p:nvSpPr>
            <p:spPr>
              <a:xfrm>
                <a:off x="5310000" y="3022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5"/>
              <p:cNvSpPr/>
              <p:nvPr/>
            </p:nvSpPr>
            <p:spPr>
              <a:xfrm>
                <a:off x="5779800" y="42926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27"/>
              <p:cNvSpPr/>
              <p:nvPr/>
            </p:nvSpPr>
            <p:spPr>
              <a:xfrm>
                <a:off x="7835760" y="341316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58"/>
              <p:cNvSpPr/>
              <p:nvPr/>
            </p:nvSpPr>
            <p:spPr>
              <a:xfrm rot="375600">
                <a:off x="6705360" y="3429000"/>
                <a:ext cx="77760" cy="76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9"/>
              <p:cNvSpPr/>
              <p:nvPr/>
            </p:nvSpPr>
            <p:spPr>
              <a:xfrm>
                <a:off x="6668640" y="3111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Rectangle 61"/>
            <p:cNvSpPr/>
            <p:nvPr/>
          </p:nvSpPr>
          <p:spPr>
            <a:xfrm rot="468000">
              <a:off x="6121080" y="28576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ff"/>
                  </a:solidFill>
                  <a:latin typeface="Arial"/>
                </a:rPr>
                <a:t>гипотенуз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5638680" y="3111480"/>
              <a:ext cx="2210040" cy="469800"/>
            </a:xfrm>
            <a:custGeom>
              <a:avLst/>
              <a:gdLst>
                <a:gd name="textAreaLeft" fmla="*/ 0 w 2210040"/>
                <a:gd name="textAreaRight" fmla="*/ 2210040 w 22100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392" h="296">
                  <a:moveTo>
                    <a:pt x="0" y="104"/>
                  </a:moveTo>
                  <a:cubicBezTo>
                    <a:pt x="124" y="92"/>
                    <a:pt x="512" y="0"/>
                    <a:pt x="744" y="32"/>
                  </a:cubicBezTo>
                  <a:cubicBezTo>
                    <a:pt x="976" y="64"/>
                    <a:pt x="1257" y="241"/>
                    <a:pt x="1392" y="2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64"/>
          <p:cNvSpPr/>
          <p:nvPr/>
        </p:nvSpPr>
        <p:spPr>
          <a:xfrm>
            <a:off x="2184480" y="3086280"/>
            <a:ext cx="380880" cy="177480"/>
          </a:xfrm>
          <a:custGeom>
            <a:avLst/>
            <a:gdLst>
              <a:gd name="textAreaLeft" fmla="*/ 0 w 380880"/>
              <a:gd name="textAreaRight" fmla="*/ 381240 w 3808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240" h="112">
                <a:moveTo>
                  <a:pt x="0" y="64"/>
                </a:moveTo>
                <a:lnTo>
                  <a:pt x="128" y="0"/>
                </a:lnTo>
                <a:lnTo>
                  <a:pt x="240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5"/>
          <p:cNvSpPr/>
          <p:nvPr/>
        </p:nvSpPr>
        <p:spPr>
          <a:xfrm>
            <a:off x="2400480" y="3181320"/>
            <a:ext cx="1774800" cy="17136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118" h="108">
                <a:moveTo>
                  <a:pt x="1118" y="0"/>
                </a:moveTo>
                <a:lnTo>
                  <a:pt x="0" y="108"/>
                </a:lnTo>
              </a:path>
            </a:pathLst>
          </a:custGeom>
          <a:solidFill>
            <a:srgbClr val="0066ff">
              <a:alpha val="33000"/>
            </a:srgbClr>
          </a:solidFill>
          <a:ln w="1908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0"/>
          <p:cNvGrpSpPr/>
          <p:nvPr/>
        </p:nvGrpSpPr>
        <p:grpSpPr>
          <a:xfrm>
            <a:off x="3958560" y="2438280"/>
            <a:ext cx="433800" cy="398880"/>
            <a:chOff x="3958560" y="2438280"/>
            <a:chExt cx="433800" cy="398880"/>
          </a:xfrm>
        </p:grpSpPr>
        <p:sp>
          <p:nvSpPr>
            <p:cNvPr id="293" name="Oval 47"/>
            <p:cNvSpPr/>
            <p:nvPr/>
          </p:nvSpPr>
          <p:spPr>
            <a:xfrm rot="375600">
              <a:off x="3962160" y="2717640"/>
              <a:ext cx="7776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48"/>
            <p:cNvSpPr/>
            <p:nvPr/>
          </p:nvSpPr>
          <p:spPr>
            <a:xfrm>
              <a:off x="4027320" y="2438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68"/>
          <p:cNvSpPr/>
          <p:nvPr/>
        </p:nvSpPr>
        <p:spPr>
          <a:xfrm>
            <a:off x="2209680" y="3160800"/>
            <a:ext cx="408240" cy="168120"/>
          </a:xfrm>
          <a:custGeom>
            <a:avLst/>
            <a:gdLst>
              <a:gd name="textAreaLeft" fmla="*/ 0 w 408240"/>
              <a:gd name="textAreaRight" fmla="*/ 408600 w 408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57" h="106">
                <a:moveTo>
                  <a:pt x="0" y="41"/>
                </a:moveTo>
                <a:lnTo>
                  <a:pt x="162" y="0"/>
                </a:lnTo>
                <a:lnTo>
                  <a:pt x="257" y="1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9"/>
          <p:cNvSpPr/>
          <p:nvPr/>
        </p:nvSpPr>
        <p:spPr>
          <a:xfrm flipV="1">
            <a:off x="2971800" y="32004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0"/>
          <p:cNvSpPr/>
          <p:nvPr/>
        </p:nvSpPr>
        <p:spPr>
          <a:xfrm>
            <a:off x="2895480" y="2971800"/>
            <a:ext cx="152640" cy="2286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6" h="144">
                <a:moveTo>
                  <a:pt x="96" y="0"/>
                </a:moveTo>
                <a:lnTo>
                  <a:pt x="96" y="144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00834 0.03333 L 0.01806 0.06343 E">
                                      <p:cBhvr>
                                        <p:cTn id="206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67"/>
          <p:cNvSpPr/>
          <p:nvPr/>
        </p:nvSpPr>
        <p:spPr>
          <a:xfrm>
            <a:off x="2895480" y="2971800"/>
            <a:ext cx="1295640" cy="11685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816" h="736">
                <a:moveTo>
                  <a:pt x="8" y="728"/>
                </a:moveTo>
                <a:lnTo>
                  <a:pt x="24" y="736"/>
                </a:lnTo>
                <a:lnTo>
                  <a:pt x="816" y="120"/>
                </a:lnTo>
                <a:lnTo>
                  <a:pt x="0" y="0"/>
                </a:lnTo>
                <a:lnTo>
                  <a:pt x="8" y="728"/>
                </a:lnTo>
                <a:close/>
              </a:path>
            </a:pathLst>
          </a:custGeom>
          <a:solidFill>
            <a:srgbClr val="ff33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rc 3"/>
          <p:cNvSpPr/>
          <p:nvPr/>
        </p:nvSpPr>
        <p:spPr>
          <a:xfrm>
            <a:off x="1523880" y="2941560"/>
            <a:ext cx="2819520" cy="438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fill="none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</a:path>
              <a:path stroke="0" w="43200" h="24894">
                <a:moveTo>
                  <a:pt x="42947" y="-1"/>
                </a:moveTo>
                <a:cubicBezTo>
                  <a:pt x="43115" y="1089"/>
                  <a:pt x="43200" y="2191"/>
                  <a:pt x="43200" y="3294"/>
                </a:cubicBezTo>
                <a:cubicBezTo>
                  <a:pt x="43200" y="15223"/>
                  <a:pt x="33529" y="24894"/>
                  <a:pt x="21600" y="24894"/>
                </a:cubicBezTo>
                <a:cubicBezTo>
                  <a:pt x="9670" y="24894"/>
                  <a:pt x="0" y="15223"/>
                  <a:pt x="0" y="3294"/>
                </a:cubicBezTo>
                <a:cubicBezTo>
                  <a:pt x="-1" y="2742"/>
                  <a:pt x="21" y="2190"/>
                  <a:pt x="63" y="1640"/>
                </a:cubicBezTo>
                <a:lnTo>
                  <a:pt x="21600" y="3294"/>
                </a:lnTo>
                <a:close/>
              </a:path>
            </a:pathLst>
          </a:cu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4"/>
          <p:cNvSpPr/>
          <p:nvPr/>
        </p:nvSpPr>
        <p:spPr>
          <a:xfrm flipV="1">
            <a:off x="1531800" y="2626920"/>
            <a:ext cx="2797200" cy="380880"/>
          </a:xfrm>
          <a:custGeom>
            <a:avLst/>
            <a:gdLst>
              <a:gd name="textAreaLeft" fmla="*/ 0 w 2797200"/>
              <a:gd name="textAreaRight" fmla="*/ 2797200 w 27972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fill="none" w="42891" h="21600">
                <a:moveTo>
                  <a:pt x="42890" y="3084"/>
                </a:moveTo>
                <a:cubicBezTo>
                  <a:pt x="41357" y="13712"/>
                  <a:pt x="32249" y="21599"/>
                  <a:pt x="21512" y="21600"/>
                </a:cubicBezTo>
                <a:cubicBezTo>
                  <a:pt x="10337" y="21600"/>
                  <a:pt x="1007" y="13076"/>
                  <a:pt x="-1" y="1947"/>
                </a:cubicBezTo>
              </a:path>
              <a:path stroke="0" w="42891" h="21600">
                <a:moveTo>
                  <a:pt x="42890" y="3084"/>
                </a:moveTo>
                <a:cubicBezTo>
                  <a:pt x="41357" y="13712"/>
                  <a:pt x="32249" y="21599"/>
                  <a:pt x="21512" y="21600"/>
                </a:cubicBezTo>
                <a:cubicBezTo>
                  <a:pt x="10337" y="21600"/>
                  <a:pt x="1007" y="13076"/>
                  <a:pt x="-1" y="1947"/>
                </a:cubicBezTo>
                <a:lnTo>
                  <a:pt x="21512" y="0"/>
                </a:lnTo>
                <a:close/>
              </a:path>
            </a:pathLst>
          </a:cu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302" name="Freeform 6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Oval 14"/>
          <p:cNvSpPr/>
          <p:nvPr/>
        </p:nvSpPr>
        <p:spPr>
          <a:xfrm>
            <a:off x="990720" y="2362320"/>
            <a:ext cx="3886200" cy="3809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15"/>
          <p:cNvSpPr/>
          <p:nvPr/>
        </p:nvSpPr>
        <p:spPr>
          <a:xfrm flipV="1">
            <a:off x="993600" y="3535200"/>
            <a:ext cx="3880080" cy="741600"/>
          </a:xfrm>
          <a:custGeom>
            <a:avLst/>
            <a:gdLst>
              <a:gd name="textAreaLeft" fmla="*/ 0 w 3880080"/>
              <a:gd name="textAreaRight" fmla="*/ 3880440 w 38800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fill="none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</a:path>
              <a:path stroke="0" w="43121" h="21600">
                <a:moveTo>
                  <a:pt x="43120" y="1599"/>
                </a:moveTo>
                <a:cubicBezTo>
                  <a:pt x="42282" y="12877"/>
                  <a:pt x="32888" y="21599"/>
                  <a:pt x="21580" y="21600"/>
                </a:cubicBezTo>
                <a:cubicBezTo>
                  <a:pt x="10010" y="21600"/>
                  <a:pt x="494" y="12483"/>
                  <a:pt x="-1" y="924"/>
                </a:cubicBezTo>
                <a:lnTo>
                  <a:pt x="21580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rc 16"/>
          <p:cNvSpPr/>
          <p:nvPr/>
        </p:nvSpPr>
        <p:spPr>
          <a:xfrm>
            <a:off x="1012680" y="4159080"/>
            <a:ext cx="3857760" cy="7416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fill="none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</a:path>
              <a:path stroke="0" w="42859" h="21600">
                <a:moveTo>
                  <a:pt x="-22677" y="2301"/>
                </a:moveTo>
                <a:cubicBezTo>
                  <a:pt x="-23853" y="13276"/>
                  <a:pt x="32420" y="21599"/>
                  <a:pt x="21382" y="21600"/>
                </a:cubicBezTo>
                <a:cubicBezTo>
                  <a:pt x="10635" y="21600"/>
                  <a:pt x="1523" y="13699"/>
                  <a:pt x="0" y="3061"/>
                </a:cubicBezTo>
                <a:lnTo>
                  <a:pt x="21382" y="0"/>
                </a:lnTo>
                <a:close/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972880" y="4114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8"/>
          <p:cNvSpPr/>
          <p:nvPr/>
        </p:nvSpPr>
        <p:spPr>
          <a:xfrm rot="375600">
            <a:off x="2863440" y="4133520"/>
            <a:ext cx="13176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2850480" y="2692440"/>
            <a:ext cx="461160" cy="1498680"/>
            <a:chOff x="2850480" y="2692440"/>
            <a:chExt cx="461160" cy="1498680"/>
          </a:xfrm>
        </p:grpSpPr>
        <p:sp>
          <p:nvSpPr>
            <p:cNvPr id="316" name="Freeform 20"/>
            <p:cNvSpPr/>
            <p:nvPr/>
          </p:nvSpPr>
          <p:spPr>
            <a:xfrm>
              <a:off x="2895480" y="2997360"/>
              <a:ext cx="25560" cy="1193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" h="752">
                  <a:moveTo>
                    <a:pt x="16" y="7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1"/>
            <p:cNvSpPr/>
            <p:nvPr/>
          </p:nvSpPr>
          <p:spPr>
            <a:xfrm>
              <a:off x="2850480" y="269244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2"/>
            <p:cNvSpPr/>
            <p:nvPr/>
          </p:nvSpPr>
          <p:spPr>
            <a:xfrm rot="375600">
              <a:off x="2857320" y="294624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2"/>
          <p:cNvSpPr/>
          <p:nvPr/>
        </p:nvSpPr>
        <p:spPr>
          <a:xfrm>
            <a:off x="457200" y="3049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82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шины прямоугольника АВ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ежат на сфере радиуса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. Найдите расстояние от центра сферы до плоскости прямоугольника, если его диагональ равна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483840" y="1523880"/>
            <a:ext cx="139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34"/>
              <p:cNvSpPr txBox="1"/>
              <p:nvPr/>
            </p:nvSpPr>
            <p:spPr>
              <a:xfrm>
                <a:off x="1862280" y="1523880"/>
                <a:ext cx="3929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ямоугольный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63"/>
          <p:cNvGrpSpPr/>
          <p:nvPr/>
        </p:nvGrpSpPr>
        <p:grpSpPr>
          <a:xfrm>
            <a:off x="1727280" y="2641680"/>
            <a:ext cx="2502000" cy="723960"/>
            <a:chOff x="1727280" y="2641680"/>
            <a:chExt cx="2502000" cy="723960"/>
          </a:xfrm>
        </p:grpSpPr>
        <p:sp>
          <p:nvSpPr>
            <p:cNvPr id="323" name="Freeform 24"/>
            <p:cNvSpPr/>
            <p:nvPr/>
          </p:nvSpPr>
          <p:spPr>
            <a:xfrm>
              <a:off x="1739880" y="2832120"/>
              <a:ext cx="647640" cy="53352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408" h="336">
                  <a:moveTo>
                    <a:pt x="0" y="0"/>
                  </a:moveTo>
                  <a:lnTo>
                    <a:pt x="408" y="336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"/>
            <p:cNvSpPr/>
            <p:nvPr/>
          </p:nvSpPr>
          <p:spPr>
            <a:xfrm>
              <a:off x="1727280" y="2641680"/>
              <a:ext cx="2502000" cy="482400"/>
            </a:xfrm>
            <a:custGeom>
              <a:avLst/>
              <a:gdLst>
                <a:gd name="textAreaLeft" fmla="*/ 0 w 2502000"/>
                <a:gd name="textAreaRight" fmla="*/ 2502360 w 250200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76" h="304">
                  <a:moveTo>
                    <a:pt x="0" y="104"/>
                  </a:moveTo>
                  <a:lnTo>
                    <a:pt x="1040" y="0"/>
                  </a:lnTo>
                  <a:lnTo>
                    <a:pt x="1576" y="30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0"/>
            <p:cNvSpPr/>
            <p:nvPr/>
          </p:nvSpPr>
          <p:spPr>
            <a:xfrm>
              <a:off x="2400480" y="3137040"/>
              <a:ext cx="1815840" cy="215640"/>
            </a:xfrm>
            <a:custGeom>
              <a:avLst/>
              <a:gdLst>
                <a:gd name="textAreaLeft" fmla="*/ 0 w 1815840"/>
                <a:gd name="textAreaRight" fmla="*/ 1816200 w 18158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144" h="136">
                  <a:moveTo>
                    <a:pt x="1144" y="0"/>
                  </a:moveTo>
                  <a:lnTo>
                    <a:pt x="0" y="136"/>
                  </a:lnTo>
                </a:path>
              </a:pathLst>
            </a:custGeom>
            <a:solidFill>
              <a:srgbClr val="0066ff">
                <a:alpha val="33000"/>
              </a:srgbClr>
            </a:solidFill>
            <a:ln w="1908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60"/>
          <p:cNvGrpSpPr/>
          <p:nvPr/>
        </p:nvGrpSpPr>
        <p:grpSpPr>
          <a:xfrm>
            <a:off x="5310000" y="2362320"/>
            <a:ext cx="2970360" cy="2329200"/>
            <a:chOff x="5310000" y="2362320"/>
            <a:chExt cx="2970360" cy="2329200"/>
          </a:xfrm>
        </p:grpSpPr>
        <p:sp>
          <p:nvSpPr>
            <p:cNvPr id="327" name="Freeform 57"/>
            <p:cNvSpPr/>
            <p:nvPr/>
          </p:nvSpPr>
          <p:spPr>
            <a:xfrm>
              <a:off x="6108840" y="2552760"/>
              <a:ext cx="1269720" cy="18162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800" h="1144">
                  <a:moveTo>
                    <a:pt x="0" y="1144"/>
                  </a:moveTo>
                  <a:lnTo>
                    <a:pt x="8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5649840" y="2552760"/>
              <a:ext cx="2198880" cy="1828800"/>
            </a:xfrm>
            <a:custGeom>
              <a:avLst/>
              <a:gdLst>
                <a:gd name="textAreaLeft" fmla="*/ 0 w 2198880"/>
                <a:gd name="textAreaRight" fmla="*/ 2198880 w 21988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1385" h="1152">
                  <a:moveTo>
                    <a:pt x="289" y="1152"/>
                  </a:moveTo>
                  <a:lnTo>
                    <a:pt x="0" y="472"/>
                  </a:lnTo>
                  <a:lnTo>
                    <a:pt x="1089" y="0"/>
                  </a:lnTo>
                  <a:lnTo>
                    <a:pt x="1385" y="664"/>
                  </a:lnTo>
                  <a:lnTo>
                    <a:pt x="289" y="1152"/>
                  </a:lnTo>
                </a:path>
              </a:pathLst>
            </a:custGeom>
            <a:solidFill>
              <a:srgbClr val="66ffff">
                <a:alpha val="3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5"/>
            <p:cNvSpPr/>
            <p:nvPr/>
          </p:nvSpPr>
          <p:spPr>
            <a:xfrm>
              <a:off x="5651640" y="3301920"/>
              <a:ext cx="2184120" cy="31752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376" h="200">
                  <a:moveTo>
                    <a:pt x="0" y="0"/>
                  </a:moveTo>
                  <a:lnTo>
                    <a:pt x="1376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5638680" y="2362320"/>
              <a:ext cx="2210040" cy="220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9"/>
            <p:cNvSpPr/>
            <p:nvPr/>
          </p:nvSpPr>
          <p:spPr>
            <a:xfrm rot="375600">
              <a:off x="6070320" y="4330800"/>
              <a:ext cx="7776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0"/>
            <p:cNvSpPr/>
            <p:nvPr/>
          </p:nvSpPr>
          <p:spPr>
            <a:xfrm rot="375600">
              <a:off x="7797600" y="356544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1"/>
            <p:cNvSpPr/>
            <p:nvPr/>
          </p:nvSpPr>
          <p:spPr>
            <a:xfrm rot="375600">
              <a:off x="5625720" y="326376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42"/>
            <p:cNvSpPr/>
            <p:nvPr/>
          </p:nvSpPr>
          <p:spPr>
            <a:xfrm>
              <a:off x="5310000" y="3022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43"/>
            <p:cNvSpPr/>
            <p:nvPr/>
          </p:nvSpPr>
          <p:spPr>
            <a:xfrm>
              <a:off x="5779800" y="4292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4"/>
            <p:cNvSpPr/>
            <p:nvPr/>
          </p:nvSpPr>
          <p:spPr>
            <a:xfrm>
              <a:off x="7835760" y="3413160"/>
              <a:ext cx="44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5"/>
            <p:cNvSpPr/>
            <p:nvPr/>
          </p:nvSpPr>
          <p:spPr>
            <a:xfrm rot="375600">
              <a:off x="6705360" y="342900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6"/>
            <p:cNvSpPr/>
            <p:nvPr/>
          </p:nvSpPr>
          <p:spPr>
            <a:xfrm>
              <a:off x="6630480" y="3124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8"/>
            <p:cNvSpPr/>
            <p:nvPr/>
          </p:nvSpPr>
          <p:spPr>
            <a:xfrm rot="375600">
              <a:off x="7353000" y="2527200"/>
              <a:ext cx="7776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9"/>
            <p:cNvSpPr/>
            <p:nvPr/>
          </p:nvSpPr>
          <p:spPr>
            <a:xfrm>
              <a:off x="7391520" y="237492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6"/>
          <p:cNvGrpSpPr/>
          <p:nvPr/>
        </p:nvGrpSpPr>
        <p:grpSpPr>
          <a:xfrm>
            <a:off x="1474560" y="2260440"/>
            <a:ext cx="3083040" cy="1389600"/>
            <a:chOff x="1474560" y="2260440"/>
            <a:chExt cx="3083040" cy="1389600"/>
          </a:xfrm>
        </p:grpSpPr>
        <p:grpSp>
          <p:nvGrpSpPr>
            <p:cNvPr id="342" name="Group 26"/>
            <p:cNvGrpSpPr/>
            <p:nvPr/>
          </p:nvGrpSpPr>
          <p:grpSpPr>
            <a:xfrm>
              <a:off x="1474560" y="2438280"/>
              <a:ext cx="365040" cy="413640"/>
              <a:chOff x="1474560" y="2438280"/>
              <a:chExt cx="365040" cy="413640"/>
            </a:xfrm>
          </p:grpSpPr>
          <p:sp>
            <p:nvSpPr>
              <p:cNvPr id="343" name="Text Box 27"/>
              <p:cNvSpPr/>
              <p:nvPr/>
            </p:nvSpPr>
            <p:spPr>
              <a:xfrm>
                <a:off x="1474560" y="2438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8"/>
              <p:cNvSpPr/>
              <p:nvPr/>
            </p:nvSpPr>
            <p:spPr>
              <a:xfrm rot="375600">
                <a:off x="1701360" y="2771640"/>
                <a:ext cx="77760" cy="7632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9"/>
            <p:cNvGrpSpPr/>
            <p:nvPr/>
          </p:nvGrpSpPr>
          <p:grpSpPr>
            <a:xfrm>
              <a:off x="2307600" y="3251160"/>
              <a:ext cx="395640" cy="398880"/>
              <a:chOff x="2307600" y="3251160"/>
              <a:chExt cx="395640" cy="398880"/>
            </a:xfrm>
          </p:grpSpPr>
          <p:sp>
            <p:nvSpPr>
              <p:cNvPr id="346" name="Text Box 30"/>
              <p:cNvSpPr/>
              <p:nvPr/>
            </p:nvSpPr>
            <p:spPr>
              <a:xfrm>
                <a:off x="2338200" y="32511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31"/>
              <p:cNvSpPr/>
              <p:nvPr/>
            </p:nvSpPr>
            <p:spPr>
              <a:xfrm rot="375600">
                <a:off x="2311200" y="3317760"/>
                <a:ext cx="77760" cy="7632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5"/>
            <p:cNvGrpSpPr/>
            <p:nvPr/>
          </p:nvGrpSpPr>
          <p:grpSpPr>
            <a:xfrm>
              <a:off x="4192560" y="3048120"/>
              <a:ext cx="365040" cy="398880"/>
              <a:chOff x="4192560" y="3048120"/>
              <a:chExt cx="365040" cy="398880"/>
            </a:xfrm>
          </p:grpSpPr>
          <p:sp>
            <p:nvSpPr>
              <p:cNvPr id="349" name="Oval 52"/>
              <p:cNvSpPr/>
              <p:nvPr/>
            </p:nvSpPr>
            <p:spPr>
              <a:xfrm rot="375600">
                <a:off x="4203360" y="3098880"/>
                <a:ext cx="77760" cy="7596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61"/>
              <p:cNvSpPr/>
              <p:nvPr/>
            </p:nvSpPr>
            <p:spPr>
              <a:xfrm>
                <a:off x="4192560" y="3048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4"/>
            <p:cNvGrpSpPr/>
            <p:nvPr/>
          </p:nvGrpSpPr>
          <p:grpSpPr>
            <a:xfrm>
              <a:off x="3278160" y="2260440"/>
              <a:ext cx="365040" cy="410400"/>
              <a:chOff x="3278160" y="2260440"/>
              <a:chExt cx="365040" cy="410400"/>
            </a:xfrm>
          </p:grpSpPr>
          <p:sp>
            <p:nvSpPr>
              <p:cNvPr id="352" name="Text Box 53"/>
              <p:cNvSpPr/>
              <p:nvPr/>
            </p:nvSpPr>
            <p:spPr>
              <a:xfrm>
                <a:off x="3278160" y="2260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62"/>
              <p:cNvSpPr/>
              <p:nvPr/>
            </p:nvSpPr>
            <p:spPr>
              <a:xfrm rot="375600">
                <a:off x="3352320" y="2590920"/>
                <a:ext cx="77760" cy="7596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Freeform 68"/>
          <p:cNvSpPr/>
          <p:nvPr/>
        </p:nvSpPr>
        <p:spPr>
          <a:xfrm>
            <a:off x="2971800" y="3149640"/>
            <a:ext cx="1257480" cy="965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792" h="608">
                <a:moveTo>
                  <a:pt x="0" y="608"/>
                </a:move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69"/>
          <p:cNvSpPr/>
          <p:nvPr/>
        </p:nvSpPr>
        <p:spPr>
          <a:xfrm>
            <a:off x="2895480" y="2971800"/>
            <a:ext cx="152640" cy="2286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6" h="144">
                <a:moveTo>
                  <a:pt x="96" y="0"/>
                </a:moveTo>
                <a:lnTo>
                  <a:pt x="96" y="144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72"/>
          <p:cNvSpPr/>
          <p:nvPr/>
        </p:nvSpPr>
        <p:spPr>
          <a:xfrm>
            <a:off x="1739880" y="2819520"/>
            <a:ext cx="2476440" cy="330120"/>
          </a:xfrm>
          <a:custGeom>
            <a:avLst/>
            <a:gdLst>
              <a:gd name="textAreaLeft" fmla="*/ 0 w 2476440"/>
              <a:gd name="textAreaRight" fmla="*/ 2476800 w 247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560" h="208">
                <a:moveTo>
                  <a:pt x="1560" y="20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18-02-04T10:27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