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9CE-8DDA-4585-B8B7-98E5D26A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175-B19F-44D1-95F2-56C9B740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154-8D36-41AD-8FB3-259E81E1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23C-F0AD-4157-96C2-8C240332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9ABD-CD9B-47FD-A282-9094E1F4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F775F-1763-450B-9D5F-CE14CEB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93CC2-26AA-4190-B2AD-429ED17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63E5-9C39-491C-B0BF-D9592CF3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3109E-E707-41E5-BDD0-669716E2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41CA4-CEA3-4484-BF07-D27F358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07CE2-8AC2-49D5-88EA-50ABB73D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BF3-42FE-4C48-AAA1-5EB912F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3910-4BCA-4093-80C9-530F339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F577-0C86-4319-8334-B85E0AF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39FA2-A3A0-48A5-B3B5-850BB1B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AB48C-7393-42FA-9C54-6BCC4994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19267-80B3-413A-9DB2-91A7E21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0C4-9278-4D98-8928-3581D20D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9E7-55A6-4839-9746-07195523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8B4-A876-417E-8B2C-D7FE8D8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A22-FF63-4CDA-821B-4FE3BFE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511-5E20-4E9C-8382-5ACF085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FD4-BE47-4B21-97EF-5A5CE6C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840-8999-44D4-91A3-9787BD1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E41-C37A-485B-A699-8BFA9BECE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B64F-0934-4777-94E7-25F086FFDC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5720" y="188640"/>
            <a:ext cx="6837480" cy="209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Monotype Corsiva"/>
              </a:rPr>
              <a:t>Сказкотерапия –эффективное средство для развития речи детей младшего дошкольного возрас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МБДОУ Молчановский детский сад - Главная страница"/>
          <p:cNvPicPr/>
          <p:nvPr/>
        </p:nvPicPr>
        <p:blipFill>
          <a:blip r:embed="rId1"/>
          <a:stretch/>
        </p:blipFill>
        <p:spPr>
          <a:xfrm>
            <a:off x="1258920" y="2276640"/>
            <a:ext cx="6842160" cy="3528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4139280" y="63133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017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451840" y="60595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дготовила: Ткачёв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153080" y="112680"/>
            <a:ext cx="70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 д\с №2 «Теремок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ля занятий по методу сказкотерапии хорошо использовать сказочные декорации и костюмы, музыкальный ф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Любой из вас при желании может стать хорошим сказкотерапевтом. Для этого нужно самому стать сказочником и немного волшебником – и дети не останутся у вас в дол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66"/>
                </a:solidFill>
                <a:latin typeface="Verdana"/>
              </a:rPr>
              <a:t>СПАСИБО ЗА  ВНИМАНИЕ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3" descr="4877693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42472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Любовь к сказке, интерес к ней возникает в раннем детстве и сопровождает человека на протяжении всей его жизни. О роли и значении сказок в формировании положительных качеств характера и психических процессов для детей дошкольного возраста написано мн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казка проникает во все виды деятельности ребенка - дошкольника. Особым же вниманием сказка пользуется в художественно - речев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оспитание чистой речи у детей дошкольного возраста – задача большой общественной значимости, и её серьёзность должны осознавать и родители и педагог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рганизация специальных занятий по развитию речи в дошкольном учреждении будет более успешной в том случае, когда у большей части детей будет достаточно развито зрительно-слуховое сосредоточение на речи и не менее половины детей группы будут владеть активной реч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сновной принцип сказотерапии - духовное, целостное развитие личности ребёнка, забота о его душе (терапия в переводе с греческого означает “забота о душе”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етодом сказотерапии возможно решение следующих задач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снижение уровня тревожности и агрессивности у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витие умения преодолевать трудности и страх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выявление и поддержка творческих способ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формирование навыков конструктивного выражения эмо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- развитие способностей к эмоциональной регуляции и естественной коммуник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азки делятся на несколько групп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казки о животных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казки о взаимодействии людей и животных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казки-притч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бытовые сказ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олшебные сказки и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teremok-dobraya-russkaya-skazka-dlya-detej-prilozhenie-dnya-11"/>
          <p:cNvPicPr/>
          <p:nvPr/>
        </p:nvPicPr>
        <p:blipFill>
          <a:blip r:embed="rId1"/>
          <a:stretch/>
        </p:blipFill>
        <p:spPr>
          <a:xfrm>
            <a:off x="4643280" y="1700280"/>
            <a:ext cx="396252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У каждой группы сказок есть своя детская и взрослая аудитория. Детям 3-4 лет наиболее понятны и близки сказки о животных и сказки о взаимодействии людей и животных, В этом возрасте дети часто идентифицируют себя с животными, легко перевоплощаются в них, копируя их манеру пове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ем старше становится ребенок, тем с большим удовольствием он читает истории и сказки про людей, потому что в этих историях содержится рассказ о том, как человек познает М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казки для детей младшего возраста (3-4 года) просты, носят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цикличный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характер – многократное повторение сюжета с небольшими изменениями. Эта особенность народных сказок позволяет ребенку лучше запомнить её, побуждает интерес к слову. Сказки являются эффективным средством развития речи у детей младшего дошкольного возраста. Развивая речевое творчество, выразительность речи, индивидуальные способности, решаются следующие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1.    Развитие умения связно, последовательно и выразительно пересказывать небольшие литературные произве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2.    Обогащение словар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3.    Развитие умения воспринимать, понимать и эмоционально откликаться на ска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4.    Развитие представления об окружающем ми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5.    Воспитание интереса и любви к русскому народному творчеств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6.    Побуждение к использованию сказочных сюжетов в самостоятельной игровой и 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Восприятие сказки идет успешнее, если с детьми проводится  предварительная работа: рассматривание иллюстраций, беседа с объяснением незнакомых или малознакомых детям этого возраста слов и выражений, показ предметов или действий, которые они обозначают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Далее идёт непосредственное знакомство со сказкой, где важную роль играет речь рассказчика. Для ребёнка младшего возраста предпочтительно утрированное выразительное рассказывание, при котором голосом «рисуются» образы и картины происходящего. Чтобы помочь маленьким детям глубже воспринять произведение, после его рассказывания проводится  бесед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Ребенок 3-4 лет усваивает знания при многократном повторении. В тоже время он не любит однообразной деятельности, от которой быстро устаёт, поэтому при повторном рассказывании сказки использую: настольный и кукольный театр, фланелеграф, прослушивание аудиозаписе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9200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авершающим этапом формирования связной речи у дошкольников является умение рассказывать и одновременно показывать сказку. В этом помогает настольный театр, игры-инсценировки, игры-драматизац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           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Язык сказки ритмичен, слова зарифмованы, героям даны определения – это также позволяет ребенку обогатить свой словарь и лучше запомнить и понять содержание сказ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 развитием речи у ребенка развиваются мыслительные процессы. Включение сказки во все виды детской деятельности, использование традиционных и нетрадиционных методов и приёмов работы существенно влияют на всестороннее развитие речи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21:06:44Z</dcterms:created>
  <dc:creator>КСЮШКА-ВЕСНУШКА</dc:creator>
  <dc:description/>
  <dc:language>en-US</dc:language>
  <cp:lastModifiedBy>Андрей</cp:lastModifiedBy>
  <dcterms:modified xsi:type="dcterms:W3CDTF">2017-12-11T08:52:55Z</dcterms:modified>
  <cp:revision>7</cp:revision>
  <dc:subject/>
  <dc:title>Сказкотерапия –эффективное средство для развития речи детей младшего дошкольного возраста</dc:title>
</cp:coreProperties>
</file>