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4.png" ContentType="image/png"/>
  <Override PartName="/ppt/media/image16.wmf" ContentType="image/x-wmf"/>
  <Override PartName="/ppt/media/image11.jpeg" ContentType="image/jpeg"/>
  <Override PartName="/ppt/media/image9.jpeg" ContentType="image/jpeg"/>
  <Override PartName="/ppt/media/image3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892-D884-4F19-BDFC-27305591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9C8-5098-47E2-8D1B-0430FB65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7B99-2F4D-4333-B847-05437CE5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507-9DA0-4423-87D9-688F701D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8683-6A51-41EB-A6DC-A5E59D96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FBA8-C640-4521-A93D-3800EFA0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ACBF-4195-4A01-BCC3-0ADF2FE2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3D9F-376C-4F41-A9E5-8731AA5A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A9B6-5B3B-4061-9ACF-1038EB2A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0BE7-3AA4-44EA-AF68-D5BD35F2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C91E-5441-4B0A-A045-64AB9CCE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69C-FA09-49BF-BFA5-CFFBF5F4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FFD2-DEA8-41FB-9340-EB205186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B1C4-424D-489B-BC9A-3F2DC678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ECAE-4E9E-4627-8846-1F1958B2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74C8-4460-41A0-BF67-03505096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2EA8-2904-4766-B7F2-ACB3409E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222-A239-4836-9779-CBEA8A5E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0702-98C6-4D39-AF79-4A49AB9F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029-10E9-44F4-9FF7-9B6B00A0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355-BB99-4A03-A5EC-8E1C6724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0BE-D83A-46D1-A2AA-C975D7CD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71E-9234-4852-86DC-369039B1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9D2-B504-485B-BF21-C2B741C2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769F-0D6B-4D36-846B-6E4BF6C79F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B7EC-BF8A-42C0-B345-0D4B60D170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nergyresearch.ru/" TargetMode="External"/><Relationship Id="rId2" Type="http://schemas.openxmlformats.org/officeDocument/2006/relationships/hyperlink" Target="http://www.energyresearch.ru/" TargetMode="External"/><Relationship Id="rId3" Type="http://schemas.openxmlformats.org/officeDocument/2006/relationships/hyperlink" Target="http://www.energyresearch.ru/" TargetMode="External"/><Relationship Id="rId4" Type="http://schemas.openxmlformats.org/officeDocument/2006/relationships/hyperlink" Target="http://ru.wikipedia.org/wiki/" TargetMode="External"/><Relationship Id="rId5" Type="http://schemas.openxmlformats.org/officeDocument/2006/relationships/hyperlink" Target="http://ru.wikipedia.org/wiki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900igr.net/datas/ekologija/Problema-pererabotki/0010-010-Skhema-utilizatsii-pri-retsiklinge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19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8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5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bcbcb"/>
                </a:solidFill>
                <a:latin typeface="Arial"/>
              </a:rPr>
              <a:t>ГОСУДАРСТВЕННОЕ БЮДЖЕТНОЕ ОБРАЗОВАТЕЛЬНОЕ УЧРЕЖДЕНИЕ</a:t>
            </a:r>
            <a:br>
              <a:rPr sz="2400"/>
            </a:br>
            <a:r>
              <a:rPr b="1" lang="ru-RU" sz="2400" spc="-1" strike="noStrike">
                <a:solidFill>
                  <a:srgbClr val="cbcbcb"/>
                </a:solidFill>
                <a:latin typeface="Arial"/>
              </a:rPr>
              <a:t>ШКОЛА № 2026  УК 12</a:t>
            </a:r>
            <a:br>
              <a:rPr sz="2400"/>
            </a:br>
            <a:r>
              <a:rPr b="0" lang="ru-RU" sz="2400" spc="-1" strike="noStrike">
                <a:solidFill>
                  <a:srgbClr val="cbcbcb"/>
                </a:solidFill>
                <a:latin typeface="Arial"/>
              </a:rPr>
              <a:t>Восточного окружного управления образования </a:t>
            </a:r>
            <a:br>
              <a:rPr sz="2400"/>
            </a:br>
            <a:r>
              <a:rPr b="0" lang="ru-RU" sz="2400" spc="-1" strike="noStrike">
                <a:solidFill>
                  <a:srgbClr val="cbcbcb"/>
                </a:solidFill>
                <a:latin typeface="Arial"/>
              </a:rPr>
              <a:t>Департамента образования города Москвы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240" y="25146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АЯ ЖИЗНЬ СТАРЫХ ВЕЩ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Цветы из пластика и Кракелюр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И УЧАЩИЕСЯ ШКОЛЫ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рефьев Артём Дмитриевич 5 клас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ссарабова Анна Олеговна 5 клас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 РАБОТЫ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материальной технолог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ко Игорь Николаевич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сква 201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хнико-экономические показатели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algn="just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бестоимость изделия составляет не более  30 рублей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algn="just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ота технологии изготовления данных моделей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algn="just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ступность материалов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algn="just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осительно небольшие финансовые затраты на их изготовлени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это  позволяют сделать вывод об удачном выборе для осуществления проекта, что позволит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algn="just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тить объемы отходов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algn="just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тить потребление природных ресурсов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algn="just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изить  загрязнение окружающей среды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им из технико-экомическим показателем является большой интерес взрослых и детей на выставке НТТМ в Экспоцентре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стер класс на международных выставках в  ВДХ и Крокус Экспо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PICT0426"/>
          <p:cNvPicPr/>
          <p:nvPr/>
        </p:nvPicPr>
        <p:blipFill>
          <a:blip r:embed="rId1"/>
          <a:stretch/>
        </p:blipFill>
        <p:spPr>
          <a:xfrm>
            <a:off x="3657600" y="4724280"/>
            <a:ext cx="23367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циклинг отходов. Специализированный информационно-аналитический журнал. № 9., изд. ООО «Адреналин Ц». Санкт-Петербург. 2009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жерс К., Хауэлл Л., Смит А и др. Школьная энциклопедия. Естественные науки/ Пер. с англ. Лисецкой В.В., Блажко Ю.В и др. – М.: ООО «Издательство «Росмэн-Пресс», 2001.-448 с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Справочник школьника: 5-11 классы – М.: АСТ-ПРЕСС, 2000.-704 с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Энциклопедия для детей. Том 16. Физика. Ч.2. Электричество и магнетизм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: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//www.energyresearch.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http://ru.wikipedia.org/wiki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/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.http://nsportal.ru/protsko-igor-nikolaevich или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nsportal.ru/ap/library/khudozhestvenno-prikladnoe-tvorchestvo/2015/06/19/neobychnye-svetilniki-iz-obychny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ЦЕЛИ И ЗАДАЧИ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лью данного проекта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является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влечение внимания  окружающих к проблеме ресурсосбережения и практическое участие в их решении, раздельный сбор мусора, вторичное использование твердых бытовых отходов, улучшение экологической ситуации в городе Москв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сновные задачи проекта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основ экологической культуры (мировоззрения)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участие школьников в практическом решении  проблемы ресурсосбережения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повышение уровня конструкторско-дизайнерской деятельности школьников и их готовности к социальному и профессиональному самоопределению в сферах экологии, экономики и производства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1888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работы для учащихся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ть оригинальные изделия  (поделки) из подручных средств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чи  для учащихся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знать, что такое рециклинг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знать, как утилизируют ТБО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ть  потребительскую схему утилизации отходов в школ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ть собственные оригинальные изделия из бросового материала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ипотеза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волит ли вторичное использование ТБО в изготовлении привлекательных изделий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лучшить экологическую обстановку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низить объемы необработанных бытовых отходов, вывозимых на полигоны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сключить затраты, связанные с ликвидацией экологических последствий захоронения отходов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2880"/>
            <a:ext cx="767232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ан работы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560" y="375840"/>
            <a:ext cx="89139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информации о  рециклинге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бор материалов и инструментов для изготовления изделий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изготовление изделий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асчёт себестоимости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дготовка презентаци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-123840" y="1668600"/>
            <a:ext cx="906768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Этапы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работы над проектом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ктуальность проблемы поставленной темой проекта. Определение круга изучаемых вопросов. Оценка источников информации и методов ее сбора. Создание специализированных груп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амостоятельная работа по сбору, анализу и обобщению информации и бытовых отходов.  Консультации специалистов и преподавателей. Обсуждение и анализ результатов по сбору информации и бытовых отход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бсуждение вопросов оформления, подачи результатов и информации  при защите проекта. Обсуждение и изготовление изделий из обыденных материалов. Самостоятельная работа по изготовлению оригинальных дизайнерских изделий. Расчет себестоимости выполненных издел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ащита проекта.  Выступления представителей специализированных групп. Выставка готовых дизайнерских изделий. Подведение итогов по проект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9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руктура отчета о результатах проекта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презентация;- доклады;- выставка раб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95400" y="193320"/>
            <a:ext cx="2701800" cy="62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кладирование  отходов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8" name="Picture 114" descr=""/>
          <p:cNvPicPr/>
          <p:nvPr/>
        </p:nvPicPr>
        <p:blipFill>
          <a:blip r:embed="rId1"/>
          <a:stretch/>
        </p:blipFill>
        <p:spPr>
          <a:xfrm>
            <a:off x="5334120" y="50760"/>
            <a:ext cx="1401480" cy="1050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5" descr=""/>
          <p:cNvPicPr/>
          <p:nvPr/>
        </p:nvPicPr>
        <p:blipFill>
          <a:blip r:embed="rId2"/>
          <a:stretch/>
        </p:blipFill>
        <p:spPr>
          <a:xfrm>
            <a:off x="1447920" y="22320"/>
            <a:ext cx="1530360" cy="11476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5711760" y="1469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хоронение отход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4" descr=""/>
          <p:cNvPicPr/>
          <p:nvPr/>
        </p:nvPicPr>
        <p:blipFill>
          <a:blip r:embed="rId3"/>
          <a:stretch/>
        </p:blipFill>
        <p:spPr>
          <a:xfrm>
            <a:off x="4267080" y="1211400"/>
            <a:ext cx="1679760" cy="110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3" descr=""/>
          <p:cNvPicPr/>
          <p:nvPr/>
        </p:nvPicPr>
        <p:blipFill>
          <a:blip r:embed="rId4"/>
          <a:stretch/>
        </p:blipFill>
        <p:spPr>
          <a:xfrm>
            <a:off x="2362320" y="1220760"/>
            <a:ext cx="1784160" cy="1096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-214200" y="2335320"/>
            <a:ext cx="2220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жигание мусо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61" descr=""/>
          <p:cNvPicPr/>
          <p:nvPr/>
        </p:nvPicPr>
        <p:blipFill>
          <a:blip r:embed="rId5"/>
          <a:stretch/>
        </p:blipFill>
        <p:spPr>
          <a:xfrm>
            <a:off x="1641600" y="2446200"/>
            <a:ext cx="1357200" cy="120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0" descr=""/>
          <p:cNvPicPr/>
          <p:nvPr/>
        </p:nvPicPr>
        <p:blipFill>
          <a:blip r:embed="rId6"/>
          <a:stretch/>
        </p:blipFill>
        <p:spPr>
          <a:xfrm>
            <a:off x="3124080" y="2446200"/>
            <a:ext cx="1816200" cy="1190880"/>
          </a:xfrm>
          <a:prstGeom prst="rect">
            <a:avLst/>
          </a:prstGeom>
          <a:ln w="0">
            <a:noFill/>
          </a:ln>
        </p:spPr>
      </p:pic>
      <p:pic>
        <p:nvPicPr>
          <p:cNvPr id="106" name="Объект 3" descr=""/>
          <p:cNvPicPr/>
          <p:nvPr/>
        </p:nvPicPr>
        <p:blipFill>
          <a:blip r:embed="rId7"/>
          <a:stretch/>
        </p:blipFill>
        <p:spPr>
          <a:xfrm>
            <a:off x="260280" y="3560760"/>
            <a:ext cx="4114800" cy="3257640"/>
          </a:xfrm>
          <a:prstGeom prst="rect">
            <a:avLst/>
          </a:prstGeom>
          <a:ln w="0">
            <a:noFill/>
          </a:ln>
        </p:spPr>
      </p:pic>
      <p:grpSp>
        <p:nvGrpSpPr>
          <p:cNvPr id="107" name="Группа 1"/>
          <p:cNvGrpSpPr/>
          <p:nvPr/>
        </p:nvGrpSpPr>
        <p:grpSpPr>
          <a:xfrm>
            <a:off x="4675320" y="2887560"/>
            <a:ext cx="4120920" cy="3721320"/>
            <a:chOff x="4675320" y="2887560"/>
            <a:chExt cx="4120920" cy="3721320"/>
          </a:xfrm>
        </p:grpSpPr>
        <p:sp>
          <p:nvSpPr>
            <p:cNvPr id="108" name="Полилиния 3"/>
            <p:cNvSpPr/>
            <p:nvPr/>
          </p:nvSpPr>
          <p:spPr>
            <a:xfrm>
              <a:off x="6353280" y="3489120"/>
              <a:ext cx="946080" cy="55404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292599" h="419508">
                  <a:moveTo>
                    <a:pt x="292678" y="0"/>
                  </a:moveTo>
                  <a:lnTo>
                    <a:pt x="292678" y="419441"/>
                  </a:lnTo>
                  <a:lnTo>
                    <a:pt x="0" y="419441"/>
                  </a:lnTo>
                </a:path>
              </a:pathLst>
            </a:custGeom>
            <a:noFill/>
            <a:ln w="12600">
              <a:solidFill>
                <a:srgbClr val="00a2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Полилиния 4"/>
            <p:cNvSpPr/>
            <p:nvPr/>
          </p:nvSpPr>
          <p:spPr>
            <a:xfrm>
              <a:off x="7299360" y="3489120"/>
              <a:ext cx="441000" cy="31197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119760"/>
                <a:gd name="textAreaBottom" fmla="*/ 3120120 h 3119760"/>
              </a:gdLst>
              <a:ahLst/>
              <a:rect l="textAreaLeft" t="textAreaTop" r="textAreaRight" b="textAreaBottom"/>
              <a:pathLst>
                <a:path w="136481" h="2361984">
                  <a:moveTo>
                    <a:pt x="0" y="0"/>
                  </a:moveTo>
                  <a:lnTo>
                    <a:pt x="0" y="2361637"/>
                  </a:lnTo>
                  <a:lnTo>
                    <a:pt x="136774" y="2361637"/>
                  </a:lnTo>
                </a:path>
              </a:pathLst>
            </a:custGeom>
            <a:noFill/>
            <a:ln w="12600">
              <a:solidFill>
                <a:srgbClr val="00a2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Полилиния 5"/>
            <p:cNvSpPr/>
            <p:nvPr/>
          </p:nvSpPr>
          <p:spPr>
            <a:xfrm>
              <a:off x="7299360" y="3489120"/>
              <a:ext cx="441000" cy="226404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2264040"/>
                <a:gd name="textAreaBottom" fmla="*/ 2264400 h 2264040"/>
              </a:gdLst>
              <a:ahLst/>
              <a:rect l="textAreaLeft" t="textAreaTop" r="textAreaRight" b="textAreaBottom"/>
              <a:pathLst>
                <a:path w="136481" h="1714091">
                  <a:moveTo>
                    <a:pt x="0" y="0"/>
                  </a:moveTo>
                  <a:lnTo>
                    <a:pt x="0" y="1714238"/>
                  </a:lnTo>
                  <a:lnTo>
                    <a:pt x="136774" y="1714238"/>
                  </a:lnTo>
                </a:path>
              </a:pathLst>
            </a:custGeom>
            <a:noFill/>
            <a:ln w="12600">
              <a:solidFill>
                <a:srgbClr val="00a2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Полилиния 7"/>
            <p:cNvSpPr/>
            <p:nvPr/>
          </p:nvSpPr>
          <p:spPr>
            <a:xfrm>
              <a:off x="7299360" y="3489120"/>
              <a:ext cx="441000" cy="14097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409760"/>
                <a:gd name="textAreaBottom" fmla="*/ 1410120 h 1409760"/>
              </a:gdLst>
              <a:ahLst/>
              <a:rect l="textAreaLeft" t="textAreaTop" r="textAreaRight" b="textAreaBottom"/>
              <a:pathLst>
                <a:path w="136481" h="1067400">
                  <a:moveTo>
                    <a:pt x="0" y="0"/>
                  </a:moveTo>
                  <a:lnTo>
                    <a:pt x="0" y="1066839"/>
                  </a:lnTo>
                  <a:lnTo>
                    <a:pt x="136774" y="1066839"/>
                  </a:lnTo>
                </a:path>
              </a:pathLst>
            </a:custGeom>
            <a:noFill/>
            <a:ln w="12600">
              <a:solidFill>
                <a:srgbClr val="00a2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Полилиния 8"/>
            <p:cNvSpPr/>
            <p:nvPr/>
          </p:nvSpPr>
          <p:spPr>
            <a:xfrm>
              <a:off x="5824440" y="2887560"/>
              <a:ext cx="2948040" cy="60156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Образование ТБО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Полилиния 10"/>
            <p:cNvSpPr/>
            <p:nvPr/>
          </p:nvSpPr>
          <p:spPr>
            <a:xfrm>
              <a:off x="7429680" y="3840120"/>
              <a:ext cx="1366560" cy="7524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В условиях жиль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Полилиния 11"/>
            <p:cNvSpPr/>
            <p:nvPr/>
          </p:nvSpPr>
          <p:spPr>
            <a:xfrm>
              <a:off x="7485120" y="4697280"/>
              <a:ext cx="1311120" cy="75564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учреждениях и подразделениях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зличного профиля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Полилиния 12"/>
            <p:cNvSpPr/>
            <p:nvPr/>
          </p:nvSpPr>
          <p:spPr>
            <a:xfrm>
              <a:off x="7421760" y="5607360"/>
              <a:ext cx="1350720" cy="69372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В пунктах общественного питан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Полилиния 13"/>
            <p:cNvSpPr/>
            <p:nvPr/>
          </p:nvSpPr>
          <p:spPr>
            <a:xfrm>
              <a:off x="4675320" y="3855960"/>
              <a:ext cx="1828800" cy="806400"/>
            </a:xfrm>
            <a:prstGeom prst="pie">
              <a:avLst/>
            </a:prstGeom>
            <a:solidFill>
              <a:srgbClr val="00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" rIns="324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Улицы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общественный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транспорт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06320" y="4344840"/>
            <a:ext cx="2667240" cy="1822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циклинг отходов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9" name="i-main-pic" descr="Картинка 8 из 3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033640"/>
            <a:ext cx="2862360" cy="21445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533520" y="5479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ологический процесс их переработки, в результате которого из отходов извлекаются все материалы (бумага, пластик, металлы, электронные отходы, аккумуляторы и т.д.), которые могут быть повторно использованы в производств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Прямоугольник 1"/>
          <p:cNvSpPr/>
          <p:nvPr/>
        </p:nvSpPr>
        <p:spPr>
          <a:xfrm>
            <a:off x="4419720" y="21826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ОТРЕБИТЕЛЬСКАЯ СХЕМА УТИЛИЗАЦИИ ОТХОДОВ В ШКОЛ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Рисунок 2" descr=""/>
          <p:cNvPicPr/>
          <p:nvPr/>
        </p:nvPicPr>
        <p:blipFill>
          <a:blip r:embed="rId4"/>
          <a:stretch/>
        </p:blipFill>
        <p:spPr>
          <a:xfrm>
            <a:off x="5105520" y="2895480"/>
            <a:ext cx="2952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F:\экология\фото ресурсосбережение\P1060593.JPG"/>
          <p:cNvPicPr/>
          <p:nvPr/>
        </p:nvPicPr>
        <p:blipFill>
          <a:blip r:embed="rId1"/>
          <a:stretch/>
        </p:blipFill>
        <p:spPr>
          <a:xfrm>
            <a:off x="1827360" y="685800"/>
            <a:ext cx="992160" cy="1265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F:\экология\фото ресурсосбережение\P1060597.JPG"/>
          <p:cNvPicPr/>
          <p:nvPr/>
        </p:nvPicPr>
        <p:blipFill>
          <a:blip r:embed="rId2"/>
          <a:stretch/>
        </p:blipFill>
        <p:spPr>
          <a:xfrm>
            <a:off x="5613480" y="739800"/>
            <a:ext cx="1854000" cy="1339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F:\экология\ресурсосбережение\P1060608.JPG"/>
          <p:cNvPicPr/>
          <p:nvPr/>
        </p:nvPicPr>
        <p:blipFill>
          <a:blip r:embed="rId3"/>
          <a:stretch/>
        </p:blipFill>
        <p:spPr>
          <a:xfrm>
            <a:off x="3581280" y="6858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255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ДЕЛЬНЫЙ СБОР И СОРТИРОВКА ТБО В ШКОЛЕ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2743200" y="1952640"/>
            <a:ext cx="3959280" cy="468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0" y="2427120"/>
            <a:ext cx="8940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РАЗДЕЛЬНОГО СБО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ВЕРДЫХ БЫТОВЫХ ОТХОДОВ В ШКОЛ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Рисунок 1" descr=""/>
          <p:cNvPicPr/>
          <p:nvPr/>
        </p:nvPicPr>
        <p:blipFill>
          <a:blip r:embed="rId5"/>
          <a:stretch/>
        </p:blipFill>
        <p:spPr>
          <a:xfrm>
            <a:off x="457200" y="3187800"/>
            <a:ext cx="8483760" cy="11556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" descr=""/>
          <p:cNvPicPr/>
          <p:nvPr/>
        </p:nvPicPr>
        <p:blipFill>
          <a:blip r:embed="rId6"/>
          <a:stretch/>
        </p:blipFill>
        <p:spPr>
          <a:xfrm>
            <a:off x="3016080" y="4241880"/>
            <a:ext cx="40262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78040" y="1922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ппликация из пластика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609120"/>
            <a:ext cx="358128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уемые материалы и инструменты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Рисунок 3" descr=""/>
          <p:cNvPicPr/>
          <p:nvPr/>
        </p:nvPicPr>
        <p:blipFill>
          <a:blip r:embed="rId1"/>
          <a:stretch/>
        </p:blipFill>
        <p:spPr>
          <a:xfrm>
            <a:off x="4181400" y="798480"/>
            <a:ext cx="170820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"/>
          <p:cNvPicPr/>
          <p:nvPr/>
        </p:nvPicPr>
        <p:blipFill>
          <a:blip r:embed="rId2"/>
          <a:stretch/>
        </p:blipFill>
        <p:spPr>
          <a:xfrm>
            <a:off x="2752560" y="4219560"/>
            <a:ext cx="1847880" cy="6462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"/>
          <p:cNvPicPr/>
          <p:nvPr/>
        </p:nvPicPr>
        <p:blipFill>
          <a:blip r:embed="rId3"/>
          <a:stretch/>
        </p:blipFill>
        <p:spPr>
          <a:xfrm>
            <a:off x="6510240" y="2712960"/>
            <a:ext cx="249732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"/>
          <p:cNvPicPr/>
          <p:nvPr/>
        </p:nvPicPr>
        <p:blipFill>
          <a:blip r:embed="rId4"/>
          <a:stretch/>
        </p:blipFill>
        <p:spPr>
          <a:xfrm>
            <a:off x="272880" y="3220920"/>
            <a:ext cx="1209960" cy="10224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"/>
          <p:cNvPicPr/>
          <p:nvPr/>
        </p:nvPicPr>
        <p:blipFill>
          <a:blip r:embed="rId5"/>
          <a:stretch/>
        </p:blipFill>
        <p:spPr>
          <a:xfrm>
            <a:off x="1795320" y="3154320"/>
            <a:ext cx="1162080" cy="11098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"/>
          <p:cNvPicPr/>
          <p:nvPr/>
        </p:nvPicPr>
        <p:blipFill>
          <a:blip r:embed="rId6"/>
          <a:stretch/>
        </p:blipFill>
        <p:spPr>
          <a:xfrm>
            <a:off x="3443400" y="3133800"/>
            <a:ext cx="1019160" cy="11095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"/>
          <p:cNvPicPr/>
          <p:nvPr/>
        </p:nvPicPr>
        <p:blipFill>
          <a:blip r:embed="rId7"/>
          <a:stretch/>
        </p:blipFill>
        <p:spPr>
          <a:xfrm>
            <a:off x="4978440" y="2981160"/>
            <a:ext cx="1289160" cy="1214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9" descr=""/>
          <p:cNvPicPr/>
          <p:nvPr/>
        </p:nvPicPr>
        <p:blipFill>
          <a:blip r:embed="rId8"/>
          <a:stretch/>
        </p:blipFill>
        <p:spPr>
          <a:xfrm>
            <a:off x="38160" y="5116680"/>
            <a:ext cx="1352520" cy="10666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0" descr=""/>
          <p:cNvPicPr/>
          <p:nvPr/>
        </p:nvPicPr>
        <p:blipFill>
          <a:blip r:embed="rId9"/>
          <a:stretch/>
        </p:blipFill>
        <p:spPr>
          <a:xfrm>
            <a:off x="1746360" y="5116680"/>
            <a:ext cx="1241280" cy="1063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1" descr=""/>
          <p:cNvPicPr/>
          <p:nvPr/>
        </p:nvPicPr>
        <p:blipFill>
          <a:blip r:embed="rId10"/>
          <a:stretch/>
        </p:blipFill>
        <p:spPr>
          <a:xfrm>
            <a:off x="3298680" y="5013360"/>
            <a:ext cx="1405080" cy="11318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2" descr=""/>
          <p:cNvPicPr/>
          <p:nvPr/>
        </p:nvPicPr>
        <p:blipFill>
          <a:blip r:embed="rId11"/>
          <a:stretch/>
        </p:blipFill>
        <p:spPr>
          <a:xfrm>
            <a:off x="4916520" y="5029200"/>
            <a:ext cx="1434960" cy="11509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"/>
          <p:cNvPicPr/>
          <p:nvPr/>
        </p:nvPicPr>
        <p:blipFill>
          <a:blip r:embed="rId12"/>
          <a:stretch/>
        </p:blipFill>
        <p:spPr>
          <a:xfrm>
            <a:off x="6508800" y="2712960"/>
            <a:ext cx="2496960" cy="36576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"/>
          <p:cNvPicPr/>
          <p:nvPr/>
        </p:nvPicPr>
        <p:blipFill>
          <a:blip r:embed="rId13"/>
          <a:stretch/>
        </p:blipFill>
        <p:spPr>
          <a:xfrm>
            <a:off x="6508800" y="2712960"/>
            <a:ext cx="249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анно в стиле «Кракелюр»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6320" y="6094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уемые материалы и инструменты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1"/>
          <a:stretch/>
        </p:blipFill>
        <p:spPr>
          <a:xfrm>
            <a:off x="871560" y="1268280"/>
            <a:ext cx="2106720" cy="15638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" descr=""/>
          <p:cNvPicPr/>
          <p:nvPr/>
        </p:nvPicPr>
        <p:blipFill>
          <a:blip r:embed="rId2"/>
          <a:stretch/>
        </p:blipFill>
        <p:spPr>
          <a:xfrm>
            <a:off x="5334120" y="619200"/>
            <a:ext cx="3473280" cy="37400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" descr=""/>
          <p:cNvPicPr/>
          <p:nvPr/>
        </p:nvPicPr>
        <p:blipFill>
          <a:blip r:embed="rId3"/>
          <a:stretch/>
        </p:blipFill>
        <p:spPr>
          <a:xfrm>
            <a:off x="2514600" y="2840040"/>
            <a:ext cx="184788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3" descr=""/>
          <p:cNvPicPr/>
          <p:nvPr/>
        </p:nvPicPr>
        <p:blipFill>
          <a:blip r:embed="rId4"/>
          <a:stretch/>
        </p:blipFill>
        <p:spPr>
          <a:xfrm>
            <a:off x="466560" y="3352680"/>
            <a:ext cx="1143000" cy="8654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"/>
          <p:cNvPicPr/>
          <p:nvPr/>
        </p:nvPicPr>
        <p:blipFill>
          <a:blip r:embed="rId5"/>
          <a:stretch/>
        </p:blipFill>
        <p:spPr>
          <a:xfrm>
            <a:off x="2095560" y="3352680"/>
            <a:ext cx="1266840" cy="9860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"/>
          <p:cNvPicPr/>
          <p:nvPr/>
        </p:nvPicPr>
        <p:blipFill>
          <a:blip r:embed="rId6"/>
          <a:stretch/>
        </p:blipFill>
        <p:spPr>
          <a:xfrm>
            <a:off x="3784680" y="3343320"/>
            <a:ext cx="1176120" cy="9604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6" descr=""/>
          <p:cNvPicPr/>
          <p:nvPr/>
        </p:nvPicPr>
        <p:blipFill>
          <a:blip r:embed="rId7"/>
          <a:stretch/>
        </p:blipFill>
        <p:spPr>
          <a:xfrm>
            <a:off x="533520" y="4624560"/>
            <a:ext cx="1650960" cy="8334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"/>
          <p:cNvPicPr/>
          <p:nvPr/>
        </p:nvPicPr>
        <p:blipFill>
          <a:blip r:embed="rId8"/>
          <a:stretch/>
        </p:blipFill>
        <p:spPr>
          <a:xfrm>
            <a:off x="2655720" y="4624560"/>
            <a:ext cx="1128960" cy="7920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"/>
          <p:cNvPicPr/>
          <p:nvPr/>
        </p:nvPicPr>
        <p:blipFill>
          <a:blip r:embed="rId9"/>
          <a:stretch/>
        </p:blipFill>
        <p:spPr>
          <a:xfrm>
            <a:off x="4255920" y="4605480"/>
            <a:ext cx="1312920" cy="8524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9" descr=""/>
          <p:cNvPicPr/>
          <p:nvPr/>
        </p:nvPicPr>
        <p:blipFill>
          <a:blip r:embed="rId10"/>
          <a:stretch/>
        </p:blipFill>
        <p:spPr>
          <a:xfrm>
            <a:off x="6172200" y="4503600"/>
            <a:ext cx="1201680" cy="9702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0" descr=""/>
          <p:cNvPicPr/>
          <p:nvPr/>
        </p:nvPicPr>
        <p:blipFill>
          <a:blip r:embed="rId11"/>
          <a:stretch/>
        </p:blipFill>
        <p:spPr>
          <a:xfrm>
            <a:off x="2095560" y="5562720"/>
            <a:ext cx="1185840" cy="12952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1" descr=""/>
          <p:cNvPicPr/>
          <p:nvPr/>
        </p:nvPicPr>
        <p:blipFill>
          <a:blip r:embed="rId12"/>
          <a:stretch/>
        </p:blipFill>
        <p:spPr>
          <a:xfrm>
            <a:off x="5006880" y="5618160"/>
            <a:ext cx="1490760" cy="1119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8" descr=""/>
          <p:cNvPicPr/>
          <p:nvPr/>
        </p:nvPicPr>
        <p:blipFill>
          <a:blip r:embed="rId13"/>
          <a:stretch/>
        </p:blipFill>
        <p:spPr>
          <a:xfrm>
            <a:off x="4255920" y="4614840"/>
            <a:ext cx="131292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Дом</cp:lastModifiedBy>
  <dcterms:modified xsi:type="dcterms:W3CDTF">2018-02-04T11:08:24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